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CD5-CE1D-42F1-B166-148FBB8C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D9C-8461-4D87-8A39-14D1AE29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A55-FF29-496F-8429-26A05A17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E7B-89F0-4F52-9630-346F4609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864-A26B-400E-B99F-656F4932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1B6-8FAF-450E-9E88-93323A75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402-4C1F-42EF-AF51-4925100F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A2C-25A7-4DC5-9C31-F3E2E552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BF0-A16E-4BC4-8F50-5F039E76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3EA-6BA3-48E6-B884-15FCE6DB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0CD-0BB7-44BD-A6CA-9EFD9A35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85D-605E-45EC-9549-82E6533A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B9EA-D773-492F-B4B7-12D11D4C0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8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ffff"/>
                </a:solidFill>
                <a:latin typeface="comic"/>
              </a:rPr>
              <a:t>Гончаров Иван Александрович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36545"/>
          <p:cNvPicPr/>
          <p:nvPr/>
        </p:nvPicPr>
        <p:blipFill>
          <a:blip r:embed="rId1"/>
          <a:stretch/>
        </p:blipFill>
        <p:spPr>
          <a:xfrm>
            <a:off x="395280" y="1052640"/>
            <a:ext cx="4043520" cy="482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879800" y="3933720"/>
            <a:ext cx="42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полнила: ученица 10 класса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лётовской средн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ятых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907920"/>
            <a:ext cx="5003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нчаров Иван Александрович – знаменитый писатель, родился 6 июня 1812 года в в Симбирске в состоятельной купеческой семье. Отец Гончарова -  Александр Иванович, много раз выбирался городской головой, вел хлебную торговлю. Скончался, когда Гончарову было 7 лет. Воспитанием занималась мать, Авдотья Матвеев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imgB"/>
          <p:cNvPicPr/>
          <p:nvPr/>
        </p:nvPicPr>
        <p:blipFill>
          <a:blip r:embed="rId1"/>
          <a:stretch/>
        </p:blipFill>
        <p:spPr>
          <a:xfrm>
            <a:off x="5049720" y="692280"/>
            <a:ext cx="4094280" cy="5516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95280" y="845280"/>
            <a:ext cx="396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енью 1831 года, Иван Александрович поступил на словесный факультет Московского университета. По окончании университета с лета 1834 до весны 1835 пробыл в Симбирске, где служил в канцелярии губернатора, затем переехал в Петерб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1031-028"/>
          <p:cNvPicPr/>
          <p:nvPr/>
        </p:nvPicPr>
        <p:blipFill>
          <a:blip r:embed="rId1"/>
          <a:stretch/>
        </p:blipFill>
        <p:spPr>
          <a:xfrm>
            <a:off x="5003640" y="765000"/>
            <a:ext cx="3598920" cy="5278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223560"/>
            <a:ext cx="5011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енью 1852 года, Иван Александрович отправился в путешествие к берегам Японии на русском военном корабле «Паллада» в качестве секретаря начальника экспедиции. За два с половиной года побывал в Англии, Южной Африке, Малайе, Китае, Японии. Впечатления от путешествия составили два тома очерков, изданных под названием «Фрегат Паллада» (185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ankt-peterburg-van_goncharov_fregat-pallada__1879_g__izd__30144"/>
          <p:cNvPicPr/>
          <p:nvPr/>
        </p:nvPicPr>
        <p:blipFill>
          <a:blip r:embed="rId1"/>
          <a:stretch/>
        </p:blipFill>
        <p:spPr>
          <a:xfrm>
            <a:off x="5364000" y="692280"/>
            <a:ext cx="3780000" cy="4883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95280" y="5104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1859 году,  появился второй роман Гончарова — «Обломов», вершина творчества писателя, ставший предметом активного внимания критики. В 1860, когда вновь стали усиливаться цензурные гонения на литературу, Гончаров подает в отста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large_efc960309683ffdae676e25a47252de1"/>
          <p:cNvPicPr/>
          <p:nvPr/>
        </p:nvPicPr>
        <p:blipFill>
          <a:blip r:embed="rId1"/>
          <a:stretch/>
        </p:blipFill>
        <p:spPr>
          <a:xfrm>
            <a:off x="6804000" y="3429000"/>
            <a:ext cx="2340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1_90112235002913"/>
          <p:cNvPicPr/>
          <p:nvPr/>
        </p:nvPicPr>
        <p:blipFill>
          <a:blip r:embed="rId2"/>
          <a:stretch/>
        </p:blipFill>
        <p:spPr>
          <a:xfrm>
            <a:off x="0" y="3500280"/>
            <a:ext cx="2303640" cy="3357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16812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ретий роман Гончарова «Обрыв» (1849 — 1868) явился плодом двадцатилетне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1010514"/>
          <p:cNvPicPr/>
          <p:nvPr/>
        </p:nvPicPr>
        <p:blipFill>
          <a:blip r:embed="rId1"/>
          <a:stretch/>
        </p:blipFill>
        <p:spPr>
          <a:xfrm rot="21169800">
            <a:off x="2789280" y="933120"/>
            <a:ext cx="3181320" cy="5133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 rot="21181800">
            <a:off x="306000" y="1168200"/>
            <a:ext cx="3419640" cy="525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 rot="20929200">
            <a:off x="5811840" y="560160"/>
            <a:ext cx="2857320" cy="5181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5281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ледние годы жизни провел почти в полном уединении, больной, одинокий. 15 сентября 1891 года, Гончаров скончался и был похоронен в Петербур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2843280" y="2924280"/>
            <a:ext cx="2755800" cy="39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goncharov1"/>
          <p:cNvPicPr/>
          <p:nvPr/>
        </p:nvPicPr>
        <p:blipFill>
          <a:blip r:embed="rId2"/>
          <a:stretch/>
        </p:blipFill>
        <p:spPr>
          <a:xfrm>
            <a:off x="0" y="2924280"/>
            <a:ext cx="295128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3"/>
          <a:stretch/>
        </p:blipFill>
        <p:spPr>
          <a:xfrm>
            <a:off x="5580000" y="2924280"/>
            <a:ext cx="3564000" cy="3933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9:40:30Z</dcterms:created>
  <dc:creator>User</dc:creator>
  <dc:description/>
  <dc:language>en-US</dc:language>
  <cp:lastModifiedBy>Admin</cp:lastModifiedBy>
  <dcterms:modified xsi:type="dcterms:W3CDTF">2011-09-29T05:20:05Z</dcterms:modified>
  <cp:revision>5</cp:revision>
  <dc:subject/>
  <dc:title>Слайд 1</dc:title>
</cp:coreProperties>
</file>