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426-D532-4A8B-A127-11F1AFB4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2C2E-F414-4287-8CC7-D608FD36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95F8-A2AE-41EE-BFE3-41DEDF09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93B9-8537-4288-8958-68DCB541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5D83-0742-4097-882B-FB925480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DAF-C3CF-47DC-88A2-6F9DFE81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7C86-C9F6-420B-BA5D-644D02FE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DE3D-DA24-4D7E-9754-F139E690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B02-226E-46DC-9B83-45C0ABB1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ADD-542A-4C61-AC6C-9DA87264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76B-E646-4E6F-9A6A-19E9AA00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1E8-9C12-4491-841F-9D87362D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F9A8-8A81-455C-9F05-47B8FD5787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820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ffffff"/>
                </a:solidFill>
                <a:latin typeface="comic"/>
              </a:rPr>
              <a:t>Гончаров Иван Александрович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36545"/>
          <p:cNvPicPr/>
          <p:nvPr/>
        </p:nvPicPr>
        <p:blipFill>
          <a:blip r:embed="rId1"/>
          <a:stretch/>
        </p:blipFill>
        <p:spPr>
          <a:xfrm>
            <a:off x="395280" y="1052640"/>
            <a:ext cx="4043520" cy="4824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879800" y="3933720"/>
            <a:ext cx="426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ыполнила: ученица 10 класса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лётовской средн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ятых К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907920"/>
            <a:ext cx="5003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нчаров Иван Александрович – знаменитый писатель, родился 6 июня 1812 года в в Симбирске в состоятельной купеческой семье. Отец Гончарова -  Александр Иванович, много раз выбирался городской головой, вел хлебную торговлю. Скончался, когда Гончарову было 7 лет. Воспитанием занималась мать, Авдотья Матвеев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imgB"/>
          <p:cNvPicPr/>
          <p:nvPr/>
        </p:nvPicPr>
        <p:blipFill>
          <a:blip r:embed="rId1"/>
          <a:stretch/>
        </p:blipFill>
        <p:spPr>
          <a:xfrm>
            <a:off x="5049720" y="692280"/>
            <a:ext cx="4094280" cy="55162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395280" y="845280"/>
            <a:ext cx="396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енью 1831 года, Иван Александрович поступил на словесный факультет Московского университета. По окончании университета с лета 1834 до весны 1835 пробыл в Симбирске, где служил в канцелярии губернатора, затем переехал в Петербур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1031-028"/>
          <p:cNvPicPr/>
          <p:nvPr/>
        </p:nvPicPr>
        <p:blipFill>
          <a:blip r:embed="rId1"/>
          <a:stretch/>
        </p:blipFill>
        <p:spPr>
          <a:xfrm>
            <a:off x="5003640" y="765000"/>
            <a:ext cx="3598920" cy="52786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strips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223560"/>
            <a:ext cx="5011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енью 1852 года, Иван Александрович отправился в путешествие к берегам Японии на русском военном корабле «Паллада» в качестве секретаря начальника экспедиции. За два с половиной года побывал в Англии, Южной Африке, Малайе, Китае, Японии. Впечатления от путешествия составили два тома очерков, изданных под названием «Фрегат Паллада» (185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sankt-peterburg-van_goncharov_fregat-pallada__1879_g__izd__30144"/>
          <p:cNvPicPr/>
          <p:nvPr/>
        </p:nvPicPr>
        <p:blipFill>
          <a:blip r:embed="rId1"/>
          <a:stretch/>
        </p:blipFill>
        <p:spPr>
          <a:xfrm>
            <a:off x="5364000" y="692280"/>
            <a:ext cx="3780000" cy="4883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strips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95280" y="5104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1859 году,  появился второй роман Гончарова — «Обломов», вершина творчества писателя, ставший предметом активного внимания критики. В 1860, когда вновь стали усиливаться цензурные гонения на литературу, Гончаров подает в отста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large_efc960309683ffdae676e25a47252de1"/>
          <p:cNvPicPr/>
          <p:nvPr/>
        </p:nvPicPr>
        <p:blipFill>
          <a:blip r:embed="rId1"/>
          <a:stretch/>
        </p:blipFill>
        <p:spPr>
          <a:xfrm>
            <a:off x="6804000" y="3429000"/>
            <a:ext cx="2340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p1_90112235002913"/>
          <p:cNvPicPr/>
          <p:nvPr/>
        </p:nvPicPr>
        <p:blipFill>
          <a:blip r:embed="rId2"/>
          <a:stretch/>
        </p:blipFill>
        <p:spPr>
          <a:xfrm>
            <a:off x="0" y="3500280"/>
            <a:ext cx="2303640" cy="33577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16812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ретий роман Гончарова «Обрыв» (1849 — 1868) явился плодом двадцатилетне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1010514"/>
          <p:cNvPicPr/>
          <p:nvPr/>
        </p:nvPicPr>
        <p:blipFill>
          <a:blip r:embed="rId1"/>
          <a:stretch/>
        </p:blipFill>
        <p:spPr>
          <a:xfrm rot="21169800">
            <a:off x="2789280" y="933120"/>
            <a:ext cx="3181320" cy="5133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 rot="21181800">
            <a:off x="306000" y="1168200"/>
            <a:ext cx="3419640" cy="525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 rot="20929200">
            <a:off x="5811840" y="560160"/>
            <a:ext cx="2857320" cy="51814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strips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5281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следние годы жизни провел почти в полном уединении, больной, одинокий. 15 сентября 1891 года, Гончаров скончался и был похоронен в Петербур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2843280" y="2924280"/>
            <a:ext cx="2755800" cy="39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goncharov1"/>
          <p:cNvPicPr/>
          <p:nvPr/>
        </p:nvPicPr>
        <p:blipFill>
          <a:blip r:embed="rId2"/>
          <a:stretch/>
        </p:blipFill>
        <p:spPr>
          <a:xfrm>
            <a:off x="0" y="2924280"/>
            <a:ext cx="2951280" cy="393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3"/>
          <a:stretch/>
        </p:blipFill>
        <p:spPr>
          <a:xfrm>
            <a:off x="5580000" y="2924280"/>
            <a:ext cx="3564000" cy="39337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9:40:30Z</dcterms:created>
  <dc:creator>User</dc:creator>
  <dc:description/>
  <dc:language>en-US</dc:language>
  <cp:lastModifiedBy>Admin</cp:lastModifiedBy>
  <dcterms:modified xsi:type="dcterms:W3CDTF">2011-09-29T05:20:05Z</dcterms:modified>
  <cp:revision>5</cp:revision>
  <dc:subject/>
  <dc:title>Слайд 1</dc:title>
</cp:coreProperties>
</file>