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BE9-4D3F-4193-990A-61CD5242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FF0-DC04-4AB8-9626-C1B1F8BC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0FA3-A180-4776-B077-B5290008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18F-6812-40D1-A9BC-4940BD43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57C-B8C3-49E9-9908-2C6A54CE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B01-AF0A-4AD6-A95C-518F91AA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9810-777F-4631-845F-752BB4E4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B9A-2E27-4084-B686-21910896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DED-697C-4945-BBC9-1AF71768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0ED-D21F-4E6A-A3FC-2776950D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10F-9780-4AF6-AFFE-88C88C53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370C-CD1A-4100-88AF-8BA53F20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74E1-E20C-4A33-BFDF-D4A9FFFB1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4000" y="259920"/>
            <a:ext cx="88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ffffff"/>
                </a:solidFill>
                <a:latin typeface="comic"/>
              </a:rPr>
              <a:t>Гончаров Иван Александрович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36545"/>
          <p:cNvPicPr/>
          <p:nvPr/>
        </p:nvPicPr>
        <p:blipFill>
          <a:blip r:embed="rId1"/>
          <a:stretch/>
        </p:blipFill>
        <p:spPr>
          <a:xfrm>
            <a:off x="395280" y="1052640"/>
            <a:ext cx="4043520" cy="482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879800" y="3933720"/>
            <a:ext cx="42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ыполнила: ученица 10 класса «Б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лётовской средн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ятых Кс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907920"/>
            <a:ext cx="5003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нчаров Иван Александрович – знаменитый писатель, родился 6 июня 1812 года в в Симбирске в состоятельной купеческой семье. Отец Гончарова -  Александр Иванович, много раз выбирался городской головой, вел хлебную торговлю. Скончался, когда Гончарову было 7 лет. Воспитанием занималась мать, Авдотья Матвеев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imgB"/>
          <p:cNvPicPr/>
          <p:nvPr/>
        </p:nvPicPr>
        <p:blipFill>
          <a:blip r:embed="rId1"/>
          <a:stretch/>
        </p:blipFill>
        <p:spPr>
          <a:xfrm>
            <a:off x="5049720" y="692280"/>
            <a:ext cx="4094280" cy="55162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395280" y="845280"/>
            <a:ext cx="396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енью 1831 года, Иван Александрович поступил на словесный факультет Московского университета. По окончании университета с лета 1834 до весны 1835 пробыл в Симбирске, где служил в канцелярии губернатора, затем переехал в Петербур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1031-028"/>
          <p:cNvPicPr/>
          <p:nvPr/>
        </p:nvPicPr>
        <p:blipFill>
          <a:blip r:embed="rId1"/>
          <a:stretch/>
        </p:blipFill>
        <p:spPr>
          <a:xfrm>
            <a:off x="5003640" y="765000"/>
            <a:ext cx="3598920" cy="52786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223560"/>
            <a:ext cx="5011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енью 1852 года, Иван Александрович отправился в путешествие к берегам Японии на русском военном корабле «Паллада» в качестве секретаря начальника экспедиции. За два с половиной года побывал в Англии, Южной Африке, Малайе, Китае, Японии. Впечатления от путешествия составили два тома очерков, изданных под названием «Фрегат Паллада» (185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ankt-peterburg-van_goncharov_fregat-pallada__1879_g__izd__30144"/>
          <p:cNvPicPr/>
          <p:nvPr/>
        </p:nvPicPr>
        <p:blipFill>
          <a:blip r:embed="rId1"/>
          <a:stretch/>
        </p:blipFill>
        <p:spPr>
          <a:xfrm>
            <a:off x="5364000" y="692280"/>
            <a:ext cx="3780000" cy="4883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95280" y="51048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 1859 году,  появился второй роман Гончарова — «Обломов», вершина творчества писателя, ставший предметом активного внимания критики. В 1860, когда вновь стали усиливаться цензурные гонения на литературу, Гончаров подает в отста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large_efc960309683ffdae676e25a47252de1"/>
          <p:cNvPicPr/>
          <p:nvPr/>
        </p:nvPicPr>
        <p:blipFill>
          <a:blip r:embed="rId1"/>
          <a:stretch/>
        </p:blipFill>
        <p:spPr>
          <a:xfrm>
            <a:off x="6804000" y="3429000"/>
            <a:ext cx="23400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1_90112235002913"/>
          <p:cNvPicPr/>
          <p:nvPr/>
        </p:nvPicPr>
        <p:blipFill>
          <a:blip r:embed="rId2"/>
          <a:stretch/>
        </p:blipFill>
        <p:spPr>
          <a:xfrm>
            <a:off x="0" y="3500280"/>
            <a:ext cx="2303640" cy="3357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16812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ретий роман Гончарова «Обрыв» (1849 — 1868) явился плодом двадцатилетне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1010514"/>
          <p:cNvPicPr/>
          <p:nvPr/>
        </p:nvPicPr>
        <p:blipFill>
          <a:blip r:embed="rId1"/>
          <a:stretch/>
        </p:blipFill>
        <p:spPr>
          <a:xfrm rot="21169800">
            <a:off x="2789280" y="933120"/>
            <a:ext cx="3181320" cy="5133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 rot="21181800">
            <a:off x="306000" y="1168200"/>
            <a:ext cx="3419640" cy="525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 rot="20929200">
            <a:off x="5811840" y="560160"/>
            <a:ext cx="2857320" cy="5181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5281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оследние годы жизни провел почти в полном уединении, больной, одинокий. 15 сентября 1891 года, Гончаров скончался и был похоронен в Петербур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2843280" y="2924280"/>
            <a:ext cx="2755800" cy="39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goncharov1"/>
          <p:cNvPicPr/>
          <p:nvPr/>
        </p:nvPicPr>
        <p:blipFill>
          <a:blip r:embed="rId2"/>
          <a:stretch/>
        </p:blipFill>
        <p:spPr>
          <a:xfrm>
            <a:off x="0" y="2924280"/>
            <a:ext cx="2951280" cy="39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3"/>
          <a:stretch/>
        </p:blipFill>
        <p:spPr>
          <a:xfrm>
            <a:off x="5580000" y="2924280"/>
            <a:ext cx="3564000" cy="39337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9:40:30Z</dcterms:created>
  <dc:creator>User</dc:creator>
  <dc:description/>
  <dc:language>en-US</dc:language>
  <cp:lastModifiedBy>Admin</cp:lastModifiedBy>
  <dcterms:modified xsi:type="dcterms:W3CDTF">2011-09-29T05:20:05Z</dcterms:modified>
  <cp:revision>5</cp:revision>
  <dc:subject/>
  <dc:title>Слайд 1</dc:title>
</cp:coreProperties>
</file>