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7.jpeg" ContentType="image/jpeg"/>
  <Override PartName="/ppt/media/image20.png" ContentType="image/pn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AA75FD-1E1D-4928-8D74-F40C1F556A1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9D030-D6A4-4C6C-B057-D48109341BDA}" type="slidenum">
              <a:rPr b="0" lang="ru-RU" sz="1200" spc="-1" strike="noStrike">
                <a:solidFill>
                  <a:srgbClr val="000000"/>
                </a:solidFill>
                <a:latin typeface="Monotype Corsiv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62B23-9944-421E-ABCF-1E8A4063C7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9996-D2DA-4547-AADF-D91778A6C5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0D5FA-FC3B-4D4B-ABB4-E66BC15F43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CEEAF-74CF-4545-9BC9-FF013C76D3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3450F-776B-4999-9529-1FD7B3D3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354C79-ECBE-44A2-AF58-E2A458449B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0C7B1C-1931-43A4-B3C0-1D0E867F2D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AC961E-B515-4F7C-B061-BF987DF86F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DF1DDB-699A-4241-B4FA-293A67147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3EDA44-F6E1-42D5-9783-2BBE80C243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25B96B-4A52-4E11-8285-2AD6F1E4D0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B7B75-E526-48A8-BC79-268D017D4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44666-3B32-4DCC-B5FC-700B8580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F3DF77-BB15-4B03-893D-82544D529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F96D9-B51C-455C-8D22-A575E9B1A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F0507-09A4-480A-BB85-8CB65E7513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5C762-0D5D-444E-84EB-C271327573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5820F-C088-4CDD-8733-EE26D7BF02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583BB-F68A-43A7-9104-9AB57471E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902CD-6448-4584-87FB-FCA4B1E69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0474E-CE18-4703-BCC4-399A3F5663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39A3E6-4A99-48D1-9657-9F269B5FC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FE29A-4ACA-4BA6-96FD-6D3AC241CB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88437-E887-43C1-8F41-D6757BC0C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>
                <a:gd name="textAreaLeft" fmla="*/ 0 w 7122960"/>
                <a:gd name="textAreaRight" fmla="*/ 7123320 w 7122960"/>
                <a:gd name="textAreaTop" fmla="*/ 0 h 1055520"/>
                <a:gd name="textAreaBottom" fmla="*/ 1055880 h 1055520"/>
              </a:gdLst>
              <a:ahLst/>
              <a:rect l="textAreaLeft" t="textAreaTop" r="textAreaRight" b="textAreaBottom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c4cdd5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>
                <a:gd name="textAreaLeft" fmla="*/ 0 w 7242120"/>
                <a:gd name="textAreaRight" fmla="*/ 7242480 w 7242120"/>
                <a:gd name="textAreaTop" fmla="*/ 0 h 1903320"/>
                <a:gd name="textAreaBottom" fmla="*/ 1903680 h 1903320"/>
              </a:gdLst>
              <a:ahLst/>
              <a:rect l="textAreaLeft" t="textAreaTop" r="textAreaRight" b="textAreaBottom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B1449D-294C-4229-9801-80225DB44F2A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0dae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>
                <a:gd name="textAreaLeft" fmla="*/ 0 w 8183520"/>
                <a:gd name="textAreaRight" fmla="*/ 8183880 w 8183520"/>
                <a:gd name="textAreaTop" fmla="*/ 0 h 3657600"/>
                <a:gd name="textAreaBottom" fmla="*/ 3657960 h 3657600"/>
              </a:gdLst>
              <a:ahLst/>
              <a:rect l="textAreaLeft" t="textAreaTop" r="textAreaRight" b="textAreaBottom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b0b9bf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>
                <a:gd name="textAreaLeft" fmla="*/ 0 w 8458200"/>
                <a:gd name="textAreaRight" fmla="*/ 8458560 w 8458200"/>
                <a:gd name="textAreaTop" fmla="*/ 0 h 5856120"/>
                <a:gd name="textAreaBottom" fmla="*/ 5856480 h 5856120"/>
              </a:gdLst>
              <a:ahLst/>
              <a:rect l="textAreaLeft" t="textAreaTop" r="textAreaRight" b="textAreaBottom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e7edf1"/>
                </a:gs>
                <a:gs pos="100000">
                  <a:srgbClr val="d0dae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Monotype Corsiv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3333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Monotype Corsiv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8D6288-CC5A-47D3-A444-583FA924C84F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3333cc"/>
                </a:solidFill>
                <a:latin typeface="Monotype Corsiva"/>
              </a:rPr>
              <a:t>Вся жизнь – один</a:t>
            </a:r>
            <a:r>
              <a:rPr b="0" i="1" lang="en-US" sz="4800" spc="-1" strike="noStrike">
                <a:solidFill>
                  <a:srgbClr val="3333cc"/>
                </a:solidFill>
                <a:latin typeface="Monotype Corsiva"/>
              </a:rPr>
              <a:t> </a:t>
            </a:r>
            <a:r>
              <a:rPr b="0" i="1" lang="ru-RU" sz="4800" spc="-1" strike="noStrike">
                <a:solidFill>
                  <a:srgbClr val="3333cc"/>
                </a:solidFill>
                <a:latin typeface="Monotype Corsiva"/>
              </a:rPr>
              <a:t>чудесный миг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97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Образ А.С. Пушкина в литературе и живописи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ahoma"/>
              </a:rPr>
              <a:t>Автор – Бродягина Ольга Семёновна, учитель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600" spc="-1" strike="noStrike">
                <a:solidFill>
                  <a:srgbClr val="0070c0"/>
                </a:solidFill>
                <a:latin typeface="Tahoma"/>
              </a:rPr>
              <a:t>русского языка и литературы МОУ Улётовская СОШ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7" name="Picture 15" descr="0246067922"/>
          <p:cNvPicPr/>
          <p:nvPr/>
        </p:nvPicPr>
        <p:blipFill>
          <a:blip r:embed="rId1"/>
          <a:stretch/>
        </p:blipFill>
        <p:spPr>
          <a:xfrm>
            <a:off x="7315200" y="4572000"/>
            <a:ext cx="1828800" cy="22860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20" descr="pero"/>
          <p:cNvPicPr/>
          <p:nvPr/>
        </p:nvPicPr>
        <p:blipFill>
          <a:blip r:embed="rId2"/>
          <a:stretch/>
        </p:blipFill>
        <p:spPr>
          <a:xfrm>
            <a:off x="0" y="0"/>
            <a:ext cx="182880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00000887"/>
          <p:cNvPicPr/>
          <p:nvPr/>
        </p:nvPicPr>
        <p:blipFill>
          <a:blip r:embed="rId1"/>
          <a:stretch/>
        </p:blipFill>
        <p:spPr>
          <a:xfrm>
            <a:off x="0" y="0"/>
            <a:ext cx="5638680" cy="685800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4876560" y="1599840"/>
            <a:ext cx="426708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П.Ф. Соколов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  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(1791 – 1848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     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Портрет молодого человека в кресле (автопортрет?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5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1" descr=""/>
          <p:cNvPicPr/>
          <p:nvPr/>
        </p:nvPicPr>
        <p:blipFill>
          <a:blip r:embed="rId1"/>
          <a:stretch/>
        </p:blipFill>
        <p:spPr>
          <a:xfrm>
            <a:off x="1676520" y="0"/>
            <a:ext cx="5943600" cy="68580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63244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П.Ф. Соколов. Портрет А.С. Пушкина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« С темного мрачного фона смотрит бледный человек, очевидно страдавший хронической бессонницей, с сильно поредевшими волосами, уставший, измученный..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Г. Барабтарло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27" name="Picture 11" descr="06_А"/>
          <p:cNvPicPr/>
          <p:nvPr/>
        </p:nvPicPr>
        <p:blipFill>
          <a:blip r:embed="rId1"/>
          <a:stretch/>
        </p:blipFill>
        <p:spPr>
          <a:xfrm>
            <a:off x="0" y="0"/>
            <a:ext cx="5257800" cy="6858000"/>
          </a:xfrm>
          <a:prstGeom prst="rect">
            <a:avLst/>
          </a:prstGeom>
          <a:ln w="0">
            <a:noFill/>
          </a:ln>
        </p:spPr>
      </p:pic>
      <p:sp>
        <p:nvSpPr>
          <p:cNvPr id="128" name="Rectangle 16"/>
          <p:cNvSpPr/>
          <p:nvPr/>
        </p:nvSpPr>
        <p:spPr>
          <a:xfrm>
            <a:off x="228600" y="5791320"/>
            <a:ext cx="4800600" cy="75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И.Л. Ливнёв. 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Портрет А.С. Пушкина (1836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ircle/>
  </p:transition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1" dur="1000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4" descr="pushkdant3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А.А. Наумов. Последняя дуэль Пушкин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4" descr="898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609588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99cc"/>
                </a:solidFill>
                <a:latin typeface="Tahoma"/>
              </a:rPr>
              <a:t>А.А. Наумов. Дуэль Пушкина с Дантесом (1885 год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11" descr="index_pic"/>
          <p:cNvPicPr/>
          <p:nvPr/>
        </p:nvPicPr>
        <p:blipFill>
          <a:blip r:embed="rId1"/>
          <a:stretch/>
        </p:blipFill>
        <p:spPr>
          <a:xfrm>
            <a:off x="1219320" y="0"/>
            <a:ext cx="678168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33520" y="59432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П.Ф. Борель. Возвращение Пушкина </a:t>
            </a:r>
            <a:br>
              <a:rPr sz="2800"/>
            </a:b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с дуэли (1885 год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6" descr="ulianov"/>
          <p:cNvPicPr/>
          <p:nvPr/>
        </p:nvPicPr>
        <p:blipFill>
          <a:blip r:embed="rId1"/>
          <a:stretch/>
        </p:blipFill>
        <p:spPr>
          <a:xfrm>
            <a:off x="1066680" y="0"/>
            <a:ext cx="6629400" cy="685800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0"/>
          <p:cNvSpPr/>
          <p:nvPr/>
        </p:nvSpPr>
        <p:spPr>
          <a:xfrm>
            <a:off x="2290680" y="5715000"/>
            <a:ext cx="4562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Николай Павлович Ульянов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            </a:t>
            </a:r>
            <a:r>
              <a:rPr b="0" lang="ru-RU" sz="2400" spc="-1" strike="noStrike">
                <a:solidFill>
                  <a:srgbClr val="e7edf1"/>
                </a:solidFill>
                <a:latin typeface="Tahoma"/>
              </a:rPr>
              <a:t>(1875 – 1949)</a:t>
            </a:r>
            <a:endParaRPr b="0" lang="en-US" sz="2400" spc="-1" strike="noStrike">
              <a:solidFill>
                <a:srgbClr val="000000"/>
              </a:solidFill>
              <a:latin typeface="Monotype Corsiva"/>
            </a:endParaRPr>
          </a:p>
        </p:txBody>
      </p:sp>
    </p:spTree>
  </p:cSld>
  <p:transition spd="slow">
    <p:circl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index_pic"/>
          <p:cNvPicPr/>
          <p:nvPr/>
        </p:nvPicPr>
        <p:blipFill>
          <a:blip r:embed="rId1"/>
          <a:stretch/>
        </p:blipFill>
        <p:spPr>
          <a:xfrm>
            <a:off x="4191120" y="0"/>
            <a:ext cx="4952880" cy="685800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5" descr="2565"/>
          <p:cNvPicPr/>
          <p:nvPr/>
        </p:nvPicPr>
        <p:blipFill>
          <a:blip r:embed="rId2"/>
          <a:stretch/>
        </p:blipFill>
        <p:spPr>
          <a:xfrm>
            <a:off x="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0" y="548604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7edf1"/>
                </a:solidFill>
                <a:latin typeface="Tahoma"/>
              </a:rPr>
              <a:t>          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Н.П. Ульянов. Пушкин с женой на    придворном балу (1936год</a:t>
            </a:r>
            <a:r>
              <a:rPr b="0" lang="ru-RU" sz="4000" spc="-1" strike="noStrike">
                <a:solidFill>
                  <a:srgbClr val="0099cc"/>
                </a:solidFill>
                <a:latin typeface="Tahom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20574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99cc"/>
                </a:solidFill>
                <a:latin typeface="Monotype Corsiva"/>
              </a:rPr>
              <a:t>Каким был великий Пушкин?</a:t>
            </a:r>
            <a:endParaRPr b="0" lang="en-US" sz="4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Воспоминания современников поэта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42" name="Picture 6" descr="pero"/>
          <p:cNvPicPr/>
          <p:nvPr/>
        </p:nvPicPr>
        <p:blipFill>
          <a:blip r:embed="rId1"/>
          <a:stretch/>
        </p:blipFill>
        <p:spPr>
          <a:xfrm>
            <a:off x="0" y="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0246067922"/>
          <p:cNvPicPr/>
          <p:nvPr/>
        </p:nvPicPr>
        <p:blipFill>
          <a:blip r:embed="rId2"/>
          <a:stretch/>
        </p:blipFill>
        <p:spPr>
          <a:xfrm>
            <a:off x="7315200" y="4572000"/>
            <a:ext cx="1828800" cy="22860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457200" y="152280"/>
            <a:ext cx="77724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.П. Горчаков: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«Человек небольшого роста, но довольно плечистый и сильный, с быстрым и наблюдательным взором, необыкновенно живой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Л.С. Пушкин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…был собою дурён, но лицо его было выразительно и одушевлённо, ростом был мал, но сложен крепко и соразмерно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М.И. Погодин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…без всяких притязаний, с живыми, быстрыми глазами, с тихим приятным голосом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 algn="ctr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В.П. Бурнашов: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 «в лице его было что-то необыкновенное, будто напоминающее мулата… губы очень красные и широкие, а обнаженные весёлой улыбкой зубы – белизны необыкновенной…»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0" dur="1000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7" dur="1000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1000" fill="hold"/>
                                        <p:tgtEl>
                                          <p:spTgt spid="1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4" descr="Vissarion_Belinsky_by_K_Gorbunov_1843"/>
          <p:cNvPicPr/>
          <p:nvPr/>
        </p:nvPicPr>
        <p:blipFill>
          <a:blip r:embed="rId1"/>
          <a:stretch/>
        </p:blipFill>
        <p:spPr>
          <a:xfrm>
            <a:off x="0" y="0"/>
            <a:ext cx="5562720" cy="6858000"/>
          </a:xfrm>
          <a:prstGeom prst="rect">
            <a:avLst/>
          </a:prstGeom>
          <a:ln w="0">
            <a:noFill/>
          </a:ln>
        </p:spPr>
      </p:pic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1055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« Писать о Пушкине – значит писать о целой русской литературе»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     </a:t>
            </a:r>
            <a:r>
              <a:rPr b="0" i="1" lang="ru-RU" sz="3200" spc="-1" strike="noStrike">
                <a:solidFill>
                  <a:srgbClr val="0099cc"/>
                </a:solidFill>
                <a:latin typeface="Tahoma"/>
              </a:rPr>
              <a:t>В.Г. Белинский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29"/>
          <p:cNvPicPr/>
          <p:nvPr/>
        </p:nvPicPr>
        <p:blipFill>
          <a:blip r:embed="rId1"/>
          <a:stretch/>
        </p:blipFill>
        <p:spPr>
          <a:xfrm>
            <a:off x="762120" y="152280"/>
            <a:ext cx="8381880" cy="6705720"/>
          </a:xfrm>
          <a:prstGeom prst="rect">
            <a:avLst/>
          </a:prstGeom>
          <a:ln w="0">
            <a:noFill/>
          </a:ln>
        </p:spPr>
      </p:pic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4114440"/>
            <a:ext cx="822960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99cc"/>
                </a:solidFill>
                <a:latin typeface="Monotype Corsiva"/>
              </a:rPr>
              <a:t>                          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99cc"/>
                </a:solidFill>
                <a:latin typeface="Monotype Corsiva"/>
              </a:rPr>
              <a:t>                                   </a:t>
            </a:r>
            <a:r>
              <a:rPr b="0" lang="ru-RU" sz="5400" spc="-1" strike="noStrike">
                <a:solidFill>
                  <a:srgbClr val="0099cc"/>
                </a:solidFill>
                <a:latin typeface="Monotype Corsiva"/>
              </a:rPr>
              <a:t>А.С. Пушкин</a:t>
            </a:r>
            <a:endParaRPr b="0" lang="en-US" sz="5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4" descr="gogol5"/>
          <p:cNvPicPr/>
          <p:nvPr/>
        </p:nvPicPr>
        <p:blipFill>
          <a:blip r:embed="rId1"/>
          <a:stretch/>
        </p:blipFill>
        <p:spPr>
          <a:xfrm>
            <a:off x="0" y="0"/>
            <a:ext cx="5715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5105160" y="1600200"/>
            <a:ext cx="373356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«</a:t>
            </a: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Пушкин есть явление чрезвычайное…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0099cc"/>
                </a:solidFill>
                <a:latin typeface="Tahoma"/>
              </a:rPr>
              <a:t>единственное явление своего духа… В нём     русская природа, русская душа, русский характер…»                 Н.В. Гоголь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685440" y="1600200"/>
            <a:ext cx="65530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ahom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Если жизнь тебя обманет,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Не печалься, не сердись!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 день уныния смирись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День веселья,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верь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, настанет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Сердце в будущем живет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Настоящее уныло: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Всё мгновенно, </a:t>
            </a:r>
            <a:r>
              <a:rPr b="0" i="1" lang="ru-RU" sz="3200" spc="-1" strike="noStrike">
                <a:solidFill>
                  <a:srgbClr val="0099cc"/>
                </a:solidFill>
                <a:latin typeface="Monotype Corsiva"/>
              </a:rPr>
              <a:t>всё пройдет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;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           </a:t>
            </a:r>
            <a:r>
              <a:rPr b="0" i="1" lang="ru-RU" sz="3200" spc="-1" strike="noStrike">
                <a:solidFill>
                  <a:srgbClr val="000000"/>
                </a:solidFill>
                <a:latin typeface="Monotype Corsiva"/>
              </a:rPr>
              <a:t>Что пройдет, то будет мило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104" name="Picture 6" descr="pero"/>
          <p:cNvPicPr/>
          <p:nvPr/>
        </p:nvPicPr>
        <p:blipFill>
          <a:blip r:embed="rId1"/>
          <a:stretch/>
        </p:blipFill>
        <p:spPr>
          <a:xfrm>
            <a:off x="0" y="0"/>
            <a:ext cx="1905120" cy="32004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7" descr="0246067922"/>
          <p:cNvPicPr/>
          <p:nvPr/>
        </p:nvPicPr>
        <p:blipFill>
          <a:blip r:embed="rId2"/>
          <a:stretch/>
        </p:blipFill>
        <p:spPr>
          <a:xfrm>
            <a:off x="7086600" y="3886200"/>
            <a:ext cx="2057400" cy="2971800"/>
          </a:xfrm>
          <a:prstGeom prst="rect">
            <a:avLst/>
          </a:prstGeom>
          <a:ln w="0">
            <a:noFill/>
          </a:ln>
        </p:spPr>
      </p:pic>
    </p:spTree>
  </p:cSld>
  <p:transition spd="slow">
    <p:circle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1000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4" descr="200px-Tropinin-self"/>
          <p:cNvPicPr/>
          <p:nvPr/>
        </p:nvPicPr>
        <p:blipFill>
          <a:blip r:embed="rId1"/>
          <a:stretch/>
        </p:blipFill>
        <p:spPr>
          <a:xfrm>
            <a:off x="4572000" y="0"/>
            <a:ext cx="4572000" cy="685800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5" descr="04"/>
          <p:cNvPicPr/>
          <p:nvPr/>
        </p:nvPicPr>
        <p:blipFill>
          <a:blip r:embed="rId2"/>
          <a:stretch/>
        </p:blipFill>
        <p:spPr>
          <a:xfrm>
            <a:off x="0" y="0"/>
            <a:ext cx="5029200" cy="68580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6172200"/>
            <a:ext cx="8229600" cy="45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99cc"/>
                </a:solidFill>
                <a:latin typeface="Tahoma"/>
              </a:rPr>
              <a:t>В.А. Тропинин (1776- 1857). Автопортреты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rusalky01"/>
          <p:cNvPicPr/>
          <p:nvPr/>
        </p:nvPicPr>
        <p:blipFill>
          <a:blip r:embed="rId1"/>
          <a:stretch/>
        </p:blipFill>
        <p:spPr>
          <a:xfrm>
            <a:off x="0" y="0"/>
            <a:ext cx="5410080" cy="685800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  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В.А. Тропинин. Портрет А.С. Пушкина (1827 год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486400" y="1600200"/>
            <a:ext cx="327672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«Сходство портрета с подлинником поразительно, хотя кажется, что художник не мог совершенно схватить быстроты взгляда и живого выражения лица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Н.А. Поле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8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11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fill="hold">
                      <p:stCondLst>
                        <p:cond delay="indefinite"/>
                      </p:stCondLst>
                      <p:childTnLst>
                        <p:par>
                          <p:cTn id="101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11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2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000015"/>
          <p:cNvPicPr/>
          <p:nvPr/>
        </p:nvPicPr>
        <p:blipFill>
          <a:blip r:embed="rId1"/>
          <a:stretch/>
        </p:blipFill>
        <p:spPr>
          <a:xfrm>
            <a:off x="0" y="0"/>
            <a:ext cx="5486400" cy="685800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kiprenskijoresst"/>
          <p:cNvPicPr/>
          <p:nvPr/>
        </p:nvPicPr>
        <p:blipFill>
          <a:blip r:embed="rId2"/>
          <a:stretch/>
        </p:blipFill>
        <p:spPr>
          <a:xfrm>
            <a:off x="4419720" y="0"/>
            <a:ext cx="4724280" cy="68580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-360" y="4114800"/>
            <a:ext cx="8534520" cy="2743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99cc"/>
                </a:solidFill>
                <a:latin typeface="Tahoma"/>
              </a:rPr>
              <a:t>              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О.А. Кипренский (1782 – 1836).    Автопортреты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1000" fill="hold"/>
                                        <p:tgtEl>
                                          <p:spTgt spid="11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4" descr="5304"/>
          <p:cNvPicPr/>
          <p:nvPr/>
        </p:nvPicPr>
        <p:blipFill>
          <a:blip r:embed="rId1"/>
          <a:stretch/>
        </p:blipFill>
        <p:spPr>
          <a:xfrm>
            <a:off x="0" y="-152280"/>
            <a:ext cx="5181480" cy="701028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/>
          </p:nvPr>
        </p:nvSpPr>
        <p:spPr>
          <a:xfrm>
            <a:off x="0" y="3200400"/>
            <a:ext cx="403848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Tahoma"/>
              </a:rPr>
              <a:t>О.А. Кипренский. Портрет А.С. Пушкина (1827 год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409720" y="914040"/>
            <a:ext cx="358164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99cc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0099cc"/>
                </a:solidFill>
                <a:latin typeface="Tahoma"/>
              </a:rPr>
              <a:t>«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Кипренский очень удачно уловляет сходство: это качество - отличительная черта в портрете Пушкина, им недавно написанного: мастерское произведение! …художник вполне выразил в его взоре светлый луч высоких творческих дум…»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          </a:t>
            </a:r>
            <a:r>
              <a:rPr b="0" i="1" lang="ru-RU" sz="2400" spc="-1" strike="noStrike">
                <a:solidFill>
                  <a:srgbClr val="0099cc"/>
                </a:solidFill>
                <a:latin typeface="Tahoma"/>
              </a:rPr>
              <a:t>Н.А. Полевой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1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4" descr="pero"/>
          <p:cNvPicPr/>
          <p:nvPr/>
        </p:nvPicPr>
        <p:blipFill>
          <a:blip r:embed="rId1"/>
          <a:stretch/>
        </p:blipFill>
        <p:spPr>
          <a:xfrm>
            <a:off x="0" y="0"/>
            <a:ext cx="1752480" cy="243828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5" descr="0246067922"/>
          <p:cNvPicPr/>
          <p:nvPr/>
        </p:nvPicPr>
        <p:blipFill>
          <a:blip r:embed="rId2"/>
          <a:stretch/>
        </p:blipFill>
        <p:spPr>
          <a:xfrm>
            <a:off x="7315200" y="4343400"/>
            <a:ext cx="1828800" cy="25146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/>
          </p:nvPr>
        </p:nvSpPr>
        <p:spPr>
          <a:xfrm>
            <a:off x="0" y="761760"/>
            <a:ext cx="784872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0" algn="ctr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ahoma"/>
              </a:rPr>
              <a:t>       </a:t>
            </a:r>
            <a:r>
              <a:rPr b="0" i="1" lang="ru-RU" sz="3600" spc="-1" strike="noStrike">
                <a:solidFill>
                  <a:srgbClr val="0099cc"/>
                </a:solidFill>
                <a:latin typeface="Monotype Corsiva"/>
              </a:rPr>
              <a:t>Себя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как в зеркале я вижу,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Но это зеркало мне льстит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Оно гласит, что не униж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Пристрастья важных </a:t>
            </a:r>
            <a:r>
              <a:rPr b="0" i="1" lang="ru-RU" sz="3600" spc="-1" strike="noStrike">
                <a:solidFill>
                  <a:srgbClr val="0099cc"/>
                </a:solidFill>
                <a:latin typeface="Monotype Corsiva"/>
              </a:rPr>
              <a:t>аони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Так, Риму, Дрездену, Парижу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             </a:t>
            </a:r>
            <a:r>
              <a:rPr b="0" i="1" lang="ru-RU" sz="3600" spc="-1" strike="noStrike">
                <a:solidFill>
                  <a:srgbClr val="000000"/>
                </a:solidFill>
                <a:latin typeface="Monotype Corsiva"/>
              </a:rPr>
              <a:t>Известен впредь мой будет вид.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i="1" lang="ru-RU" sz="3600" spc="-1" strike="noStrike">
                <a:solidFill>
                  <a:srgbClr val="000000"/>
                </a:solidFill>
                <a:latin typeface="Tahoma"/>
              </a:rPr>
              <a:t>А.С. Пушкин. «Кипренскому»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marL="325800" indent="0" algn="ctr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99cc"/>
                </a:solidFill>
                <a:latin typeface="Tahoma"/>
              </a:rPr>
              <a:t>Аониды</a:t>
            </a:r>
            <a:r>
              <a:rPr b="0" lang="ru-RU" sz="3600" spc="-1" strike="noStrike">
                <a:solidFill>
                  <a:srgbClr val="000000"/>
                </a:solidFill>
                <a:latin typeface="Tahoma"/>
              </a:rPr>
              <a:t> - музы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transition spd="slow">
    <p:circle/>
  </p:transition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3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4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1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10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4" dur="1000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5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2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1000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1000" fill="hold"/>
                                        <p:tgtEl>
                                          <p:spTgt spid="12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1000" fill="hold"/>
                                        <p:tgtEl>
                                          <p:spTgt spid="12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</cp:lastModifiedBy>
  <dcterms:modified xsi:type="dcterms:W3CDTF">2010-09-22T12:17:55Z</dcterms:modified>
  <cp:revision>1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