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4854-B68E-439A-A574-BCF8FEB0EA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F2BD-7602-41B0-8F1F-6DAB66CCEF58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C11-AF56-4413-8593-A83F19FA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38D4-B90E-4DD8-B7C1-C0EFA40C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39F-E6A6-4318-AC2B-096D13EB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411-EA1B-4779-9F39-41208F27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37F7-E5FE-4C4C-A3B0-F77240DC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0772-F944-43DE-B3DE-E3E1B3EF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F5B8-61B3-4CC7-8F53-EE12CA5B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077F-76EF-4C40-809F-B8C58CAF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19C1-6250-4BF7-9D3D-9A2509C0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8C0D-4326-4BFD-B314-862BF6AB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9AA7-7AC8-4413-9D14-6A5439CE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940-8981-417A-8596-2E54A23E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E42C-82F7-40DB-BC6A-920765B8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6B54-294D-4664-91B2-6882F785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4C9E-5DE7-479D-9F13-8CA1D274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0A53-D922-4790-A9BC-1624086B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7140-0E6E-49C1-947E-C8DD4D10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30F-47B5-49C1-A5DE-DA2E1D83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045-83E4-447E-A4FE-A690413A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F51-85BB-4CE2-A73E-3619651D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3FE-B540-4083-A20F-71BECC4A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745-E129-4302-BBA6-51B8AFDC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6E1-14FE-4DAE-953C-F86F5F48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16A-BF14-49C1-8E7E-C2BC3C16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4F44-FA79-411E-A427-82471C2C149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7775-474E-47B9-9253-BD129B07CCA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cc"/>
                </a:solidFill>
                <a:latin typeface="Monotype Corsiva"/>
              </a:rPr>
              <a:t>Вся жизнь – один</a:t>
            </a:r>
            <a:r>
              <a:rPr b="0" i="1" lang="en-US" sz="4800" spc="-1" strike="noStrike">
                <a:solidFill>
                  <a:srgbClr val="3333cc"/>
                </a:solidFill>
                <a:latin typeface="Monotype Corsiva"/>
              </a:rPr>
              <a:t> </a:t>
            </a:r>
            <a:r>
              <a:rPr b="0" i="1" lang="ru-RU" sz="4800" spc="-1" strike="noStrike">
                <a:solidFill>
                  <a:srgbClr val="3333cc"/>
                </a:solidFill>
                <a:latin typeface="Monotype Corsiva"/>
              </a:rPr>
              <a:t>чудесный миг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cc"/>
                </a:solidFill>
                <a:latin typeface="Tahoma"/>
              </a:rPr>
              <a:t>Образ А.С. Пушкина в литературе и живопис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Tahoma"/>
              </a:rPr>
              <a:t>Автор – Бродягина Ольга Семёновна, учитель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Tahoma"/>
              </a:rPr>
              <a:t>русского языка и литературы МОУ Улётовская СОШ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15" descr="0246067922"/>
          <p:cNvPicPr/>
          <p:nvPr/>
        </p:nvPicPr>
        <p:blipFill>
          <a:blip r:embed="rId1"/>
          <a:stretch/>
        </p:blipFill>
        <p:spPr>
          <a:xfrm>
            <a:off x="7315200" y="457200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pero"/>
          <p:cNvPicPr/>
          <p:nvPr/>
        </p:nvPicPr>
        <p:blipFill>
          <a:blip r:embed="rId2"/>
          <a:stretch/>
        </p:blipFill>
        <p:spPr>
          <a:xfrm>
            <a:off x="0" y="0"/>
            <a:ext cx="182880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00000887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П.Ф. Сокол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(1791 – 184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      </a:t>
            </a:r>
            <a:r>
              <a:rPr b="0" i="1" lang="ru-RU" sz="2800" spc="-1" strike="noStrike">
                <a:solidFill>
                  <a:srgbClr val="0099cc"/>
                </a:solidFill>
                <a:latin typeface="Tahoma"/>
              </a:rPr>
              <a:t>Портрет молодого человека в кресле (автопортрет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1" descr=""/>
          <p:cNvPicPr/>
          <p:nvPr/>
        </p:nvPicPr>
        <p:blipFill>
          <a:blip r:embed="rId1"/>
          <a:stretch/>
        </p:blipFill>
        <p:spPr>
          <a:xfrm>
            <a:off x="167652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324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ahoma"/>
              </a:rPr>
              <a:t>П.Ф. Соколов. Портрет А.С. Пушки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« С темного мрачного фона смотрит бледный человек, очевидно страдавший хронической бессонницей, с сильно поредевшими волосами, уставший, измученный..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Г. Барабтарл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11" descr="06_А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6"/>
          <p:cNvSpPr/>
          <p:nvPr/>
        </p:nvSpPr>
        <p:spPr>
          <a:xfrm>
            <a:off x="228600" y="5791320"/>
            <a:ext cx="48006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ahoma"/>
              </a:rPr>
              <a:t>И.Л. Ливнёв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ahoma"/>
              </a:rPr>
              <a:t>Портрет А.С. Пушкина (1836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pushkdant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Tahoma"/>
              </a:rPr>
              <a:t>А.А. Наумов. Последняя дуэль Пушк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8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Tahoma"/>
              </a:rPr>
              <a:t>А.А. Наумов. Дуэль Пушкина с Дантесом (1885 год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1" descr="index_pic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П.Ф. Борель. Возвращение Пушкина </a:t>
            </a:r>
            <a:br>
              <a:rPr sz="2800"/>
            </a:b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с дуэли (1885 год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ulianov"/>
          <p:cNvPicPr/>
          <p:nvPr/>
        </p:nvPicPr>
        <p:blipFill>
          <a:blip r:embed="rId1"/>
          <a:stretch/>
        </p:blipFill>
        <p:spPr>
          <a:xfrm>
            <a:off x="106668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0"/>
          <p:cNvSpPr/>
          <p:nvPr/>
        </p:nvSpPr>
        <p:spPr>
          <a:xfrm>
            <a:off x="2290680" y="5715000"/>
            <a:ext cx="45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edf1"/>
                </a:solidFill>
                <a:latin typeface="Tahoma"/>
              </a:rPr>
              <a:t>Николай Павлович Ульянов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edf1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e7edf1"/>
                </a:solidFill>
                <a:latin typeface="Tahoma"/>
              </a:rPr>
              <a:t>(1875 – 1949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index_pic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2565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7edf1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Н.П. Ульянов. Пушкин с женой на    придворном балу (1936год</a:t>
            </a:r>
            <a:r>
              <a:rPr b="0" lang="ru-RU" sz="4000" spc="-1" strike="noStrike">
                <a:solidFill>
                  <a:srgbClr val="0099c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99cc"/>
                </a:solidFill>
                <a:latin typeface="Monotype Corsiva"/>
              </a:rPr>
              <a:t>Каким был великий Пушкин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cc"/>
                </a:solidFill>
                <a:latin typeface="Tahoma"/>
              </a:rPr>
              <a:t>Воспоминания современников поэ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6" descr="pero"/>
          <p:cNvPicPr/>
          <p:nvPr/>
        </p:nvPicPr>
        <p:blipFill>
          <a:blip r:embed="rId1"/>
          <a:stretch/>
        </p:blipFill>
        <p:spPr>
          <a:xfrm>
            <a:off x="0" y="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0246067922"/>
          <p:cNvPicPr/>
          <p:nvPr/>
        </p:nvPicPr>
        <p:blipFill>
          <a:blip r:embed="rId2"/>
          <a:stretch/>
        </p:blipFill>
        <p:spPr>
          <a:xfrm>
            <a:off x="7315200" y="4572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.П. Горчаков:</a:t>
            </a: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99cc"/>
                </a:solidFill>
                <a:latin typeface="Tahoma"/>
              </a:rPr>
              <a:t>«Человек небольшого роста, но довольно плечистый и сильный, с быстрым и наблюдательным взором, необыкновенно живой…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.С. Пушкин:</a:t>
            </a:r>
            <a:r>
              <a:rPr b="0" i="1" lang="ru-RU" sz="2800" spc="-1" strike="noStrike">
                <a:solidFill>
                  <a:srgbClr val="0099cc"/>
                </a:solidFill>
                <a:latin typeface="Tahoma"/>
              </a:rPr>
              <a:t> «…был собою дурён, но лицо его было выразительно и одушевлённо, ростом был мал, но сложен крепко и соразмерно…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.И. Погодин:</a:t>
            </a:r>
            <a:r>
              <a:rPr b="0" i="1" lang="ru-RU" sz="2800" spc="-1" strike="noStrike">
                <a:solidFill>
                  <a:srgbClr val="0099cc"/>
                </a:solidFill>
                <a:latin typeface="Tahoma"/>
              </a:rPr>
              <a:t> «…без всяких притязаний, с живыми, быстрыми глазами, с тихим приятным голосом…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.П. Бурнашов:</a:t>
            </a:r>
            <a:r>
              <a:rPr b="0" i="1" lang="ru-RU" sz="2800" spc="-1" strike="noStrike">
                <a:solidFill>
                  <a:srgbClr val="0099cc"/>
                </a:solidFill>
                <a:latin typeface="Tahoma"/>
              </a:rPr>
              <a:t> «в лице его было что-то необыкновенное, будто напоминающее мулата… губы очень красные и широкие, а обнаженные весёлой улыбкой зубы – белизны необыкновенной…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Vissarion_Belinsky_by_K_Gorbunov_1843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99cc"/>
                </a:solidFill>
                <a:latin typeface="Tahoma"/>
              </a:rPr>
              <a:t>« Писать о Пушкине – значит писать о целой русской литературе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cc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0099cc"/>
                </a:solidFill>
                <a:latin typeface="Tahoma"/>
              </a:rPr>
              <a:t>В.Г. Белин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29"/>
          <p:cNvPicPr/>
          <p:nvPr/>
        </p:nvPicPr>
        <p:blipFill>
          <a:blip r:embed="rId1"/>
          <a:stretch/>
        </p:blipFill>
        <p:spPr>
          <a:xfrm>
            <a:off x="762120" y="152280"/>
            <a:ext cx="8381880" cy="6705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114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cc"/>
                </a:solidFill>
                <a:latin typeface="Monotype Corsiva"/>
              </a:rPr>
              <a:t>                         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99cc"/>
                </a:solidFill>
                <a:latin typeface="Monotype Corsiva"/>
              </a:rPr>
              <a:t>                                   </a:t>
            </a:r>
            <a:r>
              <a:rPr b="0" lang="ru-RU" sz="5400" spc="-1" strike="noStrike">
                <a:solidFill>
                  <a:srgbClr val="0099cc"/>
                </a:solidFill>
                <a:latin typeface="Monotype Corsiva"/>
              </a:rPr>
              <a:t>А.С. Пушкин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gogol5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105160" y="1600200"/>
            <a:ext cx="3733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0099cc"/>
                </a:solidFill>
                <a:latin typeface="Tahoma"/>
              </a:rPr>
              <a:t>Пушкин есть явление чрезвычайное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cc"/>
                </a:solidFill>
                <a:latin typeface="Tahoma"/>
              </a:rPr>
              <a:t>единственное явление своего духа… В нём     русская природа, русская душа, русский характер…»                 Н.В. Гого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Если жизнь тебя обманет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i="1" lang="ru-RU" sz="3200" spc="-1" strike="noStrike">
                <a:solidFill>
                  <a:srgbClr val="0099cc"/>
                </a:solidFill>
                <a:latin typeface="Monotype Corsiva"/>
              </a:rPr>
              <a:t>Не печалься, не сердись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В день уныния смирись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День веселья, </a:t>
            </a:r>
            <a:r>
              <a:rPr b="0" i="1" lang="ru-RU" sz="3200" spc="-1" strike="noStrike">
                <a:solidFill>
                  <a:srgbClr val="0099cc"/>
                </a:solidFill>
                <a:latin typeface="Monotype Corsiva"/>
              </a:rPr>
              <a:t>верь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, настан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Сердце в будущем живет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Настоящее уныл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Всё мгновенно, </a:t>
            </a:r>
            <a:r>
              <a:rPr b="0" i="1" lang="ru-RU" sz="3200" spc="-1" strike="noStrike">
                <a:solidFill>
                  <a:srgbClr val="0099cc"/>
                </a:solidFill>
                <a:latin typeface="Monotype Corsiva"/>
              </a:rPr>
              <a:t>всё пройдет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Что пройдет, то будет мил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6" descr="pero"/>
          <p:cNvPicPr/>
          <p:nvPr/>
        </p:nvPicPr>
        <p:blipFill>
          <a:blip r:embed="rId1"/>
          <a:stretch/>
        </p:blipFill>
        <p:spPr>
          <a:xfrm>
            <a:off x="0" y="0"/>
            <a:ext cx="190512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0246067922"/>
          <p:cNvPicPr/>
          <p:nvPr/>
        </p:nvPicPr>
        <p:blipFill>
          <a:blip r:embed="rId2"/>
          <a:stretch/>
        </p:blipFill>
        <p:spPr>
          <a:xfrm>
            <a:off x="7086600" y="3886200"/>
            <a:ext cx="205740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200px-Tropinin-self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04"/>
          <p:cNvPicPr/>
          <p:nvPr/>
        </p:nvPicPr>
        <p:blipFill>
          <a:blip r:embed="rId2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172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В.А. Тропинин (1776- 1857). Автопортре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rusalky01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99cc"/>
                </a:solidFill>
                <a:latin typeface="Tahoma"/>
              </a:rPr>
              <a:t>В.А. Тропинин. Портрет А.С. Пушкина (1827 год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486400" y="16002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«Сходство портрета с подлинником поразительно, хотя кажется, что художник не мог совершенно схватить быстроты взгляда и живого выражения лиц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     </a:t>
            </a: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Н.А. Полев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000015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kiprenskijoresst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41148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cc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0099cc"/>
                </a:solidFill>
                <a:latin typeface="Tahoma"/>
              </a:rPr>
              <a:t>О.А. Кипренский (1782 – 1836).    Автопортрет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5304"/>
          <p:cNvPicPr/>
          <p:nvPr/>
        </p:nvPicPr>
        <p:blipFill>
          <a:blip r:embed="rId1"/>
          <a:stretch/>
        </p:blipFill>
        <p:spPr>
          <a:xfrm>
            <a:off x="0" y="-152280"/>
            <a:ext cx="5181480" cy="70102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2004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Tahoma"/>
              </a:rPr>
              <a:t>О.А. Кипренский. Портрет А.С. Пушкина (1827 год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09720" y="914040"/>
            <a:ext cx="3581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99cc"/>
                </a:solidFill>
                <a:latin typeface="Tahoma"/>
              </a:rPr>
              <a:t>«</a:t>
            </a: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Кипренский очень удачно уловляет сходство: это качество - отличительная черта в портрете Пушкина, им недавно написанного: мастерское произведение! …художник вполне выразил в его взоре светлый луч высоких творческих дум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          </a:t>
            </a: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Н.А. Полев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pero"/>
          <p:cNvPicPr/>
          <p:nvPr/>
        </p:nvPicPr>
        <p:blipFill>
          <a:blip r:embed="rId1"/>
          <a:stretch/>
        </p:blipFill>
        <p:spPr>
          <a:xfrm>
            <a:off x="0" y="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0246067922"/>
          <p:cNvPicPr/>
          <p:nvPr/>
        </p:nvPicPr>
        <p:blipFill>
          <a:blip r:embed="rId2"/>
          <a:stretch/>
        </p:blipFill>
        <p:spPr>
          <a:xfrm>
            <a:off x="7315200" y="4343400"/>
            <a:ext cx="1828800" cy="2514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i="1" lang="ru-RU" sz="3600" spc="-1" strike="noStrike">
                <a:solidFill>
                  <a:srgbClr val="0099cc"/>
                </a:solidFill>
                <a:latin typeface="Monotype Corsiva"/>
              </a:rPr>
              <a:t>Себя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как в зеркале я вижу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Но это зеркало мне льстит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Оно гласит, что не униж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Пристрастья важных </a:t>
            </a:r>
            <a:r>
              <a:rPr b="0" i="1" lang="ru-RU" sz="3600" spc="-1" strike="noStrike">
                <a:solidFill>
                  <a:srgbClr val="0099cc"/>
                </a:solidFill>
                <a:latin typeface="Monotype Corsiva"/>
              </a:rPr>
              <a:t>аонид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Так, Риму, Дрездену, Париж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Известен впредь мой будет вид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А.С. Пушкин. «Кипренскому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Tahoma"/>
              </a:rPr>
              <a:t>Аониды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- муз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9-22T12:17:5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