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6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35.jpeg" ContentType="image/jpeg"/>
  <Override PartName="/ppt/media/image5.jpeg" ContentType="image/jpeg"/>
  <Override PartName="/ppt/media/image26.jpeg" ContentType="image/jpeg"/>
  <Override PartName="/ppt/media/image20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00C1-8366-4A91-AB0C-DED78E0F44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F936-DC73-480B-99E4-CCEF63B21A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A363-7A44-4A57-BEE9-0092709199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8590-2E72-44B6-A771-922D6819CD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29A-BF0B-4A2D-8274-932F2C50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713-BBA9-4289-A51B-154F8EBC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BAE-0F7E-47C4-8D7A-A4C7551D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07F-63F1-4E97-836F-C3764010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D09-6523-4205-8630-A1149473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86A-2A54-470D-AFE7-AFA0CC8F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731-1859-4DBC-A242-AE2A70BE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794-5D52-4AB9-9142-3A3BBAA2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14A-D237-40D0-B5AE-C5CFC6F6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A37-FEEB-4BFB-90EB-C0F30497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FE2-2839-4212-92AF-58EB9FFE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7C6-210A-4111-8425-093AC24A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7923-D7B4-45B4-8A20-D790AE0B1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0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atushkov.ru/gallery.shtml" TargetMode="External"/><Relationship Id="rId2" Type="http://schemas.openxmlformats.org/officeDocument/2006/relationships/hyperlink" Target="http://www.litra.ru/biography/get/biid/00723591257068437850/" TargetMode="External"/><Relationship Id="rId3" Type="http://schemas.openxmlformats.org/officeDocument/2006/relationships/hyperlink" Target="http://blogs.privet.ru/community/Besetka" TargetMode="External"/><Relationship Id="rId4" Type="http://schemas.openxmlformats.org/officeDocument/2006/relationships/hyperlink" Target="http://www.yuga.ru/news/67580/" TargetMode="External"/><Relationship Id="rId5" Type="http://schemas.openxmlformats.org/officeDocument/2006/relationships/hyperlink" Target="http://2podrugi.ru/lastnews/page/3/" TargetMode="External"/><Relationship Id="rId6" Type="http://schemas.openxmlformats.org/officeDocument/2006/relationships/hyperlink" Target="http://aquatic.donetsk.ua/gallery.php?dir=photo/star/&amp;category" TargetMode="External"/><Relationship Id="rId7" Type="http://schemas.openxmlformats.org/officeDocument/2006/relationships/hyperlink" Target="http://www.liveinternet.ru/users/2756018/post115141455/" TargetMode="External"/><Relationship Id="rId8" Type="http://schemas.openxmlformats.org/officeDocument/2006/relationships/hyperlink" Target="http://pushkinpoetry.ru/gallery.htm" TargetMode="External"/><Relationship Id="rId9" Type="http://schemas.openxmlformats.org/officeDocument/2006/relationships/hyperlink" Target="http://www.art-catalog.ru/picture.php?id_picture=10740" TargetMode="External"/><Relationship Id="rId10" Type="http://schemas.openxmlformats.org/officeDocument/2006/relationships/hyperlink" Target="http://www.artboom.ru/modules/shop/cat_388_105.html" TargetMode="External"/><Relationship Id="rId11" Type="http://schemas.openxmlformats.org/officeDocument/2006/relationships/hyperlink" Target="http://john-petrov.livejournal.com/" TargetMode="External"/><Relationship Id="rId12" Type="http://schemas.openxmlformats.org/officeDocument/2006/relationships/hyperlink" Target="http://literatura-totl88.narod.ru/photoalbum.html" TargetMode="External"/><Relationship Id="rId13" Type="http://schemas.openxmlformats.org/officeDocument/2006/relationships/hyperlink" Target="http://angellsudeki.beon.ru/8641-543-kartiny-aivazovskogo.zhtml" TargetMode="External"/><Relationship Id="rId14" Type="http://schemas.openxmlformats.org/officeDocument/2006/relationships/hyperlink" Target="http://sales-books.by.ru/maikov-30apr01.htm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2560" y="2114640"/>
            <a:ext cx="7785000" cy="149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8760" y="3429000"/>
            <a:ext cx="82152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Стихотворения русских поэтов о приро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Бродягина Ольга Семёнов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учитель МОУ Улётовская С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майков.jpg"/>
          <p:cNvPicPr/>
          <p:nvPr/>
        </p:nvPicPr>
        <p:blipFill>
          <a:blip r:embed="rId1"/>
          <a:stretch/>
        </p:blipFill>
        <p:spPr>
          <a:xfrm>
            <a:off x="214200" y="214200"/>
            <a:ext cx="2791080" cy="3714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28760" y="2143080"/>
            <a:ext cx="361152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Calibri"/>
              </a:rPr>
              <a:t>Аполлон Михайлович Майк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7" descr="осень.jpg"/>
          <p:cNvPicPr/>
          <p:nvPr/>
        </p:nvPicPr>
        <p:blipFill>
          <a:blip r:embed="rId2"/>
          <a:stretch/>
        </p:blipFill>
        <p:spPr>
          <a:xfrm>
            <a:off x="3857760" y="0"/>
            <a:ext cx="52862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ласточки.jpg"/>
          <p:cNvPicPr/>
          <p:nvPr/>
        </p:nvPicPr>
        <p:blipFill>
          <a:blip r:embed="rId3"/>
          <a:stretch/>
        </p:blipFill>
        <p:spPr>
          <a:xfrm>
            <a:off x="385776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4" nodeType="afterEffect" fill="hold" presetClass="entr" presetID="5" presetSubtype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тихотворения Аполлона Майкова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«Пейзаж», «Ласточ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Что сближает эти два стихотворения? Чем они отличаю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Какое стихотворение больше понравилось?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арисуй то, что ты представляешь при чтении стихотвор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палитра.jpeg"/>
          <p:cNvPicPr/>
          <p:nvPr/>
        </p:nvPicPr>
        <p:blipFill>
          <a:blip r:embed="rId1"/>
          <a:stretch/>
        </p:blipFill>
        <p:spPr>
          <a:xfrm>
            <a:off x="4505400" y="5241960"/>
            <a:ext cx="5802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бальмонт.jpg"/>
          <p:cNvPicPr/>
          <p:nvPr/>
        </p:nvPicPr>
        <p:blipFill>
          <a:blip r:embed="rId1"/>
          <a:stretch/>
        </p:blipFill>
        <p:spPr>
          <a:xfrm>
            <a:off x="633240" y="208080"/>
            <a:ext cx="2659320" cy="3510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400" y="1600200"/>
            <a:ext cx="40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Констант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Дмитриевич Бальмо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зелень.jpg"/>
          <p:cNvPicPr/>
          <p:nvPr/>
        </p:nvPicPr>
        <p:blipFill>
          <a:blip r:embed="rId2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9" descr=""/>
          <p:cNvPicPr/>
          <p:nvPr/>
        </p:nvPicPr>
        <p:blipFill>
          <a:blip r:embed="rId3"/>
          <a:stretch/>
        </p:blipFill>
        <p:spPr>
          <a:xfrm>
            <a:off x="4138560" y="5999040"/>
            <a:ext cx="5011920" cy="541440"/>
          </a:xfrm>
          <a:prstGeom prst="rect">
            <a:avLst/>
          </a:prstGeom>
          <a:ln w="0">
            <a:noFill/>
          </a:ln>
        </p:spPr>
      </p:pic>
      <p:sp>
        <p:nvSpPr>
          <p:cNvPr id="96" name="Вертикальный свиток 11"/>
          <p:cNvSpPr/>
          <p:nvPr/>
        </p:nvSpPr>
        <p:spPr>
          <a:xfrm>
            <a:off x="0" y="0"/>
            <a:ext cx="4572000" cy="6286680"/>
          </a:xfrm>
          <a:prstGeom prst="vertic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Найди  в стихотворении  Бальмонта подтверждение тому, что родной край обладает для поэта притягательной си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 чем заклю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смысл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3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3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р..jpeg"/>
          <p:cNvPicPr/>
          <p:nvPr/>
        </p:nvPicPr>
        <p:blipFill>
          <a:blip r:embed="rId1"/>
          <a:stretch/>
        </p:blipFill>
        <p:spPr>
          <a:xfrm>
            <a:off x="857160" y="357120"/>
            <a:ext cx="1905120" cy="2629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00040" y="2174760"/>
            <a:ext cx="35402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Николай Иванови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Рылен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7" descr="тая.jpeg"/>
          <p:cNvPicPr/>
          <p:nvPr/>
        </p:nvPicPr>
        <p:blipFill>
          <a:blip r:embed="rId2"/>
          <a:stretch/>
        </p:blipFill>
        <p:spPr>
          <a:xfrm>
            <a:off x="3571920" y="0"/>
            <a:ext cx="55720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8" descr=""/>
          <p:cNvPicPr/>
          <p:nvPr/>
        </p:nvPicPr>
        <p:blipFill>
          <a:blip r:embed="rId3"/>
          <a:stretch/>
        </p:blipFill>
        <p:spPr>
          <a:xfrm>
            <a:off x="4632480" y="2030400"/>
            <a:ext cx="3779640" cy="4151160"/>
          </a:xfrm>
          <a:prstGeom prst="rect">
            <a:avLst/>
          </a:prstGeom>
          <a:ln w="0">
            <a:noFill/>
          </a:ln>
        </p:spPr>
      </p:pic>
      <p:sp>
        <p:nvSpPr>
          <p:cNvPr id="101" name="Блок-схема: документ 13"/>
          <p:cNvSpPr/>
          <p:nvPr/>
        </p:nvSpPr>
        <p:spPr>
          <a:xfrm>
            <a:off x="214200" y="3786120"/>
            <a:ext cx="3500640" cy="2714760"/>
          </a:xfrm>
          <a:prstGeom prst="flowChartDocumen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О каких особенностях русской природы написал Н. Рыленков в своём стихотвор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Что помогло поэту открыть эти особен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ПРОВЕРЬ 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3840" y="99972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.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А.С. Пушкин написал стихотворение «Пейзаж»?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НЕТ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2. В стихотворении А.С. Пушкина «Обвал» описывается природа Кавказа?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Д А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3. Как хорошо ты, о море дневно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….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НЕТ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4. Автор стихотворения «Есть в осен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первоначальной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…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Ф.И. Тютчев?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5. Стихотворение  «Ласточки» начинается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Люблю дорожкою лесною…»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6.  Стихотворение К. Бальмонта заканчивается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Я льну к прохладе серебра»?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     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7.  «Увидеть», «услышать», «вслушаться». Все ли глаголы, использованные в стихотворении Н. Рыленкова,  перечислены?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НЕТ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8.  Поэты зачарованы русской природой?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AutoShape 3"/>
          <p:cNvGrpSpPr/>
          <p:nvPr/>
        </p:nvGrpSpPr>
        <p:grpSpPr>
          <a:xfrm>
            <a:off x="7107120" y="1249200"/>
            <a:ext cx="933480" cy="787680"/>
            <a:chOff x="7107120" y="1249200"/>
            <a:chExt cx="933480" cy="787680"/>
          </a:xfrm>
        </p:grpSpPr>
        <p:pic>
          <p:nvPicPr>
            <p:cNvPr id="105" name="AutoShape 3" descr=""/>
            <p:cNvPicPr/>
            <p:nvPr/>
          </p:nvPicPr>
          <p:blipFill>
            <a:blip r:embed="rId1"/>
            <a:stretch/>
          </p:blipFill>
          <p:spPr>
            <a:xfrm>
              <a:off x="7107120" y="1249200"/>
              <a:ext cx="93348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327800" y="1495440"/>
              <a:ext cx="479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4"/>
          <p:cNvGrpSpPr/>
          <p:nvPr/>
        </p:nvGrpSpPr>
        <p:grpSpPr>
          <a:xfrm>
            <a:off x="5035680" y="3035160"/>
            <a:ext cx="858600" cy="714600"/>
            <a:chOff x="5035680" y="3035160"/>
            <a:chExt cx="858600" cy="714600"/>
          </a:xfrm>
        </p:grpSpPr>
        <p:pic>
          <p:nvPicPr>
            <p:cNvPr id="108" name="AutoShape 4" descr=""/>
            <p:cNvPicPr/>
            <p:nvPr/>
          </p:nvPicPr>
          <p:blipFill>
            <a:blip r:embed="rId2"/>
            <a:stretch/>
          </p:blipFill>
          <p:spPr>
            <a:xfrm>
              <a:off x="5035680" y="3035160"/>
              <a:ext cx="8586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240160" y="3259080"/>
              <a:ext cx="4399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5"/>
          <p:cNvGrpSpPr/>
          <p:nvPr/>
        </p:nvGrpSpPr>
        <p:grpSpPr>
          <a:xfrm>
            <a:off x="6168960" y="3681360"/>
            <a:ext cx="1170000" cy="635040"/>
            <a:chOff x="6168960" y="3681360"/>
            <a:chExt cx="1170000" cy="635040"/>
          </a:xfrm>
        </p:grpSpPr>
        <p:pic>
          <p:nvPicPr>
            <p:cNvPr id="111" name="AutoShape 5" descr=""/>
            <p:cNvPicPr/>
            <p:nvPr/>
          </p:nvPicPr>
          <p:blipFill>
            <a:blip r:embed="rId3"/>
            <a:stretch/>
          </p:blipFill>
          <p:spPr>
            <a:xfrm>
              <a:off x="6168960" y="3681360"/>
              <a:ext cx="11700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445080" y="3881520"/>
              <a:ext cx="5986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6"/>
          <p:cNvGrpSpPr/>
          <p:nvPr/>
        </p:nvGrpSpPr>
        <p:grpSpPr>
          <a:xfrm>
            <a:off x="6102360" y="4395960"/>
            <a:ext cx="944640" cy="639720"/>
            <a:chOff x="6102360" y="4395960"/>
            <a:chExt cx="944640" cy="639720"/>
          </a:xfrm>
        </p:grpSpPr>
        <p:pic>
          <p:nvPicPr>
            <p:cNvPr id="114" name="AutoShape 6" descr=""/>
            <p:cNvPicPr/>
            <p:nvPr/>
          </p:nvPicPr>
          <p:blipFill>
            <a:blip r:embed="rId4"/>
            <a:stretch/>
          </p:blipFill>
          <p:spPr>
            <a:xfrm>
              <a:off x="6102360" y="4395960"/>
              <a:ext cx="944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327720" y="4595760"/>
              <a:ext cx="4795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7"/>
          <p:cNvGrpSpPr/>
          <p:nvPr/>
        </p:nvGrpSpPr>
        <p:grpSpPr>
          <a:xfrm>
            <a:off x="4164120" y="5327640"/>
            <a:ext cx="1176120" cy="555480"/>
            <a:chOff x="4164120" y="5327640"/>
            <a:chExt cx="1176120" cy="555480"/>
          </a:xfrm>
        </p:grpSpPr>
        <p:pic>
          <p:nvPicPr>
            <p:cNvPr id="117" name="AutoShape 7" descr=""/>
            <p:cNvPicPr/>
            <p:nvPr/>
          </p:nvPicPr>
          <p:blipFill>
            <a:blip r:embed="rId5"/>
            <a:stretch/>
          </p:blipFill>
          <p:spPr>
            <a:xfrm>
              <a:off x="4164120" y="5327640"/>
              <a:ext cx="117612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444920" y="5504040"/>
              <a:ext cx="5986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8"/>
          <p:cNvGrpSpPr/>
          <p:nvPr/>
        </p:nvGrpSpPr>
        <p:grpSpPr>
          <a:xfrm>
            <a:off x="6602400" y="5608800"/>
            <a:ext cx="1157400" cy="779400"/>
            <a:chOff x="6602400" y="5608800"/>
            <a:chExt cx="1157400" cy="779400"/>
          </a:xfrm>
        </p:grpSpPr>
        <p:pic>
          <p:nvPicPr>
            <p:cNvPr id="120" name="AutoShape 8" descr=""/>
            <p:cNvPicPr/>
            <p:nvPr/>
          </p:nvPicPr>
          <p:blipFill>
            <a:blip r:embed="rId6"/>
            <a:stretch/>
          </p:blipFill>
          <p:spPr>
            <a:xfrm>
              <a:off x="6602400" y="5608800"/>
              <a:ext cx="11574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873840" y="5853240"/>
              <a:ext cx="5986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9"/>
          <p:cNvGrpSpPr/>
          <p:nvPr/>
        </p:nvGrpSpPr>
        <p:grpSpPr>
          <a:xfrm>
            <a:off x="6235560" y="2395440"/>
            <a:ext cx="1171800" cy="633600"/>
            <a:chOff x="6235560" y="2395440"/>
            <a:chExt cx="1171800" cy="633600"/>
          </a:xfrm>
        </p:grpSpPr>
        <p:pic>
          <p:nvPicPr>
            <p:cNvPr id="123" name="AutoShape 9" descr=""/>
            <p:cNvPicPr/>
            <p:nvPr/>
          </p:nvPicPr>
          <p:blipFill>
            <a:blip r:embed="rId7"/>
            <a:stretch/>
          </p:blipFill>
          <p:spPr>
            <a:xfrm>
              <a:off x="6235560" y="2395440"/>
              <a:ext cx="11718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516720" y="2595600"/>
              <a:ext cx="5983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10"/>
          <p:cNvGrpSpPr/>
          <p:nvPr/>
        </p:nvGrpSpPr>
        <p:grpSpPr>
          <a:xfrm>
            <a:off x="5089680" y="2109960"/>
            <a:ext cx="1182600" cy="560160"/>
            <a:chOff x="5089680" y="2109960"/>
            <a:chExt cx="1182600" cy="560160"/>
          </a:xfrm>
        </p:grpSpPr>
        <p:pic>
          <p:nvPicPr>
            <p:cNvPr id="126" name="AutoShape 10" descr=""/>
            <p:cNvPicPr/>
            <p:nvPr/>
          </p:nvPicPr>
          <p:blipFill>
            <a:blip r:embed="rId8"/>
            <a:stretch/>
          </p:blipFill>
          <p:spPr>
            <a:xfrm>
              <a:off x="5089680" y="2109960"/>
              <a:ext cx="1182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373720" y="2289240"/>
              <a:ext cx="5983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9976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Выучи понравившееся стихотворение наизу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а выбор: нарисуй словом ( в стихах или прозе) одну из картин природы; нарисуй красками любую картину прир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ef70c2d57c0fcf4303343c866a626210.jpg"/>
          <p:cNvPicPr/>
          <p:nvPr/>
        </p:nvPicPr>
        <p:blipFill>
          <a:blip r:embed="rId1"/>
          <a:stretch/>
        </p:blipFill>
        <p:spPr>
          <a:xfrm>
            <a:off x="4714920" y="4286160"/>
            <a:ext cx="2076480" cy="23526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1191269140_c4121.jpg"/>
          <p:cNvPicPr/>
          <p:nvPr/>
        </p:nvPicPr>
        <p:blipFill>
          <a:blip r:embed="rId2"/>
          <a:stretch/>
        </p:blipFill>
        <p:spPr>
          <a:xfrm>
            <a:off x="2143080" y="4286160"/>
            <a:ext cx="2133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спользованные 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Батюшкова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atushkov.ru/gallery.s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Баратынского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litra.ru/biography/get/biid/00723591257068437850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вездное небо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blogs.privet.ru/community/Besetk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оры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uga.ru/news/67580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одопад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2podrugi.ru/lastnews/page/3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пь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aquatic.donetsk.ua/gallery.php?dir=photo/star/&amp;category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оре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iveinternet.ru/users/2756018/post115141455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А.С. Пушкина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pushkinpoetry.ru/gallery.ht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ерещагин. На Кавказе.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art-catalog.ru/picture.php?id_picture=107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ещерский. Кавказ.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artboom.ru/modules/shop/cat_388_105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 Киселёв. Горный пейзаж.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john-petrov.livejournal.com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Ф.И. Тютчева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literatura-totl88.narod.ru/photoalbum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йвазовский. Морской вид.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angellsudeki.beon.ru/8641-543-kartiny-aivazovskogo.z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Аполллона  Майкова.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sales-books.by.ru/maikov-30apr01.ht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сенний пейзаж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paintingofrussia.com/gallery_artist_all_big.php?id=6&amp;sort=3&amp;page=&amp;sold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Ласточки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cards.yandex.ru/us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алитра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web2me.ru/page/21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Бальмонта Константина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balmont.net.ru/lib-sa-avtor-37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. Ост роухов. Первая зелень.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ttp://gorod.tomsk.ru/index-1206505481.ph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Н. Рыленкова.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ttp://mir.pravo.by/library/azbuka/mhk/grazdani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 в тающей дымке.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tp://fotki.yandex.ru/users/lesya-denisova/view/36848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ртинки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sunhome.ru/tags/images/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крыт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85680" y="268200"/>
            <a:ext cx="8972640" cy="1463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Я ближнего люблю, но ты, природа-м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Для сердца ты всего дороже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К. Н. Батюш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2920" y="1571760"/>
            <a:ext cx="40388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 дом отеческий! О край, всегда любимы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Е.А. Баратын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бат..jpg"/>
          <p:cNvPicPr/>
          <p:nvPr/>
        </p:nvPicPr>
        <p:blipFill>
          <a:blip r:embed="rId2"/>
          <a:stretch/>
        </p:blipFill>
        <p:spPr>
          <a:xfrm>
            <a:off x="357120" y="3929040"/>
            <a:ext cx="2505240" cy="2790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барат..jpg"/>
          <p:cNvPicPr/>
          <p:nvPr/>
        </p:nvPicPr>
        <p:blipFill>
          <a:blip r:embed="rId3"/>
          <a:stretch/>
        </p:blipFill>
        <p:spPr>
          <a:xfrm>
            <a:off x="6143760" y="1643040"/>
            <a:ext cx="2361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звезд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горы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водопад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степь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море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Цель урока: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аботать над текстами произведений русских поэтов о природ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лександр Сергеевич Пуш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Федор Иванович Тютч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поллон Николаевич Май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Константин Дмитриевич Бальмо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Николай Иванович Рылен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7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пушкин.jpg"/>
          <p:cNvPicPr/>
          <p:nvPr/>
        </p:nvPicPr>
        <p:blipFill>
          <a:blip r:embed="rId1"/>
          <a:stretch/>
        </p:blipFill>
        <p:spPr>
          <a:xfrm>
            <a:off x="214200" y="214200"/>
            <a:ext cx="271476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00240" y="0"/>
            <a:ext cx="56865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«Я шёл пешком и поминутно останавливался, пораженный мрачною прелестью природы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»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А.С. Пушкин. Путешествие в Арзр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12" descr="верещагин.jpg"/>
          <p:cNvPicPr/>
          <p:nvPr/>
        </p:nvPicPr>
        <p:blipFill>
          <a:blip r:embed="rId2"/>
          <a:stretch/>
        </p:blipFill>
        <p:spPr>
          <a:xfrm>
            <a:off x="328608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-360" y="3857400"/>
            <a:ext cx="31431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Чем любовался великий русский поэт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 каких  стихотворениях  А.С. Пушкин воспевает красоту природы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Прямоугольник 14" descr=""/>
          <p:cNvPicPr/>
          <p:nvPr/>
        </p:nvPicPr>
        <p:blipFill>
          <a:blip r:embed="rId3"/>
          <a:stretch/>
        </p:blipFill>
        <p:spPr>
          <a:xfrm>
            <a:off x="3852720" y="5992920"/>
            <a:ext cx="4011840" cy="5475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4" descr="кавказ.jpeg"/>
          <p:cNvPicPr/>
          <p:nvPr/>
        </p:nvPicPr>
        <p:blipFill>
          <a:blip r:embed="rId4"/>
          <a:stretch/>
        </p:blipFill>
        <p:spPr>
          <a:xfrm>
            <a:off x="3286080" y="0"/>
            <a:ext cx="58579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8"/>
          <p:cNvSpPr/>
          <p:nvPr/>
        </p:nvSpPr>
        <p:spPr>
          <a:xfrm>
            <a:off x="3429000" y="619920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Calibri"/>
              </a:rPr>
              <a:t>А. Мещерский. 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А.С. Пушкин. Обв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 rot="21313800">
            <a:off x="272520" y="1283760"/>
            <a:ext cx="437832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удожественное простран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Мрачные  ск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олнистая м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ершины г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бв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Тер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Сне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Бере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 rot="773400">
            <a:off x="4887720" y="1586880"/>
            <a:ext cx="4005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удожественн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Пеня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Крича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Ропщ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Блещу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Сорвал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Загороди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Останови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Прерва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Затопи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Лежа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Ороша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редства выразительности в стихотворении А.С. Пушкина «Обва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айдите в тексте стихотвор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 Олицетво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Средства звукописи ( аллитерацию и ассонан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Анафо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kiselev_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1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Какие строки пушкинского стихотворения может проиллюстрировать эта репродукция  картины А.Киселёва «Горный пейзаж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2174760"/>
            <a:ext cx="5214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ттоль сорвался раз обва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И с тяжким грохотом упа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И всю теснину между скал   Загороди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И  Терека могучий в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станов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тютчев.jpg"/>
          <p:cNvPicPr/>
          <p:nvPr/>
        </p:nvPicPr>
        <p:blipFill>
          <a:blip r:embed="rId1"/>
          <a:stretch/>
        </p:blipFill>
        <p:spPr>
          <a:xfrm>
            <a:off x="142920" y="285840"/>
            <a:ext cx="3400560" cy="4286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85480" y="1599840"/>
            <a:ext cx="35002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Федор Иванович Тютче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И. Айвазовский. Морск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ви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5" descr="морской вид.jpeg"/>
          <p:cNvPicPr/>
          <p:nvPr/>
        </p:nvPicPr>
        <p:blipFill>
          <a:blip r:embed="rId2"/>
          <a:stretch/>
        </p:blipFill>
        <p:spPr>
          <a:xfrm>
            <a:off x="3714840" y="0"/>
            <a:ext cx="542916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9" descr=""/>
          <p:cNvPicPr/>
          <p:nvPr/>
        </p:nvPicPr>
        <p:blipFill>
          <a:blip r:embed="rId3"/>
          <a:stretch/>
        </p:blipFill>
        <p:spPr>
          <a:xfrm>
            <a:off x="4280040" y="1889280"/>
            <a:ext cx="428436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Федор Иванович Тютчев. «Как хорошо ты, о море ночное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йдите в тексте стихотворения с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словно живое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йдите в тексте риторические обра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…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о море ночное,…зыбь ты великая, зыбь ты морска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йдите риторическое восклицание и риторический во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ак хорошо ты в безлюдье ночн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Чей это праздник так празднуешь 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9-29T08:12:49Z</dcterms:modified>
  <cp:revision>58</cp:revision>
  <dc:subject/>
  <dc:title>ПОЭЗИЯ ПРИРОДЫ</dc:title>
</cp:coreProperties>
</file>