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F92-B13C-48D9-B8D4-756DB378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83E-F199-492F-803C-05807EF1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A39-CEF8-4928-A5E2-DB0E04DA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430-D89E-4390-96E6-BE818E83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6F2F-5202-4EB7-A586-D764B36E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B571-82BE-404C-9390-B1BCD8C5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53FF-09EC-495A-9DD6-311562C1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6398-9449-48DC-AF93-D71F2BFB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2384-9F7A-4F47-A54A-76459264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3147-3B95-4FF6-A4EC-59D54AD2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6BBD-8CC0-49FE-B15B-3628EE9B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594-ADA2-4E29-8BA4-A4B01169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CAFC-AA62-499C-9FE2-52DC4A2F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3B2B-3495-44B5-ACFF-5D69A9F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7D4B-2CCB-40B0-8B9C-55D9DD47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C877-E4BF-4E94-B6D7-7F86D803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5A58-16AA-4C1D-A1A2-250C95C8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574-4A9F-4346-BCA7-64B016BB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0EC-BAA2-428F-9A50-0DB006DF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794-F15A-4D57-83E0-16A2EBD7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4C3-0F4F-4DE5-AC4D-2C8D3F4C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434-3ACB-40ED-8D75-EADA357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6D7-F62A-4893-8EB5-E6A3BD4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3E4-50E2-463B-88A6-69D13E4C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2E88-B9AA-4D76-A758-7ED4400F77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B5B5-C789-4EE1-9966-36157C60FD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В НИКОЛАЕВИЧ ТОЛСТ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28 – 19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41936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Смысловой рисунок бала (праздник, событи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н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зы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сивая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гов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а, шампанс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ки на лиц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икет празд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лирт, сплет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ветопись (разноцветье, яркост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429000" cy="472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1549800">
            <a:off x="5181120" y="1447920"/>
            <a:ext cx="304812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.А. Корейш – прототип Варе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лементы женского наряда 19 ве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81080" y="1752480"/>
            <a:ext cx="5486400" cy="3886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щеное воскресе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ремя и простран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ист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недель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2520" y="12952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ледний день              маслениц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ликий  пос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29492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5257800"/>
            <a:ext cx="91440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33760" y="1523880"/>
            <a:ext cx="106668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181840" cy="6172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«Вся зала следила за каждым движением пары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Утро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(наказани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ре, стра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ой, поряд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л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укопи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ветопись ( черно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981080"/>
            <a:ext cx="3200400" cy="2133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ратцы! Помилосердуйт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876560" y="3733920"/>
            <a:ext cx="6094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23720" y="335268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43200" y="304812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038120" y="2514240"/>
            <a:ext cx="11430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190760" y="1904760"/>
            <a:ext cx="11430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Полковник после ба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Композиционный прием рассказа - антитез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титеза – противопоставление понятий или явлений. Антитеза усиливает эмоциональную окраску речи, подчеркивает высказанную с её помощью мыс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принципу антитезы построен рассказ «После бал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Полковник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    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Наказуемы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сокий военный, в шинели и фураж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ел твердой, подпрыгивающей походк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мяное лицо и белые усы и бакенбар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вердым шагом двигалась высокая статная фиг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голённый по пояс человек, привязанный к ружьям. Спина его – что-то пестрое, мокр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ргаясь всем телом, шлёпая ногами по талому снегу… толкали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морщенное от страдания лиц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отыкающийся, корчащийся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Два закона в рассказ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авны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438280"/>
            <a:ext cx="274320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ж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514600"/>
            <a:ext cx="266724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лове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14600" y="1295280"/>
            <a:ext cx="9144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1371600"/>
            <a:ext cx="685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3733920"/>
            <a:ext cx="9903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334120" y="3809880"/>
            <a:ext cx="83808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Варианты заглавий расск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Рассказ о бале и сквозь стро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Отец и доч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Дочь и отец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А вы говорит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После бал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Чем обосновывается изменение назва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чему автор остановился на последне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562720" cy="6477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Николай Первый и эпоха его правления 1819 – 1855 гг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c0000"/>
                </a:solidFill>
                <a:latin typeface="Tahoma"/>
              </a:rPr>
              <a:t>Наказание шпицрутенам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20944200">
            <a:off x="636480" y="301320"/>
            <a:ext cx="3353040" cy="525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5029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Николай Первый</a:t>
            </a:r>
            <a:br>
              <a:rPr sz="4400"/>
            </a:b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 («Николай Палкин»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Композиция расск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ту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ча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 б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631800">
            <a:off x="5105160" y="1828800"/>
            <a:ext cx="2611440" cy="446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в последний день масленицы..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 бале у губернского предводителя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0T11:58:2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