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235-EF9E-43B2-B2DD-D3C9433B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BB9-DBEF-4A6B-A8D2-801933E6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8B0-258F-441F-8314-E3499E32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069-F9E0-4DF8-99EB-AA3F8196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E8B7-E3D2-4584-BF7B-E747EB09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7646-66ED-435F-ACC2-45896C7C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C723-1696-491E-9544-EEA09D25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3E03-F1C3-47D5-9C34-46F2092E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82CF-7F90-42A8-8737-205517BC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D779-4249-494C-820F-20FF87E3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D4F4-7BA2-4096-98D6-62722D70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F3B6-4E50-4F5A-9F11-7A0BE436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1074-2818-4B54-BFE8-C32E1281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F502-DED4-4934-9F5F-0466B454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00A0-A475-4A6F-803A-B0C37903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143A-D09D-4BC5-B99F-9F72A96B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F49C-4F8C-4A26-B735-3C82DA78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81C-D33D-4E97-B18B-8F6B1515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F311-E7CD-43B2-9348-F36E32FD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89D-6BCC-4FF7-836B-9EB57049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002-179C-43A5-8FD9-77A0D0B5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515-DD0C-4DB0-983D-E2D76B0F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559-751B-4A7E-BD09-5FFCF45A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1F2-55BC-4255-8FD4-094DB21A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B1B6-F8DE-48F9-8500-61D3ECD0161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0AAF-B526-4E45-9A17-EE67D28CD8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В НИКОЛАЕВИЧ ТОЛСТО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28 – 191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419360" cy="548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Смысловой рисунок бала (праздник, событие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ан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узы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асивая одеж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гово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да, шампанск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ски на лиц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икет празд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лирт, сплет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ветопись (разноцветье, яркость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3429000" cy="4724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 rot="1549800">
            <a:off x="5181120" y="1447920"/>
            <a:ext cx="3048120" cy="3124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.А. Корейш – прототип Варень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лементы женского наряда 19 ве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81080" y="1752480"/>
            <a:ext cx="5486400" cy="3886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щеное воскресен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ремя и пространст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ист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недель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2520" y="129528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следний день              маслениц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ликий  пос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29492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5257800"/>
            <a:ext cx="91440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333760" y="1523880"/>
            <a:ext cx="106668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181840" cy="6172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«Вся зала следила за каждым движением пары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Утро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(наказание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ре, страд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ой, поряд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л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вукопи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ветопись ( черно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1981080"/>
            <a:ext cx="3200400" cy="2133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ратцы! Помилосердуйт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876560" y="3733920"/>
            <a:ext cx="6094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123720" y="335268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743200" y="304812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038120" y="2514240"/>
            <a:ext cx="11430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4190760" y="1904760"/>
            <a:ext cx="11430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486400" cy="5257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Полковник после бал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Композиционный прием рассказа - антитез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титеза – противопоставление понятий или явлений. Антитеза усиливает эмоциональную окраску речи, подчеркивает высказанную с её помощью мыс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 принципу антитезы построен рассказ «После бал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Полковник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        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Наказуемы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сокий военный, в шинели и фураж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Шел твердой, подпрыгивающей походк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умяное лицо и белые усы и бакенбар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вердым шагом двигалась высокая статная фиг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голённый по пояс человек, привязанный к ружьям. Спина его – что-то пестрое, мокр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ргаясь всем телом, шлёпая ногами по талому снегу… толкали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морщенное от страдания лиц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потыкающийся, корчащийся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Два закона в рассказ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ой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лавны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438280"/>
            <a:ext cx="274320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ж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2514600"/>
            <a:ext cx="266724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елове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514600" y="1295280"/>
            <a:ext cx="91440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1371600"/>
            <a:ext cx="6858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3733920"/>
            <a:ext cx="99036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334120" y="3809880"/>
            <a:ext cx="83808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Варианты заглавий расск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Рассказ о бале и сквозь строй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Отец и доч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Дочь и отец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А вы говорит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После бал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Чем обосновывается изменение назва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Почему автор остановился на последне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562720" cy="6477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5028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Николай Первый и эпоха его правления 1819 – 1855 гг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c0000"/>
                </a:solidFill>
                <a:latin typeface="Tahoma"/>
              </a:rPr>
              <a:t>Наказание шпицрутенам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rot="20944200">
            <a:off x="636480" y="301320"/>
            <a:ext cx="3353040" cy="5257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5029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Николай Первый</a:t>
            </a:r>
            <a:br>
              <a:rPr sz="4400"/>
            </a:b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 («Николай Палкин»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Композиция рассказ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туп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ная ча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ле б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клю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631800">
            <a:off x="5105160" y="1828800"/>
            <a:ext cx="2611440" cy="4465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5943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в последний день масленицы..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на бале у губернского предводителя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…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0T11:58:2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