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776-B8F9-432B-A709-D26CAD2F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554-A9C1-45B2-8853-2177B130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2A8-C251-4687-9872-EAB12B98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EFC-4D27-4C5A-B0E7-361B337E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00BF-230D-42B0-96BC-67B6A445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E778-ECB7-4B81-9F94-3177B67E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D4BB-68B9-49C7-B2AA-BB217960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2BD3-D4FD-435F-9850-D03AB327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A44C-7298-4AF9-B5F1-235D5C36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210C-FED4-4A1D-8BC7-82446A4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347E-F343-42B6-A408-E112AC2B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490-8050-431B-8DE4-0CE820DC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0932-3A93-4EDB-9E6A-44456AE7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8D76-FCB8-4AF4-8D08-F42695ED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80C4-744E-449B-BB60-36837751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9D9B-AC26-4B73-9837-F0D06024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1C0D-930A-4750-A1A3-59CDF7EF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14B-9280-420E-8966-A9925400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034-E895-48D6-B6BA-FACB129A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FAA-22F4-41C6-BFEF-F941C99D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3C9-3D79-458B-9F40-0E158E16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F63-A1C0-4E72-8481-1CBC37D0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36E-2396-4CD5-BF81-E0B4E48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AC9-E199-41AE-958B-BA23A226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C780-9A93-408D-8EC2-D2D5DB99C2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3973-F86D-4621-8709-750F446F3E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В НИКОЛАЕВИЧ ТОЛСТ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28 – 19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41936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Смысловой рисунок бала (праздник, событие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н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узы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сивая одеж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гов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да, шампанс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ки на лиц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икет празд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лирт, сплет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ветопись (разноцветье, яркост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429000" cy="472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1549800">
            <a:off x="5181120" y="1447920"/>
            <a:ext cx="304812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.А. Корейш – прототип Варень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лементы женского наряда 19 ве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81080" y="1752480"/>
            <a:ext cx="5486400" cy="3886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щеное воскресен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ремя и простран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ист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недель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2520" y="12952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ледний день              маслениц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ликий  пос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29492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5257800"/>
            <a:ext cx="91440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33760" y="1523880"/>
            <a:ext cx="106668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181840" cy="6172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«Вся зала следила за каждым движением пары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Утро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(наказани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ре, стра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ой, поряд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л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вукопи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ветопись ( черно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981080"/>
            <a:ext cx="3200400" cy="2133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ратцы! Помилосердуйт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876560" y="3733920"/>
            <a:ext cx="6094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123720" y="335268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43200" y="304812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038120" y="2514240"/>
            <a:ext cx="11430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190760" y="1904760"/>
            <a:ext cx="11430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8640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Полковник после ба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Композиционный прием рассказа - антитез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титеза – противопоставление понятий или явлений. Антитеза усиливает эмоциональную окраску речи, подчеркивает высказанную с её помощью мыс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принципу антитезы построен рассказ «После бал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Полковник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    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Наказуемы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сокий военный, в шинели и фураж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ел твердой, подпрыгивающей походк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умяное лицо и белые усы и бакенбар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вердым шагом двигалась высокая статная фиг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голённый по пояс человек, привязанный к ружьям. Спина его – что-то пестрое, мокр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ргаясь всем телом, шлёпая ногами по талому снегу… толкали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морщенное от страдания лиц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отыкающийся, корчащийся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Два закона в рассказ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лавны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438280"/>
            <a:ext cx="274320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ж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514600"/>
            <a:ext cx="266724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лове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514600" y="1295280"/>
            <a:ext cx="9144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1371600"/>
            <a:ext cx="685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3733920"/>
            <a:ext cx="9903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334120" y="3809880"/>
            <a:ext cx="83808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Варианты заглавий расск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Рассказ о бале и сквозь стро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Отец и доч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Дочь и отец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А вы говорит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После бал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Чем обосновывается изменение назва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очему автор остановился на последне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562720" cy="6477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5028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Николай Первый и эпоха его правления 1819 – 1855 гг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c0000"/>
                </a:solidFill>
                <a:latin typeface="Tahoma"/>
              </a:rPr>
              <a:t>Наказание шпицрутенам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20944200">
            <a:off x="636480" y="301320"/>
            <a:ext cx="3353040" cy="5257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5029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Николай Первый</a:t>
            </a:r>
            <a:br>
              <a:rPr sz="4400"/>
            </a:b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 («Николай Палкин»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Композиция расск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туп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ая ча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 б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631800">
            <a:off x="5105160" y="1828800"/>
            <a:ext cx="2611440" cy="446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в последний день масленицы..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на бале у губернского предводителя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0T11:58:2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