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2C4-D441-456F-92D0-64437EF6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290-1D16-4105-8423-D5C12AF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EB6-4B48-4C91-9EE0-46B2DE18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1D2-4910-4745-8622-D5E8C910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F6D-99C7-4F13-B86B-E42A5D76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9D13-318C-490A-ADA3-4E8BAA29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FB20-80C2-4F7F-9FCA-903D5123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8A78-CD00-44E1-B8E3-1832F1FD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47D0-02AE-4A27-B305-F22684AB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5BEB-02F5-4CC2-AF92-09972B25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549E-B7D0-4AB4-B964-63BA9845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B4C-E042-4987-9859-451F2283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D4D4-4B4D-47A0-868F-5D9C00B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3FD6-840B-4CD6-87B2-6C7C696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CEE1-C98A-4E0A-A5C2-E770121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E41A-D8EB-4AB8-9948-B47EABB6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49C8-D05B-4A9E-BADF-D0E97CE7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728A-88B9-4DF7-8277-8E3247BC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EAAD-64B8-49AD-B8D9-96D1D23A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940C-7D8F-4A6F-B3D1-77534157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B735-D501-43E7-8406-45DD7310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41C4-76F5-4EA4-A708-8F0DC9ED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E21-15D4-498A-8C56-4C47B820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17EE-F163-498E-9E11-D3726EAE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19E2-918E-454B-87B8-8DD4300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A9A9-0B1B-40A5-9AA0-1AD9F20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29B9-65DB-45FF-8D52-BE941C3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9544-B989-4966-9656-13934683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5304-5694-4CEE-AD1B-DF62E8D5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CC32-71EF-4C16-BB31-D5A8ABBA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805E-B65D-435B-827B-EFBD17F3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6535-779A-438A-8C7E-A374EC9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4875-5354-4EDA-AC3A-517B6617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F1F-2AE2-4BB6-8AFC-0D5F886A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A1D6-D324-46CB-A6A6-BE7027D7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6F82-7B43-4BF4-8C33-2647D1F5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84F59-0709-48C1-9D1C-533639B3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AFF69-3560-47CE-815D-4F856F41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13F3A-450D-4DB6-AF73-88D1082C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B7D1-3319-46A6-A640-C9F7A7A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27411-A8FE-466F-90DE-8EA5759C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B386-B176-406D-8231-0FF3C6A2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0FB5-0A8C-4A6A-B790-BB763D45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4BDEE-E401-45DC-BA96-EBAAC748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44C-0136-4DA4-8829-7FF9256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9861-D554-49B1-B52F-201C975F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E4B3D-28B5-4CB3-9048-74486F54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52A8D-8D7C-42A3-B4C6-1ACB2871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1FEE-508E-4C83-A911-AF2A17F4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35FFF-8FAC-4D29-BD1A-B9890A6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BFAE-A46A-48F1-8C56-8D43A66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4D7FF-0FBE-4F22-90C4-BF73B967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7A72A-3FE7-4AE3-B307-B0AA245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C7FB8-EAED-47EA-9A2A-D53A286D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F873-B347-43C6-929D-0039C8FD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B7E-C672-4FE7-8442-86B4F970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4A62-D8E3-4322-A7B0-680C8894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C15-C765-444D-9124-F8C0E677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7C4-2DCB-4228-A98E-14F5751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A04-D8E0-4C8C-8702-C1CB933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0D74-9F7E-4847-B135-BE03C6F2356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1A55-A74D-4B56-9097-C35F6A29CB1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EE9-0665-4A9B-BBBE-BE305038020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7129-92F9-4B7F-A9C3-FDB2E2A6BDA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02D0-FCC0-4EF2-AC05-3E424435E50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060560" y="1262160"/>
            <a:ext cx="637704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66320" y="5786280"/>
            <a:ext cx="625500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52f74"/>
                </a:solidFill>
                <a:latin typeface="Trebuchet MS"/>
              </a:rPr>
              <a:t>Бродягина Ольга Семёновна, учитель МОУ УлётовскаЯ СОШ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1573200" y="317520"/>
            <a:ext cx="6132600" cy="474480"/>
          </a:xfrm>
          <a:prstGeom prst="rect">
            <a:avLst/>
          </a:prstGeom>
          <a:ln w="0">
            <a:noFill/>
          </a:ln>
        </p:spPr>
      </p:pic>
      <p:pic>
        <p:nvPicPr>
          <p:cNvPr id="273" name="Таблица 2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7858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474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852f74"/>
                </a:solidFill>
                <a:latin typeface="Trebuchet MS"/>
              </a:rPr>
              <a:t>Принцип трёх единст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852f74"/>
                </a:solidFill>
                <a:latin typeface="Trebuchet MS"/>
              </a:rPr>
              <a:t>Сохраняется традиционная « система амплуа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52f74"/>
                </a:solidFill>
                <a:latin typeface="Trebuchet MS"/>
              </a:rPr>
              <a:t>Принцип говорящих фамил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317520" y="536400"/>
            <a:ext cx="7388280" cy="4701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Нет счастливого конца, порок не наказа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Типичные герои в типичных обстоятельств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Разностопный ямб, предающий интонационные оттенки, индивидуальные особенности персонаж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615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Романтический характер конфлик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Наличие трагического пафос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Мотив одиночества и изгнанничества главного геро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Путешествие главного героя как спасение от прошло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5475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928800"/>
            <a:ext cx="723888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а! знакомые все лица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А судьи кто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частливые часов не наблюдают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сё врут календар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ремен Очаковских и покоренья Крым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вежо предание, а верится с трудом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Минуй нас пуще всех печалей и барский гнев, и барская любов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&lt;Уж коли зло пресечь,&gt; собрать все книги бы да сжеч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Чины людьми даются, а люди могут обманутьс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лужить бы рад, прислуживаться тошн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одписано, так с плеч доло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деревню, к тётке, в глушь, в Сарат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И дым Отечества нам сладок и приятен[2]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ома новы, но предрассудки стар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2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4744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000080"/>
            <a:ext cx="72388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лажен, кто верует, тепло ему на свет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Ах, злые языки страшнее пистолет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Шел в комнату, попал в другую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арету мне! Карету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то беден, тот тебе не пар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Ученье — вот чума, ученость — вот причи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ричали женщины: ура! И в воздух чепчики бросали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мешенье языков французского с нижегородским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мои лета не должно сметь свое суждение имет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Упал он больно, встал здоров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&lt;Читай не так, как пономарь,&gt; а с чувством, с толком, с расстановко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&lt;Набрать учителей полки&gt; числом поболе, ценою подешевл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Герой не моего рома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3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547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928800"/>
            <a:ext cx="723888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родился в Москве, в обедневшей семь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родился в 1792 го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13 лет поступил в университе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кончил за 6,5 лет 3 факультет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нал 4 языка: англ., франц., нем., итальянски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-  композито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– известный диплома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аствовал в войне 1812 го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Персию сослан за причастность к восстанию декабрист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Горе от ума» - трагед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Горе от ума» написано в 1822 го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щедро награжден правительством за подписание мирного договора с Перси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ибель его была случайн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хоронен в Тифлисе, в монастыре Дави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Облако 5"/>
          <p:cNvSpPr/>
          <p:nvPr/>
        </p:nvSpPr>
        <p:spPr>
          <a:xfrm>
            <a:off x="6072120" y="857160"/>
            <a:ext cx="1714680" cy="4287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блако 6"/>
          <p:cNvSpPr/>
          <p:nvPr/>
        </p:nvSpPr>
        <p:spPr>
          <a:xfrm>
            <a:off x="4214880" y="1285920"/>
            <a:ext cx="1714320" cy="3571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блако 7"/>
          <p:cNvSpPr/>
          <p:nvPr/>
        </p:nvSpPr>
        <p:spPr>
          <a:xfrm>
            <a:off x="3000240" y="157176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блако 8"/>
          <p:cNvSpPr/>
          <p:nvPr/>
        </p:nvSpPr>
        <p:spPr>
          <a:xfrm>
            <a:off x="4500720" y="200016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блако 9"/>
          <p:cNvSpPr/>
          <p:nvPr/>
        </p:nvSpPr>
        <p:spPr>
          <a:xfrm>
            <a:off x="6072120" y="228600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блако 10"/>
          <p:cNvSpPr/>
          <p:nvPr/>
        </p:nvSpPr>
        <p:spPr>
          <a:xfrm>
            <a:off x="3714840" y="264312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блако 11"/>
          <p:cNvSpPr/>
          <p:nvPr/>
        </p:nvSpPr>
        <p:spPr>
          <a:xfrm>
            <a:off x="4786200" y="3000240"/>
            <a:ext cx="1714680" cy="4194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12"/>
          <p:cNvSpPr/>
          <p:nvPr/>
        </p:nvSpPr>
        <p:spPr>
          <a:xfrm>
            <a:off x="3500280" y="335772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блако 13"/>
          <p:cNvSpPr/>
          <p:nvPr/>
        </p:nvSpPr>
        <p:spPr>
          <a:xfrm>
            <a:off x="6000840" y="364320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блако 14"/>
          <p:cNvSpPr/>
          <p:nvPr/>
        </p:nvSpPr>
        <p:spPr>
          <a:xfrm>
            <a:off x="3357720" y="407196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блако 15"/>
          <p:cNvSpPr/>
          <p:nvPr/>
        </p:nvSpPr>
        <p:spPr>
          <a:xfrm>
            <a:off x="4572000" y="435780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блако 16"/>
          <p:cNvSpPr/>
          <p:nvPr/>
        </p:nvSpPr>
        <p:spPr>
          <a:xfrm>
            <a:off x="4000680" y="500076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блако 17"/>
          <p:cNvSpPr/>
          <p:nvPr/>
        </p:nvSpPr>
        <p:spPr>
          <a:xfrm>
            <a:off x="3786120" y="535788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блако 18"/>
          <p:cNvSpPr/>
          <p:nvPr/>
        </p:nvSpPr>
        <p:spPr>
          <a:xfrm>
            <a:off x="5429160" y="5786280"/>
            <a:ext cx="1714680" cy="4194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4744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"/>
          <p:cNvSpPr/>
          <p:nvPr/>
        </p:nvSpPr>
        <p:spPr>
          <a:xfrm>
            <a:off x="2643120" y="1357200"/>
            <a:ext cx="2895840" cy="8384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857840" y="2428920"/>
            <a:ext cx="2895480" cy="838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остеп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357120" y="2428920"/>
            <a:ext cx="2895840" cy="838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це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6"/>
          <p:cNvSpPr/>
          <p:nvPr/>
        </p:nvSpPr>
        <p:spPr>
          <a:xfrm>
            <a:off x="4857840" y="3929040"/>
            <a:ext cx="2895480" cy="838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ои-паро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357120" y="3929040"/>
            <a:ext cx="2895840" cy="8571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ои-ма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547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000080"/>
            <a:ext cx="72388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Главные герои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ерои, взаимодействие которых друг с другом развивает ход действия. (???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Второстепенные геро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и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ерои, не имеющие прямого отношения к развитию действия, но в его развитии они принимают участие. (???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Герои – маски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их образы предельно обобщены. Автору не интересна их психология, это вечные психологические типы. (???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Внесценические герои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герои, чьи имена называются, но сами они на сцене не появляются и участия в действии не принимают. (???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2" descr=""/>
          <p:cNvPicPr/>
          <p:nvPr/>
        </p:nvPicPr>
        <p:blipFill>
          <a:blip r:embed="rId1"/>
          <a:stretch/>
        </p:blipFill>
        <p:spPr>
          <a:xfrm>
            <a:off x="1000080" y="317520"/>
            <a:ext cx="6248520" cy="615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999720" y="1600200"/>
            <a:ext cx="335772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фь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ац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лчали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амус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Рисунок 5" descr="софья.jpeg"/>
          <p:cNvPicPr/>
          <p:nvPr/>
        </p:nvPicPr>
        <p:blipFill>
          <a:blip r:embed="rId2"/>
          <a:stretch/>
        </p:blipFill>
        <p:spPr>
          <a:xfrm>
            <a:off x="5715000" y="1000080"/>
            <a:ext cx="1571760" cy="25718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6" descr="чац.jpeg"/>
          <p:cNvPicPr/>
          <p:nvPr/>
        </p:nvPicPr>
        <p:blipFill>
          <a:blip r:embed="rId3"/>
          <a:stretch/>
        </p:blipFill>
        <p:spPr>
          <a:xfrm>
            <a:off x="3429000" y="100008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молч.jpeg"/>
          <p:cNvPicPr/>
          <p:nvPr/>
        </p:nvPicPr>
        <p:blipFill>
          <a:blip r:embed="rId4"/>
          <a:stretch/>
        </p:blipFill>
        <p:spPr>
          <a:xfrm>
            <a:off x="1500120" y="3714840"/>
            <a:ext cx="1857600" cy="30002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8" descr="фамус.jpeg"/>
          <p:cNvPicPr/>
          <p:nvPr/>
        </p:nvPicPr>
        <p:blipFill>
          <a:blip r:embed="rId5"/>
          <a:stretch/>
        </p:blipFill>
        <p:spPr>
          <a:xfrm>
            <a:off x="4286160" y="3786120"/>
            <a:ext cx="20718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371600" y="317520"/>
            <a:ext cx="5877000" cy="474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143000" y="1600200"/>
            <a:ext cx="237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из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калозу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лёст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ори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4" descr="скал.jpg"/>
          <p:cNvPicPr/>
          <p:nvPr/>
        </p:nvPicPr>
        <p:blipFill>
          <a:blip r:embed="rId2"/>
          <a:stretch/>
        </p:blipFill>
        <p:spPr>
          <a:xfrm>
            <a:off x="5143680" y="1000080"/>
            <a:ext cx="1915920" cy="20001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лиза.jpg"/>
          <p:cNvPicPr/>
          <p:nvPr/>
        </p:nvPicPr>
        <p:blipFill>
          <a:blip r:embed="rId3"/>
          <a:stretch/>
        </p:blipFill>
        <p:spPr>
          <a:xfrm>
            <a:off x="5429160" y="3357720"/>
            <a:ext cx="2162160" cy="32540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6" descr="хлест.jpeg"/>
          <p:cNvPicPr/>
          <p:nvPr/>
        </p:nvPicPr>
        <p:blipFill>
          <a:blip r:embed="rId4"/>
          <a:stretch/>
        </p:blipFill>
        <p:spPr>
          <a:xfrm>
            <a:off x="3286080" y="1000080"/>
            <a:ext cx="1571760" cy="30006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7" descr="горич .jpeg"/>
          <p:cNvPicPr/>
          <p:nvPr/>
        </p:nvPicPr>
        <p:blipFill>
          <a:blip r:embed="rId5"/>
          <a:stretch/>
        </p:blipFill>
        <p:spPr>
          <a:xfrm>
            <a:off x="857160" y="4357800"/>
            <a:ext cx="21430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927000" y="317520"/>
            <a:ext cx="6321600" cy="474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500040" y="1600200"/>
            <a:ext cx="67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аксим Петрови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арья Алексе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рат Скалозуб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емянник княгини Тугоуховской, князь Фёдо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ома Фоми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уэлист, который «шумит» в Английском клуб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615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амусов – известный, от слова «молва». Кроме того, он боится молвы. «Что скажет княгиня Марья Алексевна?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фья – мудра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ацкий – Чадский – Чаадаев –прямая аналогия с передовым человеком времён Грибоедова. Чадский — тот, кто находится в чаду (неадекватно расценивает ситуацию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петилов – повторяе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Хлёстова – от «хлестать», всех готова отхлестать слов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угоуховские – туги на ухо, то есть глухи как в прямом смысле, так и в переносн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639720" y="566640"/>
            <a:ext cx="6608880" cy="513000"/>
          </a:xfrm>
          <a:prstGeom prst="rect">
            <a:avLst/>
          </a:prstGeom>
          <a:ln w="0">
            <a:noFill/>
          </a:ln>
        </p:spPr>
      </p:pic>
      <p:sp>
        <p:nvSpPr>
          <p:cNvPr id="264" name="Равнобедренный треугольник 3"/>
          <p:cNvSpPr/>
          <p:nvPr/>
        </p:nvSpPr>
        <p:spPr>
          <a:xfrm>
            <a:off x="1857240" y="2143080"/>
            <a:ext cx="3929040" cy="71460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4"/>
          <p:cNvSpPr/>
          <p:nvPr/>
        </p:nvSpPr>
        <p:spPr>
          <a:xfrm rot="10800000">
            <a:off x="1857240" y="2928600"/>
            <a:ext cx="3929040" cy="85716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Равнобедренный треугольник 5"/>
          <p:cNvSpPr/>
          <p:nvPr/>
        </p:nvSpPr>
        <p:spPr>
          <a:xfrm rot="9399600">
            <a:off x="3901680" y="3448800"/>
            <a:ext cx="2152800" cy="71460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перфолента 7"/>
          <p:cNvSpPr/>
          <p:nvPr/>
        </p:nvSpPr>
        <p:spPr>
          <a:xfrm>
            <a:off x="3429000" y="1357200"/>
            <a:ext cx="1285920" cy="50004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Ча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перфолента 8"/>
          <p:cNvSpPr/>
          <p:nvPr/>
        </p:nvSpPr>
        <p:spPr>
          <a:xfrm>
            <a:off x="428760" y="2357280"/>
            <a:ext cx="1285920" cy="50040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Блок-схема: перфолента 9"/>
          <p:cNvSpPr/>
          <p:nvPr/>
        </p:nvSpPr>
        <p:spPr>
          <a:xfrm>
            <a:off x="6000840" y="2500200"/>
            <a:ext cx="1643040" cy="50004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Молч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Блок-схема: перфолента 10"/>
          <p:cNvSpPr/>
          <p:nvPr/>
        </p:nvSpPr>
        <p:spPr>
          <a:xfrm>
            <a:off x="2286000" y="3786120"/>
            <a:ext cx="1285920" cy="50004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Блок-схема: перфолента 11"/>
          <p:cNvSpPr/>
          <p:nvPr/>
        </p:nvSpPr>
        <p:spPr>
          <a:xfrm>
            <a:off x="5143680" y="4143240"/>
            <a:ext cx="1571400" cy="50004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Петр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0-26T07:42:27Z</dcterms:modified>
  <cp:revision>14</cp:revision>
  <dc:subject/>
  <dc:title>Вопросы по творчеству А.С. Грибоедова</dc:title>
</cp:coreProperties>
</file>