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8BA-E362-4379-8569-67AA0293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426-D31E-46D7-AD29-B21B1A16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898-1CB1-4BCD-933D-CBEF4C33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BE1-034D-4264-A848-A7E23B62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4A28-FDFC-42B0-8A13-C6EE7D55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2E0D-BE7F-47B0-BF05-3B6CB6E7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8881-54FD-4331-B576-B3616859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9CC9-F9FA-4F67-9F92-0D010728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998D-CF89-4170-9A71-2FCF8329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4580-602F-4406-A456-F2DBA511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2654-45D2-4684-82EE-BA835372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363-0177-447E-8266-F869F28F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26F9-7670-4A67-A902-1A660340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45FE-6AEE-4A47-AAE8-76FB0A9E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25FF-316D-4A17-8C20-BFC566A3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A106-7A3C-44A0-8498-7816F34F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3783-103A-4FF9-ACC2-15E3682F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3E54C-0AD7-468F-ACEF-BD42F1DE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2A724-528A-409B-820B-ED3E840A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982CD-DE67-4E8E-8B32-A0918CDB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B3C4-1B1F-4BCF-BE8F-19D8F76D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95DD-8604-47B0-B259-B0C022EC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44F-6C74-4EAB-81F4-C2017339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53F6-F47D-4561-A787-995D5AF0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6302-2FBE-402E-88B7-58871159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F0997-4583-44D4-863C-609C7630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C189-52C5-42EF-BB1C-CA0180EE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70DBF-CED8-456A-9FAA-F8563AF6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EB9B8-4481-4790-9E91-2C4BA4E3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C2187-E54A-4275-9974-301D346E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A1229-8E1B-48E5-BAFD-6CFF630A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7EBBE-9503-4107-BBE2-FCEFA6F6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AA93D-A6FC-4F4F-A04F-F2908A24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09C-4EE4-41BC-8DE1-B2480339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2ED58-C5F4-41D2-B7D3-5F574AB9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BCE3F-37C9-438E-8760-21429B7D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1C6C1-8634-4785-9246-CA4173DC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3ADC1-F71B-4CF7-9B6F-B0764F23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7CE24-6B96-4F65-91E4-4B70B600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B368B-61C7-4F6E-BC56-6501C80A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84196-DD7C-48C3-9876-8A676222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E00A3-0DE5-42B9-9722-AA831393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6BA8B-45AD-460C-AC3C-6A837888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65F6F-29E4-4F60-9B8E-82B6855E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6B1-4509-478F-B38C-AF402605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8E7C5-9DB0-48E5-8CF1-D905D877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FB458-A8B8-469D-B299-500E95D3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F613A-34A5-4623-8183-DD855D44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7F4FD-1C2A-42A0-8559-5AE99B41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6DE9B-65E0-4711-93B6-9C14D33B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41E36-954D-4B4C-8F29-67564530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AE732-F682-48F8-A8F6-264E4F45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1A8FD-415F-4EED-99B3-9C414C0B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3376D-D262-4B5F-B6CE-4DAFB5C2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7FC7A-E39C-4A29-B4CF-FEC91EF8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895F-CF2D-4048-90EA-1E0E05C5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F5B7B-F878-4B97-9F78-CA2A201D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CB9-1DC9-4990-856F-408715E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81C-EF50-4C29-8DD6-6F747DE4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F12-2132-431A-B29E-BC33CC61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7E6B-AA59-4574-A6B2-85EB52B4857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B66C-2E0C-40C0-B443-B46361DE1CC1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A967-180A-471F-8603-B79F29ED8235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4D8B-9734-4573-8A50-4B6951A83DF8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D39B-368B-4A00-B6E6-19C3315A44D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1060560" y="1262160"/>
            <a:ext cx="6377040" cy="2925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066320" y="5786280"/>
            <a:ext cx="6255000" cy="2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52f74"/>
                </a:solidFill>
                <a:latin typeface="Trebuchet MS"/>
              </a:rPr>
              <a:t>Бродягина Ольга Семёновна, учитель МОУ УлётовскаЯ СОШ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1573200" y="317520"/>
            <a:ext cx="6132600" cy="474480"/>
          </a:xfrm>
          <a:prstGeom prst="rect">
            <a:avLst/>
          </a:prstGeom>
          <a:ln w="0">
            <a:noFill/>
          </a:ln>
        </p:spPr>
      </p:pic>
      <p:pic>
        <p:nvPicPr>
          <p:cNvPr id="273" name="Таблица 2" descr=""/>
          <p:cNvPicPr/>
          <p:nvPr/>
        </p:nvPicPr>
        <p:blipFill>
          <a:blip r:embed="rId2"/>
          <a:stretch/>
        </p:blipFill>
        <p:spPr>
          <a:xfrm>
            <a:off x="285840" y="1000080"/>
            <a:ext cx="7858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4744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852f74"/>
                </a:solidFill>
                <a:latin typeface="Trebuchet MS"/>
              </a:rPr>
              <a:t>Принцип трёх единст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852f74"/>
                </a:solidFill>
                <a:latin typeface="Trebuchet MS"/>
              </a:rPr>
              <a:t>Сохраняется традиционная « система амплуа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52f74"/>
                </a:solidFill>
                <a:latin typeface="Trebuchet MS"/>
              </a:rPr>
              <a:t>Принцип говорящих фамил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317520" y="536400"/>
            <a:ext cx="7388280" cy="4701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a2e4e"/>
                </a:solidFill>
                <a:latin typeface="Trebuchet MS"/>
              </a:rPr>
              <a:t>Нет счастливого конца, порок не наказа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a2e4e"/>
                </a:solidFill>
                <a:latin typeface="Trebuchet MS"/>
              </a:rPr>
              <a:t>Типичные герои в типичных обстоятельства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a2e4e"/>
                </a:solidFill>
                <a:latin typeface="Trebuchet MS"/>
              </a:rPr>
              <a:t>Разностопный ямб, предающий интонационные оттенки, индивидуальные особенности персонаж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6159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a2e4e"/>
                </a:solidFill>
                <a:latin typeface="Trebuchet MS"/>
              </a:rPr>
              <a:t>Романтический характер конфлик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a2e4e"/>
                </a:solidFill>
                <a:latin typeface="Trebuchet MS"/>
              </a:rPr>
              <a:t>Наличие трагического пафос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a2e4e"/>
                </a:solidFill>
                <a:latin typeface="Trebuchet MS"/>
              </a:rPr>
              <a:t>Мотив одиночества и изгнанничества главного геро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a2e4e"/>
                </a:solidFill>
                <a:latin typeface="Trebuchet MS"/>
              </a:rPr>
              <a:t>Путешествие главного героя как спасение от прошлог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5475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57200" y="928800"/>
            <a:ext cx="723888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Ба! знакомые все лица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А судьи кто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частливые часов не наблюдают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сё врут календар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ремен Очаковских и покоренья Крым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вежо предание, а верится с трудом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Минуй нас пуще всех печалей и барский гнев, и барская любов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&lt;Уж коли зло пресечь,&gt; собрать все книги бы да сжеч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Чины людьми даются, а люди могут обманутьс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лужить бы рад, прислуживаться тошно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одписано, так с плеч долой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деревню, к тётке, в глушь, в Сарат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И дым Отечества нам сладок и приятен[2]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Дома новы, но предрассудки стар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2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4744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000080"/>
            <a:ext cx="723888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Блажен, кто верует, тепло ему на свет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Ах, злые языки страшнее пистолет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Шел в комнату, попал в другую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Карету мне! Карету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Кто беден, тот тебе не пар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Ученье — вот чума, ученость — вот причи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Кричали женщины: ура! И в воздух чепчики бросали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мешенье языков французского с нижегородским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мои лета не должно сметь свое суждение имет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Упал он больно, встал здорово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&lt;Читай не так, как пономарь,&gt; а с чувством, с толком, с расстановкой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&lt;Набрать учителей полки&gt; числом поболе, ценою подешевл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Герой не моего рома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3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5475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928800"/>
            <a:ext cx="723888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рибоедов родился в Москве, в обедневшей семь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рибоедов родился в 1792 го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 13 лет поступил в университет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кончил за 6,5 лет 3 факультет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нал 4 языка: англ., франц., нем., итальянски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рибоедов -  композитор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рибоедов – известный дипломат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частвовал в войне 1812 год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 Персию сослан за причастность к восстанию декабрист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Горе от ума» - трагеди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Горе от ума» написано в 1822 го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рибоедов щедро награжден правительством за подписание мирного договора с Персие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ибель его была случайно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хоронен в Тифлисе, в монастыре Давид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Облако 5"/>
          <p:cNvSpPr/>
          <p:nvPr/>
        </p:nvSpPr>
        <p:spPr>
          <a:xfrm>
            <a:off x="6072120" y="857160"/>
            <a:ext cx="1714680" cy="4287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блако 6"/>
          <p:cNvSpPr/>
          <p:nvPr/>
        </p:nvSpPr>
        <p:spPr>
          <a:xfrm>
            <a:off x="4214880" y="1285920"/>
            <a:ext cx="1714320" cy="3571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блако 7"/>
          <p:cNvSpPr/>
          <p:nvPr/>
        </p:nvSpPr>
        <p:spPr>
          <a:xfrm>
            <a:off x="3000240" y="1571760"/>
            <a:ext cx="171468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блако 8"/>
          <p:cNvSpPr/>
          <p:nvPr/>
        </p:nvSpPr>
        <p:spPr>
          <a:xfrm>
            <a:off x="4500720" y="2000160"/>
            <a:ext cx="171432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блако 9"/>
          <p:cNvSpPr/>
          <p:nvPr/>
        </p:nvSpPr>
        <p:spPr>
          <a:xfrm>
            <a:off x="6072120" y="2286000"/>
            <a:ext cx="171468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блако 10"/>
          <p:cNvSpPr/>
          <p:nvPr/>
        </p:nvSpPr>
        <p:spPr>
          <a:xfrm>
            <a:off x="3714840" y="2643120"/>
            <a:ext cx="171432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блако 11"/>
          <p:cNvSpPr/>
          <p:nvPr/>
        </p:nvSpPr>
        <p:spPr>
          <a:xfrm>
            <a:off x="4786200" y="3000240"/>
            <a:ext cx="1714680" cy="4194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блако 12"/>
          <p:cNvSpPr/>
          <p:nvPr/>
        </p:nvSpPr>
        <p:spPr>
          <a:xfrm>
            <a:off x="3500280" y="3357720"/>
            <a:ext cx="171468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блако 13"/>
          <p:cNvSpPr/>
          <p:nvPr/>
        </p:nvSpPr>
        <p:spPr>
          <a:xfrm>
            <a:off x="6000840" y="3643200"/>
            <a:ext cx="171432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блако 14"/>
          <p:cNvSpPr/>
          <p:nvPr/>
        </p:nvSpPr>
        <p:spPr>
          <a:xfrm>
            <a:off x="3357720" y="4071960"/>
            <a:ext cx="171432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блако 15"/>
          <p:cNvSpPr/>
          <p:nvPr/>
        </p:nvSpPr>
        <p:spPr>
          <a:xfrm>
            <a:off x="4572000" y="4357800"/>
            <a:ext cx="171468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блако 16"/>
          <p:cNvSpPr/>
          <p:nvPr/>
        </p:nvSpPr>
        <p:spPr>
          <a:xfrm>
            <a:off x="4000680" y="5000760"/>
            <a:ext cx="171432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блако 17"/>
          <p:cNvSpPr/>
          <p:nvPr/>
        </p:nvSpPr>
        <p:spPr>
          <a:xfrm>
            <a:off x="3786120" y="5357880"/>
            <a:ext cx="1714680" cy="419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блако 18"/>
          <p:cNvSpPr/>
          <p:nvPr/>
        </p:nvSpPr>
        <p:spPr>
          <a:xfrm>
            <a:off x="5429160" y="5786280"/>
            <a:ext cx="1714680" cy="4194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47448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2"/>
          <p:cNvSpPr/>
          <p:nvPr/>
        </p:nvSpPr>
        <p:spPr>
          <a:xfrm>
            <a:off x="2643120" y="1357200"/>
            <a:ext cx="2895840" cy="83844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857840" y="2428920"/>
            <a:ext cx="2895480" cy="83808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остеп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5"/>
          <p:cNvSpPr/>
          <p:nvPr/>
        </p:nvSpPr>
        <p:spPr>
          <a:xfrm>
            <a:off x="357120" y="2428920"/>
            <a:ext cx="2895840" cy="83808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сце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6"/>
          <p:cNvSpPr/>
          <p:nvPr/>
        </p:nvSpPr>
        <p:spPr>
          <a:xfrm>
            <a:off x="4857840" y="3929040"/>
            <a:ext cx="2895480" cy="83808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ои-паро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7"/>
          <p:cNvSpPr/>
          <p:nvPr/>
        </p:nvSpPr>
        <p:spPr>
          <a:xfrm>
            <a:off x="357120" y="3929040"/>
            <a:ext cx="2895840" cy="8571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ои-ма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547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000080"/>
            <a:ext cx="723888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rebuchet MS"/>
              </a:rPr>
              <a:t>Главные герои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герои, взаимодействие которых друг с другом развивает ход действия. (???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rebuchet MS"/>
              </a:rPr>
              <a:t>Второстепенные геро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и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герои, не имеющие прямого отношения к развитию действия, но в его развитии они принимают участие. (???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rebuchet MS"/>
              </a:rPr>
              <a:t>Герои – маски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– их образы предельно обобщены. Автору не интересна их психология, это вечные психологические типы. (???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rebuchet MS"/>
              </a:rPr>
              <a:t>Внесценические герои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– герои, чьи имена называются, но сами они на сцене не появляются и участия в действии не принимают. (???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2" descr=""/>
          <p:cNvPicPr/>
          <p:nvPr/>
        </p:nvPicPr>
        <p:blipFill>
          <a:blip r:embed="rId1"/>
          <a:stretch/>
        </p:blipFill>
        <p:spPr>
          <a:xfrm>
            <a:off x="1000080" y="317520"/>
            <a:ext cx="6248520" cy="615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999720" y="1600200"/>
            <a:ext cx="335772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фь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ацк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лчали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амус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Рисунок 5" descr="софья.jpeg"/>
          <p:cNvPicPr/>
          <p:nvPr/>
        </p:nvPicPr>
        <p:blipFill>
          <a:blip r:embed="rId2"/>
          <a:stretch/>
        </p:blipFill>
        <p:spPr>
          <a:xfrm>
            <a:off x="5715000" y="1000080"/>
            <a:ext cx="1571760" cy="25718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6" descr="чац.jpeg"/>
          <p:cNvPicPr/>
          <p:nvPr/>
        </p:nvPicPr>
        <p:blipFill>
          <a:blip r:embed="rId3"/>
          <a:stretch/>
        </p:blipFill>
        <p:spPr>
          <a:xfrm>
            <a:off x="3429000" y="1000080"/>
            <a:ext cx="1785960" cy="25718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7" descr="молч.jpeg"/>
          <p:cNvPicPr/>
          <p:nvPr/>
        </p:nvPicPr>
        <p:blipFill>
          <a:blip r:embed="rId4"/>
          <a:stretch/>
        </p:blipFill>
        <p:spPr>
          <a:xfrm>
            <a:off x="1500120" y="3714840"/>
            <a:ext cx="1857600" cy="300024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8" descr="фамус.jpeg"/>
          <p:cNvPicPr/>
          <p:nvPr/>
        </p:nvPicPr>
        <p:blipFill>
          <a:blip r:embed="rId5"/>
          <a:stretch/>
        </p:blipFill>
        <p:spPr>
          <a:xfrm>
            <a:off x="4286160" y="3786120"/>
            <a:ext cx="207180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371600" y="317520"/>
            <a:ext cx="5877000" cy="4744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1143000" y="1600200"/>
            <a:ext cx="237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из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калозуб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лёсто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орич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Рисунок 4" descr="скал.jpg"/>
          <p:cNvPicPr/>
          <p:nvPr/>
        </p:nvPicPr>
        <p:blipFill>
          <a:blip r:embed="rId2"/>
          <a:stretch/>
        </p:blipFill>
        <p:spPr>
          <a:xfrm>
            <a:off x="5143680" y="1000080"/>
            <a:ext cx="1915920" cy="20001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" descr="лиза.jpg"/>
          <p:cNvPicPr/>
          <p:nvPr/>
        </p:nvPicPr>
        <p:blipFill>
          <a:blip r:embed="rId3"/>
          <a:stretch/>
        </p:blipFill>
        <p:spPr>
          <a:xfrm>
            <a:off x="5429160" y="3357720"/>
            <a:ext cx="2162160" cy="325404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6" descr="хлест.jpeg"/>
          <p:cNvPicPr/>
          <p:nvPr/>
        </p:nvPicPr>
        <p:blipFill>
          <a:blip r:embed="rId4"/>
          <a:stretch/>
        </p:blipFill>
        <p:spPr>
          <a:xfrm>
            <a:off x="3286080" y="1000080"/>
            <a:ext cx="1571760" cy="300060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7" descr="горич .jpeg"/>
          <p:cNvPicPr/>
          <p:nvPr/>
        </p:nvPicPr>
        <p:blipFill>
          <a:blip r:embed="rId5"/>
          <a:stretch/>
        </p:blipFill>
        <p:spPr>
          <a:xfrm>
            <a:off x="857160" y="4357800"/>
            <a:ext cx="214308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927000" y="317520"/>
            <a:ext cx="6321600" cy="4744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500040" y="1600200"/>
            <a:ext cx="67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аксим Петрович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арья Алексев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рат Скалозуб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лемянник княгини Тугоуховской, князь Фёдо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Фома Фомич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уэлист, который «шумит» в Английском клубе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6159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Фамусов – известный, от слова «молва». Кроме того, он боится молвы. «Что скажет княгиня Марья Алексевна?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фья – мудра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Чацкий – Чадский – Чаадаев –прямая аналогия с передовым человеком времён Грибоедова. Чадский — тот, кто находится в чаду (неадекватно расценивает ситуацию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петилов – повторяе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Хлёстова – от «хлестать», всех готова отхлестать слов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угоуховские – туги на ухо, то есть глухи как в прямом смысле, так и в переносно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639720" y="566640"/>
            <a:ext cx="6608880" cy="513000"/>
          </a:xfrm>
          <a:prstGeom prst="rect">
            <a:avLst/>
          </a:prstGeom>
          <a:ln w="0">
            <a:noFill/>
          </a:ln>
        </p:spPr>
      </p:pic>
      <p:sp>
        <p:nvSpPr>
          <p:cNvPr id="264" name="Равнобедренный треугольник 3"/>
          <p:cNvSpPr/>
          <p:nvPr/>
        </p:nvSpPr>
        <p:spPr>
          <a:xfrm>
            <a:off x="1857240" y="2143080"/>
            <a:ext cx="3929040" cy="714600"/>
          </a:xfrm>
          <a:prstGeom prst="triangle">
            <a:avLst>
              <a:gd name="adj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4"/>
          <p:cNvSpPr/>
          <p:nvPr/>
        </p:nvSpPr>
        <p:spPr>
          <a:xfrm rot="10800000">
            <a:off x="1857240" y="2928600"/>
            <a:ext cx="3929040" cy="857160"/>
          </a:xfrm>
          <a:prstGeom prst="triangle">
            <a:avLst>
              <a:gd name="adj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Равнобедренный треугольник 5"/>
          <p:cNvSpPr/>
          <p:nvPr/>
        </p:nvSpPr>
        <p:spPr>
          <a:xfrm rot="9399600">
            <a:off x="3901680" y="3448800"/>
            <a:ext cx="2152800" cy="714600"/>
          </a:xfrm>
          <a:prstGeom prst="triangle">
            <a:avLst>
              <a:gd name="adj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Блок-схема: перфолента 7"/>
          <p:cNvSpPr/>
          <p:nvPr/>
        </p:nvSpPr>
        <p:spPr>
          <a:xfrm>
            <a:off x="3429000" y="1357200"/>
            <a:ext cx="1285920" cy="500040"/>
          </a:xfrm>
          <a:prstGeom prst="flowChartPunchedTap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rebuchet MS"/>
              </a:rPr>
              <a:t>Ча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Блок-схема: перфолента 8"/>
          <p:cNvSpPr/>
          <p:nvPr/>
        </p:nvSpPr>
        <p:spPr>
          <a:xfrm>
            <a:off x="428760" y="2357280"/>
            <a:ext cx="1285920" cy="500400"/>
          </a:xfrm>
          <a:prstGeom prst="flowChartPunchedTap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rebuchet MS"/>
              </a:rPr>
              <a:t>Соф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Блок-схема: перфолента 9"/>
          <p:cNvSpPr/>
          <p:nvPr/>
        </p:nvSpPr>
        <p:spPr>
          <a:xfrm>
            <a:off x="6000840" y="2500200"/>
            <a:ext cx="1643040" cy="500040"/>
          </a:xfrm>
          <a:prstGeom prst="flowChartPunchedTap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rebuchet MS"/>
              </a:rPr>
              <a:t>Молча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Блок-схема: перфолента 10"/>
          <p:cNvSpPr/>
          <p:nvPr/>
        </p:nvSpPr>
        <p:spPr>
          <a:xfrm>
            <a:off x="2286000" y="3786120"/>
            <a:ext cx="1285920" cy="500040"/>
          </a:xfrm>
          <a:prstGeom prst="flowChartPunchedTap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rebuchet MS"/>
              </a:rPr>
              <a:t>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Блок-схема: перфолента 11"/>
          <p:cNvSpPr/>
          <p:nvPr/>
        </p:nvSpPr>
        <p:spPr>
          <a:xfrm>
            <a:off x="5143680" y="4143240"/>
            <a:ext cx="1571400" cy="500040"/>
          </a:xfrm>
          <a:prstGeom prst="flowChartPunchedTap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rebuchet MS"/>
              </a:rPr>
              <a:t>Петр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0-26T07:42:27Z</dcterms:modified>
  <cp:revision>14</cp:revision>
  <dc:subject/>
  <dc:title>Вопросы по творчеству А.С. Грибоедова</dc:title>
</cp:coreProperties>
</file>