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jpeg" ContentType="image/jpeg"/>
  <Override PartName="/ppt/media/image2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AEF-DFD0-4875-B158-287C9183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461-1EE0-4479-956B-27095DF1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8DF2-3D9C-452A-892B-2374C585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FFB-1A8C-40BC-A625-9BCAC88D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7EE-4010-4567-AEC9-1EB1F008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034C-CA54-4006-B57A-29744E76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F68C-080C-4C47-9712-394BE5C8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6884-1330-4107-9CDF-4CFBDE47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8C7-1B08-4888-B11B-8025DCEC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7854-5C8D-4887-A200-EB0C1F93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A77-3078-4CD5-BD2C-26F1A8EC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503-B839-4840-867A-C12CE162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2C2B-F3EC-4599-A337-47F84F9DE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kp.md/daily/24316.3/508823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38F9-18D4-4961-A7A6-8AD567D96B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0A4E-C909-4F66-86DC-80078A2E1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image042-x5x3g.jpg"/>
          <p:cNvPicPr/>
          <p:nvPr/>
        </p:nvPicPr>
        <p:blipFill>
          <a:blip r:embed="rId2"/>
          <a:stretch/>
        </p:blipFill>
        <p:spPr>
          <a:xfrm>
            <a:off x="0" y="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7"/>
          <p:cNvSpPr/>
          <p:nvPr/>
        </p:nvSpPr>
        <p:spPr>
          <a:xfrm>
            <a:off x="2857680" y="135720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Любимые женщины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 Сергея Есен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571680" y="507204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Бродягина Ольга Семёновна, учитель русского языка и литературы МОУ Улёто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" descr="alek.jpg"/>
          <p:cNvPicPr/>
          <p:nvPr/>
        </p:nvPicPr>
        <p:blipFill>
          <a:blip r:embed="rId2"/>
          <a:stretch/>
        </p:blipFill>
        <p:spPr>
          <a:xfrm>
            <a:off x="0" y="1143000"/>
            <a:ext cx="5572080" cy="5715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в2.jpg"/>
          <p:cNvPicPr/>
          <p:nvPr/>
        </p:nvPicPr>
        <p:blipFill>
          <a:blip r:embed="rId3"/>
          <a:stretch/>
        </p:blipFill>
        <p:spPr>
          <a:xfrm>
            <a:off x="6500880" y="1428840"/>
            <a:ext cx="1857240" cy="32144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1285920" y="500040"/>
            <a:ext cx="48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no Pro"/>
              </a:rPr>
              <a:t>Надежда  Давыдовна Вольп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8" descr="benislavskaya1.jpg"/>
          <p:cNvPicPr/>
          <p:nvPr/>
        </p:nvPicPr>
        <p:blipFill>
          <a:blip r:embed="rId2"/>
          <a:stretch/>
        </p:blipFill>
        <p:spPr>
          <a:xfrm>
            <a:off x="0" y="1214280"/>
            <a:ext cx="4071960" cy="56437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" descr="бен.jpeg"/>
          <p:cNvPicPr/>
          <p:nvPr/>
        </p:nvPicPr>
        <p:blipFill>
          <a:blip r:embed="rId3"/>
          <a:stretch/>
        </p:blipFill>
        <p:spPr>
          <a:xfrm>
            <a:off x="5072040" y="214200"/>
            <a:ext cx="2457360" cy="54198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428760" y="42876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no Pro Smbd Caption"/>
              </a:rPr>
              <a:t>Галина Бенислав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428760" y="42876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no Pro Smbd"/>
              </a:rPr>
              <a:t>Айседора Дун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4429080" y="2928960"/>
            <a:ext cx="421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Снова пьют здесь, дерутся и  плач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од гармоники желтую гру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роклиная свои неуда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Вспоминают московскую Ру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" descr="index_pic.jpeg"/>
          <p:cNvPicPr/>
          <p:nvPr/>
        </p:nvPicPr>
        <p:blipFill>
          <a:blip r:embed="rId2"/>
          <a:stretch/>
        </p:blipFill>
        <p:spPr>
          <a:xfrm>
            <a:off x="4857840" y="357120"/>
            <a:ext cx="288108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дункан.jpeg"/>
          <p:cNvPicPr/>
          <p:nvPr/>
        </p:nvPicPr>
        <p:blipFill>
          <a:blip r:embed="rId3"/>
          <a:stretch/>
        </p:blipFill>
        <p:spPr>
          <a:xfrm rot="20522400">
            <a:off x="611280" y="1779120"/>
            <a:ext cx="329868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" descr="микл.jpeg"/>
          <p:cNvPicPr/>
          <p:nvPr/>
        </p:nvPicPr>
        <p:blipFill>
          <a:blip r:embed="rId2"/>
          <a:stretch/>
        </p:blipFill>
        <p:spPr>
          <a:xfrm>
            <a:off x="0" y="1214280"/>
            <a:ext cx="3962520" cy="56437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"/>
          <p:cNvSpPr/>
          <p:nvPr/>
        </p:nvSpPr>
        <p:spPr>
          <a:xfrm>
            <a:off x="857160" y="571680"/>
            <a:ext cx="49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 Narrow"/>
              </a:rPr>
              <a:t>Августа Миклашев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4429080" y="1996920"/>
            <a:ext cx="4000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Дорогая, сядем ря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Поглядим в глаза друг друг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Я хочу под  кротким взгля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Слушать чувственную вью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Ты такая ж простая, как вс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Как сто тысяч других 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Знаешь ты одинокий рассв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Знаешь холод осени си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" descr="шаганэ.jpeg"/>
          <p:cNvPicPr/>
          <p:nvPr/>
        </p:nvPicPr>
        <p:blipFill>
          <a:blip r:embed="rId2"/>
          <a:stretch/>
        </p:blipFill>
        <p:spPr>
          <a:xfrm>
            <a:off x="0" y="1071720"/>
            <a:ext cx="3857760" cy="57862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357120" y="428760"/>
            <a:ext cx="54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Шагандухт Таль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4357800" y="2143080"/>
            <a:ext cx="4071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Шаганэ, ты моя Шаганэ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Там, на севере, девушка то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На тебя она страшно похож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Может, думает обо мн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Шаганэ ты моя ,Шаган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Заглуши в душе тоску тальян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Напои дыханьем свежих ч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Чтобы я о дальней северя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Не вздыхал, не думал, не скуча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esenin_Esenin_Dunkan_Berlin_1922.jpg"/>
          <p:cNvPicPr/>
          <p:nvPr/>
        </p:nvPicPr>
        <p:blipFill>
          <a:blip r:embed="rId2"/>
          <a:stretch/>
        </p:blipFill>
        <p:spPr>
          <a:xfrm>
            <a:off x="0" y="1214280"/>
            <a:ext cx="3929040" cy="56437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3"/>
          <p:cNvSpPr/>
          <p:nvPr/>
        </p:nvSpPr>
        <p:spPr>
          <a:xfrm>
            <a:off x="428760" y="428760"/>
            <a:ext cx="61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Сергей Есенин и Софья Тол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4500720" y="1357200"/>
            <a:ext cx="421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Милая, мне скоро стукнет тридц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И земля милей мне с каждым д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Оттого и сердцу станет сни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Что горю я розовым огнё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Коль гореть, так уж гореть сгор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И недаром в липовую цв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Вынул я кольцо у попуга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Знак того, что вместе нам сгор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" descr="с катей.jpeg"/>
          <p:cNvPicPr/>
          <p:nvPr/>
        </p:nvPicPr>
        <p:blipFill>
          <a:blip r:embed="rId2"/>
          <a:stretch/>
        </p:blipFill>
        <p:spPr>
          <a:xfrm>
            <a:off x="0" y="1143000"/>
            <a:ext cx="3214800" cy="5715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"/>
          <p:cNvSpPr/>
          <p:nvPr/>
        </p:nvSpPr>
        <p:spPr>
          <a:xfrm>
            <a:off x="357120" y="28584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Сергей Есенин и Александра Есе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3643200" y="2136600"/>
            <a:ext cx="450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Я красивых таких не вид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Только, знаешь, в душе зата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Не в плохой, а в хорошей обиде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Повторяешь ты юность м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Ты — мое васильковое сло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Я навеки люблю т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Как живет теперь наша кор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Грусть соломенную тереб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мать.jpeg"/>
          <p:cNvPicPr/>
          <p:nvPr/>
        </p:nvPicPr>
        <p:blipFill>
          <a:blip r:embed="rId2"/>
          <a:stretch/>
        </p:blipFill>
        <p:spPr>
          <a:xfrm rot="20823600">
            <a:off x="496800" y="1498320"/>
            <a:ext cx="3514680" cy="2923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е и м.jpg"/>
          <p:cNvPicPr/>
          <p:nvPr/>
        </p:nvPicPr>
        <p:blipFill>
          <a:blip r:embed="rId3"/>
          <a:stretch/>
        </p:blipFill>
        <p:spPr>
          <a:xfrm>
            <a:off x="0" y="3714840"/>
            <a:ext cx="4343400" cy="31431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642960" y="428760"/>
            <a:ext cx="54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no Pro"/>
              </a:rPr>
              <a:t>Татьяна   Фёдоровна   Есе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4500720" y="1285920"/>
            <a:ext cx="4214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Ты жива еще, моя старуш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Жив и я. Привет тебе, прив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Пусть струится над твоей избуш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Тот вечерний несказанный с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Пишут мне, что ты, тая тревог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Загрустила шибко обо м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Что ты часто xодишь на дор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В старомодном ветxом шушу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42960" y="428760"/>
            <a:ext cx="78487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образ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Анны Снегиной воплотились че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857160" y="5286240"/>
            <a:ext cx="4572000" cy="1079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Александры Есен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928800" y="1557360"/>
            <a:ext cx="4500360" cy="1079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нны Изрядн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928800" y="4005360"/>
            <a:ext cx="450036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нны Сарданов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928800" y="2786040"/>
            <a:ext cx="4500360" cy="1079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Лидии Каш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5"/>
          <p:cNvSpPr/>
          <p:nvPr/>
        </p:nvSpPr>
        <p:spPr>
          <a:xfrm>
            <a:off x="5929200" y="2857680"/>
            <a:ext cx="1079640" cy="107928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6"/>
          <p:cNvSpPr/>
          <p:nvPr/>
        </p:nvSpPr>
        <p:spPr>
          <a:xfrm>
            <a:off x="5929200" y="1571760"/>
            <a:ext cx="1079640" cy="107928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7"/>
          <p:cNvSpPr/>
          <p:nvPr/>
        </p:nvSpPr>
        <p:spPr>
          <a:xfrm>
            <a:off x="6000840" y="5286240"/>
            <a:ext cx="1079280" cy="107964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5929200" y="407196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AutoShape 34"/>
          <p:cNvGrpSpPr/>
          <p:nvPr/>
        </p:nvGrpSpPr>
        <p:grpSpPr>
          <a:xfrm>
            <a:off x="7669080" y="6308640"/>
            <a:ext cx="1839960" cy="914400"/>
            <a:chOff x="7669080" y="6308640"/>
            <a:chExt cx="1839960" cy="914400"/>
          </a:xfrm>
        </p:grpSpPr>
        <p:pic>
          <p:nvPicPr>
            <p:cNvPr id="120" name="AutoShape 34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69080" y="6308640"/>
              <a:ext cx="1839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715160" y="6357960"/>
              <a:ext cx="1428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684360" y="692280"/>
            <a:ext cx="7775280" cy="10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Принято считать, что одно из этих стихотвор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посвящено  Марии Бальзам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714240" y="2357280"/>
            <a:ext cx="5757840" cy="150984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«Не бродить, не мять в куст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багряных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755640" y="4365720"/>
            <a:ext cx="5757840" cy="142056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«Зелёная причес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девическая грудь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6877080" y="2786040"/>
            <a:ext cx="1195200" cy="10000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6929280" y="4643280"/>
            <a:ext cx="1214640" cy="11322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AutoShape 34"/>
          <p:cNvGrpSpPr/>
          <p:nvPr/>
        </p:nvGrpSpPr>
        <p:grpSpPr>
          <a:xfrm>
            <a:off x="7656480" y="6394320"/>
            <a:ext cx="1542960" cy="536760"/>
            <a:chOff x="7656480" y="6394320"/>
            <a:chExt cx="1542960" cy="536760"/>
          </a:xfrm>
        </p:grpSpPr>
        <p:pic>
          <p:nvPicPr>
            <p:cNvPr id="128" name="AutoShape 34" descr="">
              <a:hlinkClick r:id="" action="ppaction://hlinkshowjump?jump=nextslide"/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56480" y="6394320"/>
              <a:ext cx="1542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715160" y="6429240"/>
              <a:ext cx="1428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1357200" y="357120"/>
            <a:ext cx="521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no Pro"/>
              </a:rPr>
              <a:t>Цель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285840" y="2136600"/>
            <a:ext cx="857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7375e"/>
                </a:solidFill>
                <a:latin typeface="Arial"/>
              </a:rPr>
              <a:t>Углубление представления о есенинской поэтике в одном из её важнейших аспектов – теме люб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7375e"/>
                </a:solidFill>
                <a:latin typeface="Arial"/>
              </a:rPr>
              <a:t>Знакомство с адресатами любовной ли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7375e"/>
                </a:solidFill>
                <a:latin typeface="Arial"/>
              </a:rPr>
              <a:t>- Совершенствование навыков выразительного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7375e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17375e"/>
                </a:solidFill>
                <a:latin typeface="Arial"/>
              </a:rPr>
              <a:t>и анализа поэтического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6851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71680" y="549360"/>
            <a:ext cx="800100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 Анной Изрядновой Есенин познакоми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826920" y="2071800"/>
            <a:ext cx="395928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в Константи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826920" y="3429000"/>
            <a:ext cx="3959280" cy="100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в Моск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900000" y="5013360"/>
            <a:ext cx="395784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в Петрогра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5572080" y="2000160"/>
            <a:ext cx="1079640" cy="10796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8"/>
          <p:cNvSpPr/>
          <p:nvPr/>
        </p:nvSpPr>
        <p:spPr>
          <a:xfrm>
            <a:off x="5572080" y="3500280"/>
            <a:ext cx="1079640" cy="10796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9"/>
          <p:cNvSpPr/>
          <p:nvPr/>
        </p:nvSpPr>
        <p:spPr>
          <a:xfrm>
            <a:off x="5572080" y="4786200"/>
            <a:ext cx="1165320" cy="10796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AutoShape 34"/>
          <p:cNvGrpSpPr/>
          <p:nvPr/>
        </p:nvGrpSpPr>
        <p:grpSpPr>
          <a:xfrm>
            <a:off x="7656480" y="6321600"/>
            <a:ext cx="1542960" cy="609480"/>
            <a:chOff x="7656480" y="6321600"/>
            <a:chExt cx="1542960" cy="609480"/>
          </a:xfrm>
        </p:grpSpPr>
        <p:pic>
          <p:nvPicPr>
            <p:cNvPr id="139" name="AutoShape 34" descr="">
              <a:hlinkClick r:id="" action="ppaction://hlinkshowjump?jump=nextslide"/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56480" y="6321600"/>
              <a:ext cx="15429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715160" y="6357960"/>
              <a:ext cx="1428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285840" y="500040"/>
            <a:ext cx="857232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Сергей Есенин в 1917 году особ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сблизился с царе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857240" y="1557360"/>
            <a:ext cx="3071880" cy="1079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Оль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857240" y="2714760"/>
            <a:ext cx="307188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Татья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857240" y="4000680"/>
            <a:ext cx="307188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Анастас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857240" y="5300640"/>
            <a:ext cx="3071880" cy="1079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Мар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6143760" y="1428840"/>
            <a:ext cx="1079280" cy="107928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6143760" y="2714760"/>
            <a:ext cx="1079280" cy="107928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6"/>
          <p:cNvSpPr/>
          <p:nvPr/>
        </p:nvSpPr>
        <p:spPr>
          <a:xfrm>
            <a:off x="6143760" y="5357880"/>
            <a:ext cx="1079280" cy="107928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7"/>
          <p:cNvSpPr/>
          <p:nvPr/>
        </p:nvSpPr>
        <p:spPr>
          <a:xfrm>
            <a:off x="6143760" y="4143240"/>
            <a:ext cx="1079280" cy="10796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AutoShape 34"/>
          <p:cNvGrpSpPr/>
          <p:nvPr/>
        </p:nvGrpSpPr>
        <p:grpSpPr>
          <a:xfrm>
            <a:off x="7656480" y="6394320"/>
            <a:ext cx="1542960" cy="536760"/>
            <a:chOff x="7656480" y="6394320"/>
            <a:chExt cx="1542960" cy="536760"/>
          </a:xfrm>
        </p:grpSpPr>
        <p:pic>
          <p:nvPicPr>
            <p:cNvPr id="151" name="AutoShape 34" descr="">
              <a:hlinkClick r:id="" action="ppaction://hlinkshowjump?jump=nextslide"/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56480" y="6394320"/>
              <a:ext cx="1542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715160" y="6429240"/>
              <a:ext cx="1428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684360" y="692280"/>
            <a:ext cx="7775280" cy="10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Сергей Есенин путешествовал на Сол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95280" y="2276640"/>
            <a:ext cx="6337440" cy="15094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 Алексеем Ганиным и Зинаидой Рай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539640" y="4365720"/>
            <a:ext cx="6193080" cy="142056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 Зинаидой Рай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6929280" y="2643120"/>
            <a:ext cx="1143000" cy="114300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6929280" y="4643280"/>
            <a:ext cx="1214640" cy="113220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AutoShape 34"/>
          <p:cNvGrpSpPr/>
          <p:nvPr/>
        </p:nvGrpSpPr>
        <p:grpSpPr>
          <a:xfrm>
            <a:off x="7656480" y="6394320"/>
            <a:ext cx="1542960" cy="536760"/>
            <a:chOff x="7656480" y="6394320"/>
            <a:chExt cx="1542960" cy="536760"/>
          </a:xfrm>
        </p:grpSpPr>
        <p:pic>
          <p:nvPicPr>
            <p:cNvPr id="159" name="AutoShape 34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56480" y="6394320"/>
              <a:ext cx="1542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715160" y="6429240"/>
              <a:ext cx="1428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6851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71680" y="549360"/>
            <a:ext cx="800100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Не исключено, что стихотворения «Письмо женщин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и «Собаке Качалова» посвящ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428840" y="2071800"/>
            <a:ext cx="335736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вгу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иклашев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1428840" y="3429000"/>
            <a:ext cx="3357360" cy="100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инаиде Рай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1428840" y="4857840"/>
            <a:ext cx="342900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Софье 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5572080" y="2000160"/>
            <a:ext cx="1079640" cy="10796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8"/>
          <p:cNvSpPr/>
          <p:nvPr/>
        </p:nvSpPr>
        <p:spPr>
          <a:xfrm>
            <a:off x="5572080" y="3500280"/>
            <a:ext cx="1079640" cy="107964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9"/>
          <p:cNvSpPr/>
          <p:nvPr/>
        </p:nvSpPr>
        <p:spPr>
          <a:xfrm>
            <a:off x="5572080" y="4786200"/>
            <a:ext cx="1071720" cy="107964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AutoShape 34"/>
          <p:cNvGrpSpPr/>
          <p:nvPr/>
        </p:nvGrpSpPr>
        <p:grpSpPr>
          <a:xfrm>
            <a:off x="7656480" y="6321600"/>
            <a:ext cx="1542960" cy="609480"/>
            <a:chOff x="7656480" y="6321600"/>
            <a:chExt cx="1542960" cy="609480"/>
          </a:xfrm>
        </p:grpSpPr>
        <p:pic>
          <p:nvPicPr>
            <p:cNvPr id="170" name="AutoShape 34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56480" y="6321600"/>
              <a:ext cx="15429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715160" y="6357960"/>
              <a:ext cx="1428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684360" y="692280"/>
            <a:ext cx="7775280" cy="10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На её могиле есть слова: «Верная Гал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755640" y="2500200"/>
            <a:ext cx="5757840" cy="1000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 могиле Бенислав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755640" y="4643280"/>
            <a:ext cx="5757840" cy="100044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 могиле Миклашев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929280" y="2714760"/>
            <a:ext cx="1071720" cy="107136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6929280" y="4500720"/>
            <a:ext cx="1214640" cy="11318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AutoShape 34"/>
          <p:cNvGrpSpPr/>
          <p:nvPr/>
        </p:nvGrpSpPr>
        <p:grpSpPr>
          <a:xfrm>
            <a:off x="7656480" y="6394320"/>
            <a:ext cx="1542960" cy="536760"/>
            <a:chOff x="7656480" y="6394320"/>
            <a:chExt cx="1542960" cy="536760"/>
          </a:xfrm>
        </p:grpSpPr>
        <p:pic>
          <p:nvPicPr>
            <p:cNvPr id="178" name="AutoShape 34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56480" y="6394320"/>
              <a:ext cx="1542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715160" y="6429240"/>
              <a:ext cx="1428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395280" y="428760"/>
            <a:ext cx="82090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акие из перечисленных стихотворений име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тношение к А. Миклашевс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1285920" y="5286240"/>
            <a:ext cx="3929040" cy="1079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Клён ты 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опавший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285920" y="1557360"/>
            <a:ext cx="3929040" cy="1079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Письмо женщин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1285920" y="4005360"/>
            <a:ext cx="392904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Дорогая, сяд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рядом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285920" y="2781360"/>
            <a:ext cx="392904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Заметался пож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голубой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5929200" y="2857680"/>
            <a:ext cx="1079640" cy="10792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5929200" y="1571760"/>
            <a:ext cx="1079640" cy="10792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6000840" y="5286240"/>
            <a:ext cx="1079280" cy="107964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5929200" y="407196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AutoShape 34"/>
          <p:cNvGrpSpPr/>
          <p:nvPr/>
        </p:nvGrpSpPr>
        <p:grpSpPr>
          <a:xfrm>
            <a:off x="7669080" y="6308640"/>
            <a:ext cx="1839960" cy="914400"/>
            <a:chOff x="7669080" y="6308640"/>
            <a:chExt cx="1839960" cy="914400"/>
          </a:xfrm>
        </p:grpSpPr>
        <p:pic>
          <p:nvPicPr>
            <p:cNvPr id="190" name="AutoShape 34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69080" y="6308640"/>
              <a:ext cx="1839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715160" y="6357960"/>
              <a:ext cx="1428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6851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71680" y="549360"/>
            <a:ext cx="800100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аким видом искусства увлекалась  А. Дунк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1428840" y="2071800"/>
            <a:ext cx="3357360" cy="928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Теа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1428840" y="3429000"/>
            <a:ext cx="3357360" cy="1000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Тан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1428840" y="4857840"/>
            <a:ext cx="342900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Оп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7"/>
          <p:cNvSpPr/>
          <p:nvPr/>
        </p:nvSpPr>
        <p:spPr>
          <a:xfrm>
            <a:off x="5572080" y="2000160"/>
            <a:ext cx="1079640" cy="10796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8"/>
          <p:cNvSpPr/>
          <p:nvPr/>
        </p:nvSpPr>
        <p:spPr>
          <a:xfrm>
            <a:off x="5572080" y="3429000"/>
            <a:ext cx="1079640" cy="100008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9"/>
          <p:cNvSpPr/>
          <p:nvPr/>
        </p:nvSpPr>
        <p:spPr>
          <a:xfrm>
            <a:off x="5572080" y="4786200"/>
            <a:ext cx="1165320" cy="10796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AutoShape 34"/>
          <p:cNvGrpSpPr/>
          <p:nvPr/>
        </p:nvGrpSpPr>
        <p:grpSpPr>
          <a:xfrm>
            <a:off x="7656480" y="6321600"/>
            <a:ext cx="1542960" cy="609480"/>
            <a:chOff x="7656480" y="6321600"/>
            <a:chExt cx="1542960" cy="609480"/>
          </a:xfrm>
        </p:grpSpPr>
        <p:pic>
          <p:nvPicPr>
            <p:cNvPr id="201" name="AutoShape 34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56480" y="6321600"/>
              <a:ext cx="15429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715160" y="6357960"/>
              <a:ext cx="1428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755640" y="549360"/>
            <a:ext cx="755820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какой сборник С. Есенина включе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ихотворение «Шаганэ ты моя, Шаганэ…»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042920" y="1857240"/>
            <a:ext cx="4672080" cy="8575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Радуни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116000" y="5500800"/>
            <a:ext cx="4599000" cy="857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Стихи скандалис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116000" y="4214880"/>
            <a:ext cx="4599000" cy="857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Любовь хулига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1116000" y="3071880"/>
            <a:ext cx="4599000" cy="857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Персидские мотив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6858000" y="1785960"/>
            <a:ext cx="1079640" cy="9288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6858000" y="4214880"/>
            <a:ext cx="1079640" cy="9288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9"/>
          <p:cNvSpPr/>
          <p:nvPr/>
        </p:nvSpPr>
        <p:spPr>
          <a:xfrm>
            <a:off x="6858000" y="3000240"/>
            <a:ext cx="1079640" cy="9288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6858000" y="5357880"/>
            <a:ext cx="1079640" cy="10080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AutoShape 34"/>
          <p:cNvGrpSpPr/>
          <p:nvPr/>
        </p:nvGrpSpPr>
        <p:grpSpPr>
          <a:xfrm>
            <a:off x="7656480" y="6394320"/>
            <a:ext cx="1542960" cy="536760"/>
            <a:chOff x="7656480" y="6394320"/>
            <a:chExt cx="1542960" cy="536760"/>
          </a:xfrm>
        </p:grpSpPr>
        <p:pic>
          <p:nvPicPr>
            <p:cNvPr id="213" name="AutoShape 34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56480" y="6394320"/>
              <a:ext cx="1542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7715160" y="6429240"/>
              <a:ext cx="1428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4240" y="1499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2428560"/>
            <a:ext cx="64008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о неправильных ответов - «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2 неправильных ответа – «4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3 неправильных ответов – «3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Использованные источ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очери Николая Второго -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kp.md/daily/24316.3/508823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огила Бениславской -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znakpamyati.narod.ru/benislavskaya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дежда Вольпин -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eseniada.narod.ru/volpin2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сенин и Толстая -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diana-zb.narod.ru/plaha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ергей Есенин с матерью -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feb-web.ru/feb/sholokh/critics/ksp/ksp-001b.htm?cmd=2&amp;part=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айды 1- 4, 8,11, 13,14 -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ww.a4format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айд  2 -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ozon.ru/context/detail/id/5003612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идия Кашина -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konstantinovohram.ru/photo/his/index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395280" y="260280"/>
            <a:ext cx="8078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no Pro Caption"/>
              </a:rPr>
              <a:t>Юбилею 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no Pro Caption"/>
              </a:rPr>
              <a:t>Сергея Александровича Есенина посвящ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286000" y="185724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...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И не жалость - мало ж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И не горечь - мало дал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Много жил - кто в наши ж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Дни, всё дал -- кто песню д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М. Цветае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" descr="сар 1895.jpg"/>
          <p:cNvPicPr/>
          <p:nvPr/>
        </p:nvPicPr>
        <p:blipFill>
          <a:blip r:embed="rId2"/>
          <a:stretch/>
        </p:blipFill>
        <p:spPr>
          <a:xfrm>
            <a:off x="0" y="990720"/>
            <a:ext cx="3886200" cy="58672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7"/>
          <p:cNvSpPr/>
          <p:nvPr/>
        </p:nvSpPr>
        <p:spPr>
          <a:xfrm>
            <a:off x="4714920" y="2000160"/>
            <a:ext cx="3929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Когда –то у той вон кали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Мне было шестнадцать л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И девушка в белой накид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Сказала мне  ласково: «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Далёкие, милые были!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Тот образ во мне не уга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Мы все в эти годы люби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Но, значит, любили и н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0" y="1071720"/>
            <a:ext cx="3786120" cy="54291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4071960" y="750960"/>
            <a:ext cx="4071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Я помню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Она говор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"Простите...  Была не права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Я мужа безумно люб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Как вспомню... болит голова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Но в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Оскорбила случайно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Жестокость была мой суд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Была в том печальная тай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Что страстью преступной зов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8" descr="el1-567-.jpg"/>
          <p:cNvPicPr/>
          <p:nvPr/>
        </p:nvPicPr>
        <p:blipFill>
          <a:blip r:embed="rId2"/>
          <a:stretch/>
        </p:blipFill>
        <p:spPr>
          <a:xfrm>
            <a:off x="0" y="1214280"/>
            <a:ext cx="3714840" cy="56437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4143240" y="2286000"/>
            <a:ext cx="392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5968"/>
                </a:solidFill>
                <a:latin typeface="Arial"/>
              </a:rPr>
              <a:t>С алым соком ягоды на ко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5968"/>
                </a:solidFill>
                <a:latin typeface="Arial"/>
              </a:rPr>
              <a:t>Нежная, красивая бы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5968"/>
                </a:solidFill>
                <a:latin typeface="Arial"/>
              </a:rPr>
              <a:t>На закат ты розовый похо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5968"/>
                </a:solidFill>
                <a:latin typeface="Arial"/>
              </a:rPr>
              <a:t>И, как снег, лучиста и свет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714240" y="5000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no Pro Smbd"/>
              </a:rPr>
              <a:t>Мария Бальзамова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no Pro Smbd"/>
              </a:rPr>
              <a:t>и Анна Сардан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4" descr="анна из.jpg"/>
          <p:cNvPicPr/>
          <p:nvPr/>
        </p:nvPicPr>
        <p:blipFill>
          <a:blip r:embed="rId2"/>
          <a:stretch/>
        </p:blipFill>
        <p:spPr>
          <a:xfrm>
            <a:off x="0" y="1214280"/>
            <a:ext cx="4143240" cy="56437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214200" y="28584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no Pro Smbd"/>
              </a:rPr>
              <a:t>Анна Романовна </a:t>
            </a:r>
            <a:br>
              <a:rPr sz="1800"/>
            </a:br>
            <a:r>
              <a:rPr b="0" i="1" lang="ru-RU" sz="1800" spc="-1" strike="noStrike">
                <a:solidFill>
                  <a:srgbClr val="ff0000"/>
                </a:solidFill>
                <a:latin typeface="Arno Pro Smbd"/>
              </a:rPr>
              <a:t>Изряд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4572000" y="1571760"/>
            <a:ext cx="3714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Знаю, годы тревогу заглуш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Эта боль, как и годы, пройд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И уста, и невинную душ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Для другого она бережёт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Не с тоски я судьбы поджид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Будет злобно крутить поро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И придёт она к нашему кра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Обогреть своего малыша</a:t>
            </a:r>
            <a:r>
              <a:rPr b="0" i="1" lang="en-US" sz="2000" spc="-1" strike="noStrike">
                <a:solidFill>
                  <a:srgbClr val="403152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4" descr="208069.jpg"/>
          <p:cNvPicPr/>
          <p:nvPr/>
        </p:nvPicPr>
        <p:blipFill>
          <a:blip r:embed="rId2"/>
          <a:stretch/>
        </p:blipFill>
        <p:spPr>
          <a:xfrm>
            <a:off x="0" y="1143000"/>
            <a:ext cx="4214880" cy="5715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642960" y="571680"/>
            <a:ext cx="47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no Pro Display"/>
              </a:rPr>
              <a:t>Русские царе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4357800" y="1857240"/>
            <a:ext cx="435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no Pro"/>
              </a:rPr>
              <a:t>Приветствует мой стих младых царе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no Pro"/>
              </a:rPr>
              <a:t>И кроткость юную в их ласковых серд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no Pro"/>
              </a:rPr>
              <a:t>Где тени бледные и горестные му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no Pro"/>
              </a:rPr>
              <a:t>Они тому, кто шёл страдать за на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no Pro"/>
              </a:rPr>
              <a:t>Протягивают царственные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2"/>
          <p:cNvSpPr/>
          <p:nvPr/>
        </p:nvSpPr>
        <p:spPr>
          <a:xfrm>
            <a:off x="4286160" y="4714920"/>
            <a:ext cx="45007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райх.jpeg"/>
          <p:cNvPicPr/>
          <p:nvPr/>
        </p:nvPicPr>
        <p:blipFill>
          <a:blip r:embed="rId2"/>
          <a:stretch/>
        </p:blipFill>
        <p:spPr>
          <a:xfrm>
            <a:off x="0" y="1214280"/>
            <a:ext cx="4000680" cy="56437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6"/>
          <p:cNvSpPr/>
          <p:nvPr/>
        </p:nvSpPr>
        <p:spPr>
          <a:xfrm>
            <a:off x="357120" y="50004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no Pro"/>
              </a:rPr>
              <a:t>Зинаида Райх с детьми С. Есе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4500720" y="1305000"/>
            <a:ext cx="3929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Вы помни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Вы всё, конечно, помни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Как я стоя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Приблизившись к сте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Взволнованно ходили вы по комн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И что-то рез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В лицо бросали м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Любим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Меня вы не люби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Любим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Я мучил ва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У вас была то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В глазах усталых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B</cp:lastModifiedBy>
  <dcterms:modified xsi:type="dcterms:W3CDTF">2010-10-18T07:21:36Z</dcterms:modified>
  <cp:revision>102</cp:revision>
  <dc:subject/>
  <dc:title>Любимые женщины  Сергея Есенина</dc:title>
</cp:coreProperties>
</file>