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jpeg" ContentType="image/jpeg"/>
  <Override PartName="/ppt/media/image2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3081-FEDE-44BD-BAF2-BB9FA6583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945-011E-4854-9797-D5D4FA836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27E3-BF92-414D-AF5D-656FB4FEF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F1B9-6C7F-4351-A7FA-EDCCC9250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C27F-78FC-4521-8905-F9FAD4DFE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E42C-E189-40E1-9360-A7994513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248-C6EF-47FC-A804-717D3269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529-20DE-4F21-B9DE-AE82F9BBF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9674-F380-4477-927B-F09B9AF9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275F-C390-4BC3-B240-34202F33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5539-AC1B-4CF0-8FA1-EEFA38CF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5D21-791A-4FFB-BD96-BC9088FD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07DB-2706-4833-934F-3CDC6411E7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lick.wav" TargetMode="Externa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file:///tmp/home/.config/libreoffice/4/user/gallery/click.wav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kp.md/daily/24316.3/508823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14856-79D1-4FBE-88CF-2655E857E1A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2FDF-048F-4336-8B7B-3927EB4B6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5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image042-x5x3g.jpg"/>
          <p:cNvPicPr/>
          <p:nvPr/>
        </p:nvPicPr>
        <p:blipFill>
          <a:blip r:embed="rId2"/>
          <a:stretch/>
        </p:blipFill>
        <p:spPr>
          <a:xfrm>
            <a:off x="0" y="0"/>
            <a:ext cx="2743200" cy="3657600"/>
          </a:xfrm>
          <a:prstGeom prst="rect">
            <a:avLst/>
          </a:prstGeom>
          <a:ln w="0">
            <a:noFill/>
          </a:ln>
        </p:spPr>
      </p:pic>
      <p:sp>
        <p:nvSpPr>
          <p:cNvPr id="45" name="Прямоугольник 7"/>
          <p:cNvSpPr/>
          <p:nvPr/>
        </p:nvSpPr>
        <p:spPr>
          <a:xfrm>
            <a:off x="2857680" y="1357200"/>
            <a:ext cx="5715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Любимые женщины</a:t>
            </a: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 Сергея Есен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9"/>
          <p:cNvSpPr/>
          <p:nvPr/>
        </p:nvSpPr>
        <p:spPr>
          <a:xfrm>
            <a:off x="571680" y="507204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d0d0d"/>
                </a:solidFill>
                <a:latin typeface="Arial"/>
              </a:rPr>
              <a:t>Бродягина Ольга Семёновна, учитель русского языка и литературы МОУ Улётовская СО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" descr="alek.jpg"/>
          <p:cNvPicPr/>
          <p:nvPr/>
        </p:nvPicPr>
        <p:blipFill>
          <a:blip r:embed="rId2"/>
          <a:stretch/>
        </p:blipFill>
        <p:spPr>
          <a:xfrm>
            <a:off x="0" y="1143000"/>
            <a:ext cx="5572080" cy="571500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в2.jpg"/>
          <p:cNvPicPr/>
          <p:nvPr/>
        </p:nvPicPr>
        <p:blipFill>
          <a:blip r:embed="rId3"/>
          <a:stretch/>
        </p:blipFill>
        <p:spPr>
          <a:xfrm>
            <a:off x="6500880" y="1428840"/>
            <a:ext cx="1857240" cy="321444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1285920" y="500040"/>
            <a:ext cx="480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no Pro"/>
              </a:rPr>
              <a:t>Надежда  Давыдовна Вольп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Содержимое 8" descr="benislavskaya1.jpg"/>
          <p:cNvPicPr/>
          <p:nvPr/>
        </p:nvPicPr>
        <p:blipFill>
          <a:blip r:embed="rId2"/>
          <a:stretch/>
        </p:blipFill>
        <p:spPr>
          <a:xfrm>
            <a:off x="0" y="1214280"/>
            <a:ext cx="4071960" cy="564372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1" descr="бен.jpeg"/>
          <p:cNvPicPr/>
          <p:nvPr/>
        </p:nvPicPr>
        <p:blipFill>
          <a:blip r:embed="rId3"/>
          <a:stretch/>
        </p:blipFill>
        <p:spPr>
          <a:xfrm>
            <a:off x="5072040" y="214200"/>
            <a:ext cx="2457360" cy="5419800"/>
          </a:xfrm>
          <a:prstGeom prst="rect">
            <a:avLst/>
          </a:prstGeom>
          <a:ln w="0">
            <a:noFill/>
          </a:ln>
        </p:spPr>
      </p:pic>
      <p:sp>
        <p:nvSpPr>
          <p:cNvPr id="83" name="Прямоугольник 4"/>
          <p:cNvSpPr/>
          <p:nvPr/>
        </p:nvSpPr>
        <p:spPr>
          <a:xfrm>
            <a:off x="428760" y="428760"/>
            <a:ext cx="528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Arno Pro Smbd Caption"/>
              </a:rPr>
              <a:t>Галина Бенисла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4"/>
          <p:cNvSpPr/>
          <p:nvPr/>
        </p:nvSpPr>
        <p:spPr>
          <a:xfrm>
            <a:off x="428760" y="42876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no Pro Smbd"/>
              </a:rPr>
              <a:t>Айседора Дунка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5"/>
          <p:cNvSpPr/>
          <p:nvPr/>
        </p:nvSpPr>
        <p:spPr>
          <a:xfrm>
            <a:off x="4429080" y="2928960"/>
            <a:ext cx="421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Снова пьют здесь, дерутся и  плач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од гармоники желтую гру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Проклиная свои неудач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Вспоминают московскую Ру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Рисунок 1" descr="index_pic.jpeg"/>
          <p:cNvPicPr/>
          <p:nvPr/>
        </p:nvPicPr>
        <p:blipFill>
          <a:blip r:embed="rId2"/>
          <a:stretch/>
        </p:blipFill>
        <p:spPr>
          <a:xfrm>
            <a:off x="4857840" y="357120"/>
            <a:ext cx="28810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2" descr="дункан.jpeg"/>
          <p:cNvPicPr/>
          <p:nvPr/>
        </p:nvPicPr>
        <p:blipFill>
          <a:blip r:embed="rId3"/>
          <a:stretch/>
        </p:blipFill>
        <p:spPr>
          <a:xfrm rot="20522400">
            <a:off x="611280" y="1779120"/>
            <a:ext cx="329868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1" descr="микл.jpeg"/>
          <p:cNvPicPr/>
          <p:nvPr/>
        </p:nvPicPr>
        <p:blipFill>
          <a:blip r:embed="rId2"/>
          <a:stretch/>
        </p:blipFill>
        <p:spPr>
          <a:xfrm>
            <a:off x="0" y="1214280"/>
            <a:ext cx="3962520" cy="5643720"/>
          </a:xfrm>
          <a:prstGeom prst="rect">
            <a:avLst/>
          </a:prstGeom>
          <a:ln w="0">
            <a:noFill/>
          </a:ln>
        </p:spPr>
      </p:pic>
      <p:sp>
        <p:nvSpPr>
          <p:cNvPr id="91" name="Прямоугольник 3"/>
          <p:cNvSpPr/>
          <p:nvPr/>
        </p:nvSpPr>
        <p:spPr>
          <a:xfrm>
            <a:off x="857160" y="571680"/>
            <a:ext cx="49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 Narrow"/>
              </a:rPr>
              <a:t>Августа Миклашев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4429080" y="1996920"/>
            <a:ext cx="4000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Дорогая, сядем ря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Поглядим в глаза друг друг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Я хочу под  кротким взгл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Слушать чувственную вьюг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------------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Ты такая ж простая, как вс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Как сто тысяч других 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Знаешь ты одинокий рассв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4040"/>
                </a:solidFill>
                <a:latin typeface="Arno Pro Smbd"/>
              </a:rPr>
              <a:t>Знаешь холод осени син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1" descr="шаганэ.jpeg"/>
          <p:cNvPicPr/>
          <p:nvPr/>
        </p:nvPicPr>
        <p:blipFill>
          <a:blip r:embed="rId2"/>
          <a:stretch/>
        </p:blipFill>
        <p:spPr>
          <a:xfrm>
            <a:off x="0" y="1071720"/>
            <a:ext cx="3857760" cy="578628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3"/>
          <p:cNvSpPr/>
          <p:nvPr/>
        </p:nvSpPr>
        <p:spPr>
          <a:xfrm>
            <a:off x="357120" y="428760"/>
            <a:ext cx="54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Шагандухт Талья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4"/>
          <p:cNvSpPr/>
          <p:nvPr/>
        </p:nvSpPr>
        <p:spPr>
          <a:xfrm>
            <a:off x="4357800" y="2143080"/>
            <a:ext cx="4071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Шаганэ, ты моя Шаганэ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Там, на севере, девушка тож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 тебя она страшно похож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Может, думает обо мне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Шаганэ ты моя ,Шаганэ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Заглуши в душе тоску тальян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апои дыханьем свежих ча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Чтобы я о дальней северян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</a:rPr>
              <a:t>Не вздыхал, не думал, не скуча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esenin_Esenin_Dunkan_Berlin_1922.jpg"/>
          <p:cNvPicPr/>
          <p:nvPr/>
        </p:nvPicPr>
        <p:blipFill>
          <a:blip r:embed="rId2"/>
          <a:stretch/>
        </p:blipFill>
        <p:spPr>
          <a:xfrm>
            <a:off x="0" y="1214280"/>
            <a:ext cx="3929040" cy="5643720"/>
          </a:xfrm>
          <a:prstGeom prst="rect">
            <a:avLst/>
          </a:prstGeom>
          <a:ln w="0">
            <a:noFill/>
          </a:ln>
        </p:spPr>
      </p:pic>
      <p:sp>
        <p:nvSpPr>
          <p:cNvPr id="99" name="Прямоугольник 3"/>
          <p:cNvSpPr/>
          <p:nvPr/>
        </p:nvSpPr>
        <p:spPr>
          <a:xfrm>
            <a:off x="428760" y="428760"/>
            <a:ext cx="616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ергей Есенин и Софья Толст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4"/>
          <p:cNvSpPr/>
          <p:nvPr/>
        </p:nvSpPr>
        <p:spPr>
          <a:xfrm>
            <a:off x="4500720" y="1357200"/>
            <a:ext cx="4214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Милая, мне скоро стукнет тридц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И земля милей мне с каждым дн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Оттого и сердцу станет снить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Что горю я розовым огнём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Коль гореть, так уж гореть сгор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И недаром в липовую цве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Вынул я кольцо у попугая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03152"/>
                </a:solidFill>
                <a:latin typeface="Arial Narrow"/>
              </a:rPr>
              <a:t>Знак того, что вместе нам сгор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1" descr="с катей.jpeg"/>
          <p:cNvPicPr/>
          <p:nvPr/>
        </p:nvPicPr>
        <p:blipFill>
          <a:blip r:embed="rId2"/>
          <a:stretch/>
        </p:blipFill>
        <p:spPr>
          <a:xfrm>
            <a:off x="0" y="1143000"/>
            <a:ext cx="3214800" cy="5715000"/>
          </a:xfrm>
          <a:prstGeom prst="rect">
            <a:avLst/>
          </a:prstGeom>
          <a:ln w="0">
            <a:noFill/>
          </a:ln>
        </p:spPr>
      </p:pic>
      <p:sp>
        <p:nvSpPr>
          <p:cNvPr id="103" name="Прямоугольник 3"/>
          <p:cNvSpPr/>
          <p:nvPr/>
        </p:nvSpPr>
        <p:spPr>
          <a:xfrm>
            <a:off x="357120" y="285840"/>
            <a:ext cx="592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Сергей Есенин и Александра Есе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4"/>
          <p:cNvSpPr/>
          <p:nvPr/>
        </p:nvSpPr>
        <p:spPr>
          <a:xfrm>
            <a:off x="3643200" y="2136600"/>
            <a:ext cx="4500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Я красивых таких не виде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Только, знаешь, в душе зата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Не в плохой, а в хорошей обиде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Повторяешь ты юность мо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Ты — мое васильковое слов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Я навеки люблю т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Как живет теперь наша коров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3152"/>
                </a:solidFill>
                <a:latin typeface="Arno Pro SmText"/>
              </a:rPr>
              <a:t>Грусть соломенную тереб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2" descr="мать.jpeg"/>
          <p:cNvPicPr/>
          <p:nvPr/>
        </p:nvPicPr>
        <p:blipFill>
          <a:blip r:embed="rId2"/>
          <a:stretch/>
        </p:blipFill>
        <p:spPr>
          <a:xfrm rot="20823600">
            <a:off x="496800" y="1498320"/>
            <a:ext cx="3514680" cy="29239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3" descr="е и м.jpg"/>
          <p:cNvPicPr/>
          <p:nvPr/>
        </p:nvPicPr>
        <p:blipFill>
          <a:blip r:embed="rId3"/>
          <a:stretch/>
        </p:blipFill>
        <p:spPr>
          <a:xfrm>
            <a:off x="0" y="3714840"/>
            <a:ext cx="4343400" cy="314316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4"/>
          <p:cNvSpPr/>
          <p:nvPr/>
        </p:nvSpPr>
        <p:spPr>
          <a:xfrm>
            <a:off x="642960" y="428760"/>
            <a:ext cx="548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no Pro"/>
              </a:rPr>
              <a:t>Татьяна   Фёдоровна   Есен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4500720" y="1285920"/>
            <a:ext cx="4214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Ты жива еще, моя старуш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Жив и я. Привет тебе, привет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Пусть струится над твоей избуш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Тот вечерний несказанный св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Пишут мне, что ты, тая тревог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Загрустила шибко обо м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Что ты часто xодишь на доро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10253f"/>
                </a:solidFill>
                <a:latin typeface="Arial"/>
              </a:rPr>
              <a:t>В старомодном ветxом шушу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4"/>
          <p:cNvSpPr/>
          <p:nvPr/>
        </p:nvSpPr>
        <p:spPr>
          <a:xfrm>
            <a:off x="642960" y="428760"/>
            <a:ext cx="784872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образ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 Анны Снегиной воплотились че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857160" y="5286240"/>
            <a:ext cx="457200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Александры Есен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928800" y="1557360"/>
            <a:ext cx="450036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ны Изряднов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928800" y="4005360"/>
            <a:ext cx="450036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нны Сарданов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928800" y="2786040"/>
            <a:ext cx="450036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Лидии Каши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15"/>
          <p:cNvSpPr/>
          <p:nvPr/>
        </p:nvSpPr>
        <p:spPr>
          <a:xfrm>
            <a:off x="5929200" y="285768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6"/>
          <p:cNvSpPr/>
          <p:nvPr/>
        </p:nvSpPr>
        <p:spPr>
          <a:xfrm>
            <a:off x="5929200" y="157176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17"/>
          <p:cNvSpPr/>
          <p:nvPr/>
        </p:nvSpPr>
        <p:spPr>
          <a:xfrm>
            <a:off x="6000840" y="5286240"/>
            <a:ext cx="107928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8"/>
          <p:cNvSpPr/>
          <p:nvPr/>
        </p:nvSpPr>
        <p:spPr>
          <a:xfrm>
            <a:off x="5929200" y="407196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120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84360" y="692280"/>
            <a:ext cx="7775280" cy="10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ринято считать, что одно из этих стихотвор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посвящено  Марии Бальзамов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7"/>
          <p:cNvSpPr/>
          <p:nvPr/>
        </p:nvSpPr>
        <p:spPr>
          <a:xfrm>
            <a:off x="714240" y="2357280"/>
            <a:ext cx="5757840" cy="150984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«Не бродить, не мять в куста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багряны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8"/>
          <p:cNvSpPr/>
          <p:nvPr/>
        </p:nvSpPr>
        <p:spPr>
          <a:xfrm>
            <a:off x="755640" y="4365720"/>
            <a:ext cx="5757840" cy="142056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«Зелёная причес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девическая груд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12"/>
          <p:cNvSpPr/>
          <p:nvPr/>
        </p:nvSpPr>
        <p:spPr>
          <a:xfrm>
            <a:off x="6877080" y="2786040"/>
            <a:ext cx="1195200" cy="1000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3"/>
          <p:cNvSpPr/>
          <p:nvPr/>
        </p:nvSpPr>
        <p:spPr>
          <a:xfrm>
            <a:off x="6929280" y="4643280"/>
            <a:ext cx="1214640" cy="11322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28" name="AutoShape 34" descr="">
              <a:hlinkClick r:id="" action="ppaction://hlinkshowjump?jump=nextslide"/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"/>
                            </p:stCondLst>
                            <p:childTnLst>
                              <p:par>
                                <p:cTn id="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2"/>
          <p:cNvSpPr/>
          <p:nvPr/>
        </p:nvSpPr>
        <p:spPr>
          <a:xfrm>
            <a:off x="1357200" y="357120"/>
            <a:ext cx="521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0000"/>
                </a:solidFill>
                <a:latin typeface="Arno Pro"/>
              </a:rPr>
              <a:t>Цель урок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3"/>
          <p:cNvSpPr/>
          <p:nvPr/>
        </p:nvSpPr>
        <p:spPr>
          <a:xfrm>
            <a:off x="285840" y="2136600"/>
            <a:ext cx="8572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Углубление представления о есенинской поэтике в одном из её важнейших аспектов – теме люб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Знакомство с адресатами любовной лир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17375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- Совершенствование навыков выразительного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     </a:t>
            </a:r>
            <a:r>
              <a:rPr b="0" i="1" lang="en-US" sz="2400" spc="-1" strike="noStrike">
                <a:solidFill>
                  <a:srgbClr val="17375e"/>
                </a:solidFill>
                <a:latin typeface="Arial"/>
              </a:rPr>
              <a:t>и анализа поэтического тек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571680" y="549360"/>
            <a:ext cx="8001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С Анной Изрядновой Есенин познакомил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826920" y="2071800"/>
            <a:ext cx="395928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Константин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826920" y="3429000"/>
            <a:ext cx="3959280" cy="100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2"/>
          <p:cNvSpPr/>
          <p:nvPr/>
        </p:nvSpPr>
        <p:spPr>
          <a:xfrm>
            <a:off x="900000" y="5013360"/>
            <a:ext cx="395784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в Петрог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7"/>
          <p:cNvSpPr/>
          <p:nvPr/>
        </p:nvSpPr>
        <p:spPr>
          <a:xfrm>
            <a:off x="5572080" y="200016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8"/>
          <p:cNvSpPr/>
          <p:nvPr/>
        </p:nvSpPr>
        <p:spPr>
          <a:xfrm>
            <a:off x="5572080" y="350028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9"/>
          <p:cNvSpPr/>
          <p:nvPr/>
        </p:nvSpPr>
        <p:spPr>
          <a:xfrm>
            <a:off x="5572080" y="4786200"/>
            <a:ext cx="116532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AutoShape 34"/>
          <p:cNvGrpSpPr/>
          <p:nvPr/>
        </p:nvGrpSpPr>
        <p:grpSpPr>
          <a:xfrm>
            <a:off x="7656480" y="6321600"/>
            <a:ext cx="1542960" cy="609480"/>
            <a:chOff x="7656480" y="6321600"/>
            <a:chExt cx="1542960" cy="609480"/>
          </a:xfrm>
        </p:grpSpPr>
        <p:pic>
          <p:nvPicPr>
            <p:cNvPr id="139" name="AutoShape 34" descr="">
              <a:hlinkClick r:id="" action="ppaction://hlinkshowjump?jump=nextslide"/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5648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0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285840" y="500040"/>
            <a:ext cx="8572320" cy="85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ергей Есенин в 1917 году особе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близился с царев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1857240" y="1557360"/>
            <a:ext cx="307188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Ольг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1857240" y="2714760"/>
            <a:ext cx="307188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Татья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1857240" y="4000680"/>
            <a:ext cx="307188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Анастас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1857240" y="5300640"/>
            <a:ext cx="307188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Мар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14"/>
          <p:cNvSpPr/>
          <p:nvPr/>
        </p:nvSpPr>
        <p:spPr>
          <a:xfrm>
            <a:off x="6143760" y="1428840"/>
            <a:ext cx="1079280" cy="10792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5"/>
          <p:cNvSpPr/>
          <p:nvPr/>
        </p:nvSpPr>
        <p:spPr>
          <a:xfrm>
            <a:off x="6143760" y="2714760"/>
            <a:ext cx="1079280" cy="10792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6"/>
          <p:cNvSpPr/>
          <p:nvPr/>
        </p:nvSpPr>
        <p:spPr>
          <a:xfrm>
            <a:off x="6143760" y="5357880"/>
            <a:ext cx="1079280" cy="10792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7"/>
          <p:cNvSpPr/>
          <p:nvPr/>
        </p:nvSpPr>
        <p:spPr>
          <a:xfrm>
            <a:off x="6143760" y="4143240"/>
            <a:ext cx="107928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51" name="AutoShape 34" descr="">
              <a:hlinkClick r:id="" action="ppaction://hlinkshowjump?jump=nextslide"/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"/>
                            </p:stCondLst>
                            <p:childTnLst>
                              <p:par>
                                <p:cTn id="1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3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4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4"/>
          <p:cNvSpPr/>
          <p:nvPr/>
        </p:nvSpPr>
        <p:spPr>
          <a:xfrm>
            <a:off x="684360" y="692280"/>
            <a:ext cx="7775280" cy="10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Сергей Есенин путешествовал на Солов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7"/>
          <p:cNvSpPr/>
          <p:nvPr/>
        </p:nvSpPr>
        <p:spPr>
          <a:xfrm>
            <a:off x="395280" y="2276640"/>
            <a:ext cx="6337440" cy="15094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 Алексеем Ганиным и Зинаидой Рай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8"/>
          <p:cNvSpPr/>
          <p:nvPr/>
        </p:nvSpPr>
        <p:spPr>
          <a:xfrm>
            <a:off x="539640" y="4365720"/>
            <a:ext cx="6193080" cy="142056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 Зинаидой Рай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12"/>
          <p:cNvSpPr/>
          <p:nvPr/>
        </p:nvSpPr>
        <p:spPr>
          <a:xfrm>
            <a:off x="6929280" y="2643120"/>
            <a:ext cx="1143000" cy="11430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3"/>
          <p:cNvSpPr/>
          <p:nvPr/>
        </p:nvSpPr>
        <p:spPr>
          <a:xfrm>
            <a:off x="6929280" y="4643280"/>
            <a:ext cx="1214640" cy="113220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59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69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571680" y="549360"/>
            <a:ext cx="8001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Не исключено, что стихотворения «Письмо женщине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и «Собаке Качалова» посвящ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428840" y="2071800"/>
            <a:ext cx="335736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вгу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Миклашевск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1428840" y="3429000"/>
            <a:ext cx="3357360" cy="10080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Зинаиде Рай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2"/>
          <p:cNvSpPr/>
          <p:nvPr/>
        </p:nvSpPr>
        <p:spPr>
          <a:xfrm>
            <a:off x="1428840" y="4857840"/>
            <a:ext cx="342900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Софье Толст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17"/>
          <p:cNvSpPr/>
          <p:nvPr/>
        </p:nvSpPr>
        <p:spPr>
          <a:xfrm>
            <a:off x="5572080" y="200016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18"/>
          <p:cNvSpPr/>
          <p:nvPr/>
        </p:nvSpPr>
        <p:spPr>
          <a:xfrm>
            <a:off x="5572080" y="3500280"/>
            <a:ext cx="107964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19"/>
          <p:cNvSpPr/>
          <p:nvPr/>
        </p:nvSpPr>
        <p:spPr>
          <a:xfrm>
            <a:off x="5572080" y="4786200"/>
            <a:ext cx="107172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AutoShape 34"/>
          <p:cNvGrpSpPr/>
          <p:nvPr/>
        </p:nvGrpSpPr>
        <p:grpSpPr>
          <a:xfrm>
            <a:off x="7656480" y="6321600"/>
            <a:ext cx="1542960" cy="609480"/>
            <a:chOff x="7656480" y="6321600"/>
            <a:chExt cx="1542960" cy="609480"/>
          </a:xfrm>
        </p:grpSpPr>
        <p:pic>
          <p:nvPicPr>
            <p:cNvPr id="170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11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2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684360" y="692280"/>
            <a:ext cx="7775280" cy="1022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alibri"/>
              </a:rPr>
              <a:t>На её могиле есть слова: «Верная Гал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755640" y="2500200"/>
            <a:ext cx="5757840" cy="1000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 могиле Бенислав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8"/>
          <p:cNvSpPr/>
          <p:nvPr/>
        </p:nvSpPr>
        <p:spPr>
          <a:xfrm>
            <a:off x="755640" y="4643280"/>
            <a:ext cx="5757840" cy="100044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На могиле Миклашевс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2"/>
          <p:cNvSpPr/>
          <p:nvPr/>
        </p:nvSpPr>
        <p:spPr>
          <a:xfrm>
            <a:off x="6929280" y="2714760"/>
            <a:ext cx="1071720" cy="107136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3"/>
          <p:cNvSpPr/>
          <p:nvPr/>
        </p:nvSpPr>
        <p:spPr>
          <a:xfrm>
            <a:off x="6929280" y="4500720"/>
            <a:ext cx="1214640" cy="11318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178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395280" y="428760"/>
            <a:ext cx="8209080" cy="9144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ие из перечисленных стихотворений имею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отношение к А. Миклашевс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1285920" y="5286240"/>
            <a:ext cx="392904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Клён ты м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павши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1285920" y="1557360"/>
            <a:ext cx="3929040" cy="10796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Письмо женщин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1285920" y="4005360"/>
            <a:ext cx="392904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Дорогая, сяд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рядо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1285920" y="2781360"/>
            <a:ext cx="392904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Заметался пожа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голубой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15"/>
          <p:cNvSpPr/>
          <p:nvPr/>
        </p:nvSpPr>
        <p:spPr>
          <a:xfrm>
            <a:off x="5929200" y="285768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6"/>
          <p:cNvSpPr/>
          <p:nvPr/>
        </p:nvSpPr>
        <p:spPr>
          <a:xfrm>
            <a:off x="5929200" y="1571760"/>
            <a:ext cx="1079640" cy="10792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17"/>
          <p:cNvSpPr/>
          <p:nvPr/>
        </p:nvSpPr>
        <p:spPr>
          <a:xfrm>
            <a:off x="6000840" y="5286240"/>
            <a:ext cx="1079280" cy="107964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18"/>
          <p:cNvSpPr/>
          <p:nvPr/>
        </p:nvSpPr>
        <p:spPr>
          <a:xfrm>
            <a:off x="5929200" y="4071960"/>
            <a:ext cx="1143000" cy="107172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AutoShape 34"/>
          <p:cNvGrpSpPr/>
          <p:nvPr/>
        </p:nvGrpSpPr>
        <p:grpSpPr>
          <a:xfrm>
            <a:off x="7669080" y="6308640"/>
            <a:ext cx="1839960" cy="914400"/>
            <a:chOff x="7669080" y="6308640"/>
            <a:chExt cx="1839960" cy="914400"/>
          </a:xfrm>
        </p:grpSpPr>
        <p:pic>
          <p:nvPicPr>
            <p:cNvPr id="190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69080" y="6308640"/>
              <a:ext cx="1839960" cy="91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1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5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68515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4"/>
          <p:cNvSpPr/>
          <p:nvPr/>
        </p:nvSpPr>
        <p:spPr>
          <a:xfrm>
            <a:off x="571680" y="549360"/>
            <a:ext cx="8001000" cy="86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Каким видом искусства увлекалась  А. Дункан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0"/>
          <p:cNvSpPr/>
          <p:nvPr/>
        </p:nvSpPr>
        <p:spPr>
          <a:xfrm>
            <a:off x="1428840" y="2071800"/>
            <a:ext cx="3357360" cy="92844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Теа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1"/>
          <p:cNvSpPr/>
          <p:nvPr/>
        </p:nvSpPr>
        <p:spPr>
          <a:xfrm>
            <a:off x="1428840" y="3429000"/>
            <a:ext cx="3357360" cy="10000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Тан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2"/>
          <p:cNvSpPr/>
          <p:nvPr/>
        </p:nvSpPr>
        <p:spPr>
          <a:xfrm>
            <a:off x="1428840" y="4857840"/>
            <a:ext cx="3429000" cy="91440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Оп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7"/>
          <p:cNvSpPr/>
          <p:nvPr/>
        </p:nvSpPr>
        <p:spPr>
          <a:xfrm>
            <a:off x="5572080" y="2000160"/>
            <a:ext cx="107964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18"/>
          <p:cNvSpPr/>
          <p:nvPr/>
        </p:nvSpPr>
        <p:spPr>
          <a:xfrm>
            <a:off x="5572080" y="3429000"/>
            <a:ext cx="1079640" cy="100008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19"/>
          <p:cNvSpPr/>
          <p:nvPr/>
        </p:nvSpPr>
        <p:spPr>
          <a:xfrm>
            <a:off x="5572080" y="4786200"/>
            <a:ext cx="1165320" cy="1079640"/>
          </a:xfrm>
          <a:prstGeom prst="pie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AutoShape 34"/>
          <p:cNvGrpSpPr/>
          <p:nvPr/>
        </p:nvGrpSpPr>
        <p:grpSpPr>
          <a:xfrm>
            <a:off x="7656480" y="6321600"/>
            <a:ext cx="1542960" cy="609480"/>
            <a:chOff x="7656480" y="6321600"/>
            <a:chExt cx="1542960" cy="609480"/>
          </a:xfrm>
        </p:grpSpPr>
        <p:pic>
          <p:nvPicPr>
            <p:cNvPr id="201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21600"/>
              <a:ext cx="154296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715160" y="6357960"/>
              <a:ext cx="142884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4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5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16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9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40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5"/>
          <p:cNvSpPr/>
          <p:nvPr/>
        </p:nvSpPr>
        <p:spPr>
          <a:xfrm>
            <a:off x="755640" y="549360"/>
            <a:ext cx="7558200" cy="1079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В какой сборник С. Есенина включен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тихотворение «Шаганэ ты моя, Шаганэ…»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6"/>
          <p:cNvSpPr/>
          <p:nvPr/>
        </p:nvSpPr>
        <p:spPr>
          <a:xfrm>
            <a:off x="1042920" y="1857240"/>
            <a:ext cx="4672080" cy="85752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Радуниц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7"/>
          <p:cNvSpPr/>
          <p:nvPr/>
        </p:nvSpPr>
        <p:spPr>
          <a:xfrm>
            <a:off x="1116000" y="5500800"/>
            <a:ext cx="459900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Стихи скандалис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8"/>
          <p:cNvSpPr/>
          <p:nvPr/>
        </p:nvSpPr>
        <p:spPr>
          <a:xfrm>
            <a:off x="1116000" y="4214880"/>
            <a:ext cx="459900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Любовь хулиган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9"/>
          <p:cNvSpPr/>
          <p:nvPr/>
        </p:nvSpPr>
        <p:spPr>
          <a:xfrm>
            <a:off x="1116000" y="3071880"/>
            <a:ext cx="4599000" cy="85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alibri"/>
              </a:rPr>
              <a:t>«Персидские мотив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7"/>
          <p:cNvSpPr/>
          <p:nvPr/>
        </p:nvSpPr>
        <p:spPr>
          <a:xfrm>
            <a:off x="6858000" y="1785960"/>
            <a:ext cx="10796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8"/>
          <p:cNvSpPr/>
          <p:nvPr/>
        </p:nvSpPr>
        <p:spPr>
          <a:xfrm>
            <a:off x="6858000" y="4214880"/>
            <a:ext cx="10796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9"/>
          <p:cNvSpPr/>
          <p:nvPr/>
        </p:nvSpPr>
        <p:spPr>
          <a:xfrm>
            <a:off x="6858000" y="3000240"/>
            <a:ext cx="1079640" cy="9288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20"/>
          <p:cNvSpPr/>
          <p:nvPr/>
        </p:nvSpPr>
        <p:spPr>
          <a:xfrm>
            <a:off x="6858000" y="5357880"/>
            <a:ext cx="1079640" cy="100800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AutoShape 34"/>
          <p:cNvGrpSpPr/>
          <p:nvPr/>
        </p:nvGrpSpPr>
        <p:grpSpPr>
          <a:xfrm>
            <a:off x="7656480" y="6394320"/>
            <a:ext cx="1542960" cy="536760"/>
            <a:chOff x="7656480" y="6394320"/>
            <a:chExt cx="1542960" cy="536760"/>
          </a:xfrm>
        </p:grpSpPr>
        <p:pic>
          <p:nvPicPr>
            <p:cNvPr id="213" name="AutoShape 34" descr="">
              <a:hlinkClick r:id="" action="ppaction://hlinkshowjump?jump=nextslide"/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7656480" y="6394320"/>
              <a:ext cx="1542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7715160" y="6429240"/>
              <a:ext cx="14288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5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366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7" restart="whenNotActive" nodeType="interactiveSeq" fill="hold">
                <p:stCondLst>
                  <p:cond evt="onClick">
                    <p:tgtEl>
                      <p:spTgt spid="206"/>
                    </p:tgtEl>
                  </p:cond>
                </p:stCondLst>
                <p:childTnLst>
                  <p:par>
                    <p:cTn id="378" fill="hold">
                      <p:stCondLst>
                        <p:cond evt="onClick">
                          <p:tgtEl>
                            <p:spTgt spid="206"/>
                          </p:tgtEl>
                        </p:cond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33cc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14240" y="1499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Calibri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2428560"/>
            <a:ext cx="64008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о неправильных ответов - «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2 неправильных ответа – «4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Calibri"/>
              </a:rPr>
              <a:t>3 неправильных ответов – «3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alibri"/>
              </a:rPr>
              <a:t>Использованные источни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Дочери Николая Второго -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kp.md/daily/24316.3/508823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Могила Бениславской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znakpamyati.narod.ru/benislavskaya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Надежда Вольпин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eseniada.narod.ru/volpin2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Есенин и Толстая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diana-zb.narod.ru/plaha.ht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ергей Есенин с матерью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feb-web.ru/feb/sholokh/critics/ksp/ksp-001b.htm?cmd=2&amp;part=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айды 1- 4, 8,11, 13,14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www.a4format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лайд  2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ozon.ru/context/detail/id/5003612/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Лидия Кашина -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://www.konstantinovohram.ru/photo/his/index.htm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3"/>
          <p:cNvSpPr/>
          <p:nvPr/>
        </p:nvSpPr>
        <p:spPr>
          <a:xfrm>
            <a:off x="395280" y="260280"/>
            <a:ext cx="8078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no Pro Caption"/>
              </a:rPr>
              <a:t>Юбилею 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no Pro Caption"/>
              </a:rPr>
              <a:t>Сергея Александровича Есенина посвящае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4"/>
          <p:cNvSpPr/>
          <p:nvPr/>
        </p:nvSpPr>
        <p:spPr>
          <a:xfrm>
            <a:off x="2286000" y="1857240"/>
            <a:ext cx="457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...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 не жалость - мало 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И не горечь - мало дал,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Много жил - кто в наши жи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Дни, всё дал -- кто песню да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М. Цветае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1" descr="сар 1895.jpg"/>
          <p:cNvPicPr/>
          <p:nvPr/>
        </p:nvPicPr>
        <p:blipFill>
          <a:blip r:embed="rId2"/>
          <a:stretch/>
        </p:blipFill>
        <p:spPr>
          <a:xfrm>
            <a:off x="0" y="990720"/>
            <a:ext cx="3886200" cy="5867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7"/>
          <p:cNvSpPr/>
          <p:nvPr/>
        </p:nvSpPr>
        <p:spPr>
          <a:xfrm>
            <a:off x="4714920" y="2000160"/>
            <a:ext cx="3929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Когда –то у той вон кали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Мне было шестнадцать ле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И девушка в белой накид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Сказала мне  ласково: «Нет!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Далёкие, милые были!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Тот образ во мне не уг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Мы все в эти годы любил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54061"/>
                </a:solidFill>
                <a:latin typeface="Arial"/>
              </a:rPr>
              <a:t>Но, значит, любили и н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0" y="1071720"/>
            <a:ext cx="3786120" cy="54291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3"/>
          <p:cNvSpPr/>
          <p:nvPr/>
        </p:nvSpPr>
        <p:spPr>
          <a:xfrm>
            <a:off x="4071960" y="750960"/>
            <a:ext cx="4071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Я помню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Она говори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"Простите...  Была не прав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Я мужа безумно люби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Как вспомню... болит голова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Но в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Оскорбила случайно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Жестокость была мой суд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Была в том печальная тай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03152"/>
                </a:solidFill>
                <a:latin typeface="Arial Narrow"/>
              </a:rPr>
              <a:t>Что страстью преступной зов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Содержимое 8" descr="el1-567-.jpg"/>
          <p:cNvPicPr/>
          <p:nvPr/>
        </p:nvPicPr>
        <p:blipFill>
          <a:blip r:embed="rId2"/>
          <a:stretch/>
        </p:blipFill>
        <p:spPr>
          <a:xfrm>
            <a:off x="0" y="1214280"/>
            <a:ext cx="3714840" cy="564372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3"/>
          <p:cNvSpPr/>
          <p:nvPr/>
        </p:nvSpPr>
        <p:spPr>
          <a:xfrm>
            <a:off x="4143240" y="2286000"/>
            <a:ext cx="3929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С алым соком ягоды на кож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Нежная, красивая бы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На закат ты розовый похож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215968"/>
                </a:solidFill>
                <a:latin typeface="Arial"/>
              </a:rPr>
              <a:t>И, как снег, лучиста и свет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5"/>
          <p:cNvSpPr/>
          <p:nvPr/>
        </p:nvSpPr>
        <p:spPr>
          <a:xfrm>
            <a:off x="714240" y="500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no Pro Smbd"/>
              </a:rPr>
              <a:t>Мария Бальзамова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no Pro Smbd"/>
              </a:rPr>
              <a:t>и Анна Сардан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Содержимое 4" descr="анна из.jpg"/>
          <p:cNvPicPr/>
          <p:nvPr/>
        </p:nvPicPr>
        <p:blipFill>
          <a:blip r:embed="rId2"/>
          <a:stretch/>
        </p:blipFill>
        <p:spPr>
          <a:xfrm>
            <a:off x="0" y="1214280"/>
            <a:ext cx="4143240" cy="56437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285840"/>
            <a:ext cx="66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no Pro Smbd"/>
              </a:rPr>
              <a:t>Анна Романовна </a:t>
            </a:r>
            <a:br>
              <a:rPr sz="1800"/>
            </a:br>
            <a:r>
              <a:rPr b="0" i="1" lang="ru-RU" sz="1800" spc="-1" strike="noStrike">
                <a:solidFill>
                  <a:srgbClr val="ff0000"/>
                </a:solidFill>
                <a:latin typeface="Arno Pro Smbd"/>
              </a:rPr>
              <a:t>Изряд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4"/>
          <p:cNvSpPr/>
          <p:nvPr/>
        </p:nvSpPr>
        <p:spPr>
          <a:xfrm>
            <a:off x="4572000" y="1571760"/>
            <a:ext cx="371484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Знаю, годы тревогу заглуш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Эта боль, как и годы, пройдё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И уста, и невинную душ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Для другого она бережёт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Не с тоски я судьбы поджид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Будет злобно крутить порош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И придёт она к нашему кра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03152"/>
                </a:solidFill>
                <a:latin typeface="Arial"/>
              </a:rPr>
              <a:t>Обогреть своего малыша</a:t>
            </a:r>
            <a:r>
              <a:rPr b="0" i="1" lang="en-US" sz="2000" spc="-1" strike="noStrike">
                <a:solidFill>
                  <a:srgbClr val="403152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" name="Содержимое 4" descr="208069.jpg"/>
          <p:cNvPicPr/>
          <p:nvPr/>
        </p:nvPicPr>
        <p:blipFill>
          <a:blip r:embed="rId2"/>
          <a:stretch/>
        </p:blipFill>
        <p:spPr>
          <a:xfrm>
            <a:off x="0" y="1143000"/>
            <a:ext cx="4214880" cy="57150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3"/>
          <p:cNvSpPr/>
          <p:nvPr/>
        </p:nvSpPr>
        <p:spPr>
          <a:xfrm>
            <a:off x="642960" y="571680"/>
            <a:ext cx="474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no Pro Display"/>
              </a:rPr>
              <a:t>Русские царев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4"/>
          <p:cNvSpPr/>
          <p:nvPr/>
        </p:nvSpPr>
        <p:spPr>
          <a:xfrm>
            <a:off x="4357800" y="1857240"/>
            <a:ext cx="4357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Приветствует мой стих младых царев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И кроткость юную в их ласковых сердц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Где тени бледные и горестные му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Они тому, кто шёл страдать за нас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no Pro"/>
              </a:rPr>
              <a:t>Протягивают царственные р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Рисунок 1" descr="фон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Заголовок 2"/>
          <p:cNvSpPr/>
          <p:nvPr/>
        </p:nvSpPr>
        <p:spPr>
          <a:xfrm>
            <a:off x="4286160" y="4714920"/>
            <a:ext cx="4500720" cy="15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1" descr="райх.jpeg"/>
          <p:cNvPicPr/>
          <p:nvPr/>
        </p:nvPicPr>
        <p:blipFill>
          <a:blip r:embed="rId2"/>
          <a:stretch/>
        </p:blipFill>
        <p:spPr>
          <a:xfrm>
            <a:off x="0" y="1214280"/>
            <a:ext cx="4000680" cy="56437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6"/>
          <p:cNvSpPr/>
          <p:nvPr/>
        </p:nvSpPr>
        <p:spPr>
          <a:xfrm>
            <a:off x="357120" y="500040"/>
            <a:ext cx="421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no Pro"/>
              </a:rPr>
              <a:t>Зинаида Райх с детьми С. Есе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7"/>
          <p:cNvSpPr/>
          <p:nvPr/>
        </p:nvSpPr>
        <p:spPr>
          <a:xfrm>
            <a:off x="4500720" y="1305000"/>
            <a:ext cx="39290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ы помн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ы всё, конечно, помнит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Как я стоя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Приблизившись к сте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зволнованно ходили вы по комна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И что-то рез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 лицо бросали м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Любим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Меня вы не люби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--------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Любимая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Я мучил вас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У вас была то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53735"/>
                </a:solidFill>
                <a:latin typeface="Arno Pro"/>
              </a:rPr>
              <a:t>В глазах усталых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_B</cp:lastModifiedBy>
  <dcterms:modified xsi:type="dcterms:W3CDTF">2010-10-18T07:21:36Z</dcterms:modified>
  <cp:revision>102</cp:revision>
  <dc:subject/>
  <dc:title>Любимые женщины  Сергея Есенина</dc:title>
</cp:coreProperties>
</file>