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DBD-B246-4032-A202-3BEAFB23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1CC-A06C-464B-BFD6-35C1684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54E-0795-4D96-ABB7-0538DCD3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EF6-20B8-4442-8AA2-7DF73C9D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C6E-0FA6-4D2E-A9CA-C1C2651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4EA-4AC4-4148-8CCC-C7B61721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506-6D45-4B5C-BC71-32C83B1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0E2-78B7-43EF-9069-A1BAE87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931-6B22-4AFC-B2CA-8F97056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EE4-72A6-4F14-9C51-4BE9FE4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28E-6776-4E2B-9AA4-E4BE62F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073-F378-4724-B77D-F4A8885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B3FF-6306-44F0-BBFE-A22EEF40D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p.md/daily/24316.3/508823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A23-DEB7-4C4E-9BE0-17F0F1C5B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117D-E3F2-45F3-A5D4-3FD85F0D1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image042-x5x3g.jpg"/>
          <p:cNvPicPr/>
          <p:nvPr/>
        </p:nvPicPr>
        <p:blipFill>
          <a:blip r:embed="rId2"/>
          <a:stretch/>
        </p:blipFill>
        <p:spPr>
          <a:xfrm>
            <a:off x="0" y="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857680" y="13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Любимые женщины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Сергея Есе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571680" y="50720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Бродягина Ольга Семёновна, учитель русского языка и литературы МОУ Улёт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alek.jpg"/>
          <p:cNvPicPr/>
          <p:nvPr/>
        </p:nvPicPr>
        <p:blipFill>
          <a:blip r:embed="rId2"/>
          <a:stretch/>
        </p:blipFill>
        <p:spPr>
          <a:xfrm>
            <a:off x="0" y="1143000"/>
            <a:ext cx="55720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в2.jpg"/>
          <p:cNvPicPr/>
          <p:nvPr/>
        </p:nvPicPr>
        <p:blipFill>
          <a:blip r:embed="rId3"/>
          <a:stretch/>
        </p:blipFill>
        <p:spPr>
          <a:xfrm>
            <a:off x="6500880" y="1428840"/>
            <a:ext cx="1857240" cy="3214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1285920" y="500040"/>
            <a:ext cx="48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no Pro"/>
              </a:rPr>
              <a:t>Надежда  Давыдовна Вольп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8" descr="benislavskaya1.jpg"/>
          <p:cNvPicPr/>
          <p:nvPr/>
        </p:nvPicPr>
        <p:blipFill>
          <a:blip r:embed="rId2"/>
          <a:stretch/>
        </p:blipFill>
        <p:spPr>
          <a:xfrm>
            <a:off x="0" y="1214280"/>
            <a:ext cx="4071960" cy="5643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бен.jpeg"/>
          <p:cNvPicPr/>
          <p:nvPr/>
        </p:nvPicPr>
        <p:blipFill>
          <a:blip r:embed="rId3"/>
          <a:stretch/>
        </p:blipFill>
        <p:spPr>
          <a:xfrm>
            <a:off x="5072040" y="214200"/>
            <a:ext cx="2457360" cy="5419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428760" y="4287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no Pro Smbd Caption"/>
              </a:rPr>
              <a:t>Галина Бенисла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28760" y="4287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no Pro Smbd"/>
              </a:rPr>
              <a:t>Айседора Дун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429080" y="292896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нова пьют здесь, дерутся и  плач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 гармоники желтую гр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оклиная свои неуда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споминают московскую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index_pic.jpeg"/>
          <p:cNvPicPr/>
          <p:nvPr/>
        </p:nvPicPr>
        <p:blipFill>
          <a:blip r:embed="rId2"/>
          <a:stretch/>
        </p:blipFill>
        <p:spPr>
          <a:xfrm>
            <a:off x="4857840" y="357120"/>
            <a:ext cx="28810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дункан.jpeg"/>
          <p:cNvPicPr/>
          <p:nvPr/>
        </p:nvPicPr>
        <p:blipFill>
          <a:blip r:embed="rId3"/>
          <a:stretch/>
        </p:blipFill>
        <p:spPr>
          <a:xfrm rot="20522400">
            <a:off x="611280" y="1779120"/>
            <a:ext cx="3298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микл.jpeg"/>
          <p:cNvPicPr/>
          <p:nvPr/>
        </p:nvPicPr>
        <p:blipFill>
          <a:blip r:embed="rId2"/>
          <a:stretch/>
        </p:blipFill>
        <p:spPr>
          <a:xfrm>
            <a:off x="0" y="1214280"/>
            <a:ext cx="3962520" cy="5643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857160" y="571680"/>
            <a:ext cx="49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Августа Миклаш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429080" y="1996920"/>
            <a:ext cx="4000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Дорогая, сядем ря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Поглядим в глаза друг др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Я хочу под  кротким взгл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Слушать чувственную вью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Ты такая ж простая, как в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Как сто тысяч других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ты одинокий рас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холод осен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шаганэ.jpeg"/>
          <p:cNvPicPr/>
          <p:nvPr/>
        </p:nvPicPr>
        <p:blipFill>
          <a:blip r:embed="rId2"/>
          <a:stretch/>
        </p:blipFill>
        <p:spPr>
          <a:xfrm>
            <a:off x="0" y="1071720"/>
            <a:ext cx="3857760" cy="57862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357120" y="42876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Шагандухт Тал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4357800" y="2143080"/>
            <a:ext cx="407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, ты моя Шаганэ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ам, на севере, девушка то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 тебя она страшно похож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, думает обо мн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 ты моя ,Шаган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глуши в душе тоску талья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пои дыханьем свежих ч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Чтобы я о дальней северя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е вздыхал, не думал, не скуч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esenin_Esenin_Dunkan_Berlin_1922.jpg"/>
          <p:cNvPicPr/>
          <p:nvPr/>
        </p:nvPicPr>
        <p:blipFill>
          <a:blip r:embed="rId2"/>
          <a:stretch/>
        </p:blipFill>
        <p:spPr>
          <a:xfrm>
            <a:off x="0" y="1214280"/>
            <a:ext cx="3929040" cy="564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28760" y="428760"/>
            <a:ext cx="61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Софья 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500720" y="1357200"/>
            <a:ext cx="421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Милая, мне скоро стукнет тридц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земля милей мне с каждым д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Оттого и сердцу станет с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Что горю я розовым огнё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Коль гореть, так уж гореть сго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недаром в липовую цв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Вынул я кольцо у попуг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Знак того, что вместе нам сго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с катей.jpeg"/>
          <p:cNvPicPr/>
          <p:nvPr/>
        </p:nvPicPr>
        <p:blipFill>
          <a:blip r:embed="rId2"/>
          <a:stretch/>
        </p:blipFill>
        <p:spPr>
          <a:xfrm>
            <a:off x="0" y="1143000"/>
            <a:ext cx="32148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357120" y="285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Александра Ес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643200" y="2136600"/>
            <a:ext cx="45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красивых таких не ви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олько, знаешь, в душе за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Не в плохой, а в хорошей обид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Повторяешь ты юность м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ы — мое васильково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навеки люблю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Как живет теперь наша кор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Грусть соломенную тер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мать.jpeg"/>
          <p:cNvPicPr/>
          <p:nvPr/>
        </p:nvPicPr>
        <p:blipFill>
          <a:blip r:embed="rId2"/>
          <a:stretch/>
        </p:blipFill>
        <p:spPr>
          <a:xfrm rot="20823600">
            <a:off x="496800" y="1498320"/>
            <a:ext cx="3514680" cy="292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е и м.jpg"/>
          <p:cNvPicPr/>
          <p:nvPr/>
        </p:nvPicPr>
        <p:blipFill>
          <a:blip r:embed="rId3"/>
          <a:stretch/>
        </p:blipFill>
        <p:spPr>
          <a:xfrm>
            <a:off x="0" y="3714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642960" y="428760"/>
            <a:ext cx="54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"/>
              </a:rPr>
              <a:t>Татьяна   Фёдоровна   Ес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500720" y="1285920"/>
            <a:ext cx="421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ы жива еще, моя ста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Жив и я. Привет тебе, при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усть струится над твоей избуш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от вечерний несказанный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ишут мне, что ты, тая трево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Загрустила шибко об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Что ты часто xодишь на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В старомодном ветxом шуш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42960" y="428760"/>
            <a:ext cx="7848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обра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Анны Снегиной воплотились ч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57160" y="5286240"/>
            <a:ext cx="457200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лександры Есен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28800" y="155736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Изряд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28800" y="4005360"/>
            <a:ext cx="4500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Сардано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28800" y="278604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дии Каш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2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инято считать, что одно из этих стихотвор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освящено  Марии Бальзам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714240" y="2357280"/>
            <a:ext cx="5757840" cy="15098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Не бродить, не мять в кус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багряны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755640" y="4365720"/>
            <a:ext cx="575784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Зелёная причес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евическая груд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877080" y="2786040"/>
            <a:ext cx="119520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28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357200" y="35712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no Pro"/>
              </a:rPr>
              <a:t>Цель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85840" y="213660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Углубление представления о есенинской поэтике в одном из её важнейших аспектов – теме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Знакомство с адресатами любовн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- Совершенствование навыков выразительного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и анализа поэтическ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 Анной Изрядновой Есенин познаком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826920" y="2071800"/>
            <a:ext cx="39592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Константи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826920" y="3429000"/>
            <a:ext cx="395928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00000" y="5013360"/>
            <a:ext cx="395784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Петро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39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85840" y="500040"/>
            <a:ext cx="857232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ергей Есенин в 1917 году особ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близился с царе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857240" y="155736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ль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57240" y="271476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Татья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857240" y="400068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Анаста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57240" y="530064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а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143760" y="142884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6143760" y="271476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6143760" y="535788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6143760" y="4143240"/>
            <a:ext cx="107928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1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ергей Есенин путешествовал на Сол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95280" y="2276640"/>
            <a:ext cx="6337440" cy="15094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Алексеем Ганиным и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39640" y="4365720"/>
            <a:ext cx="619308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6929280" y="2643120"/>
            <a:ext cx="1143000" cy="11430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9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 исключено, что стихотворения «Письмо женщин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«Собаке Качалова» посвящ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428840" y="2071800"/>
            <a:ext cx="3357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вгу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иклаше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428840" y="3429000"/>
            <a:ext cx="335736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инаиде Рай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офье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5572080" y="4786200"/>
            <a:ext cx="107172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7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 её могиле есть слова: «Верная Га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755640" y="2500200"/>
            <a:ext cx="5757840" cy="1000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Бенисла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55640" y="4643280"/>
            <a:ext cx="5757840" cy="10004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Миклаше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929280" y="2714760"/>
            <a:ext cx="1071720" cy="1071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929280" y="4500720"/>
            <a:ext cx="1214640" cy="11318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78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95280" y="428760"/>
            <a:ext cx="8209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е из перечисленных стихотворений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ношение к А. Миклашевс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85920" y="528624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Клён ты 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авши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285920" y="155736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исьмо женщ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285920" y="4005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Дорогая, сяд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рядо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285920" y="2781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Заметался пож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голуб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9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м видом искусства увлекалась  А. Дун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428840" y="2071800"/>
            <a:ext cx="3357360" cy="928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428840" y="3429000"/>
            <a:ext cx="3357360" cy="1000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572080" y="3429000"/>
            <a:ext cx="1079640" cy="1000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201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55640" y="549360"/>
            <a:ext cx="755820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какой сборник С. Есенина включ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ихотворение «Шаганэ ты моя, Шаганэ…»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42920" y="1857240"/>
            <a:ext cx="4672080" cy="857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Раду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116000" y="550080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Стихи скандал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16000" y="4214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Любовь хулиг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116000" y="3071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ерсидские моти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858000" y="178596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858000" y="421488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6858000" y="300024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6858000" y="5357880"/>
            <a:ext cx="1079640" cy="1008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213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2856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о неправильных ответов - «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2 неправильных ответа – «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3 неправильных ответов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чери Николая Второго -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kp.md/daily/24316.3/50882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гила Бениславской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znakpamyati.narod.ru/benislavskay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дежда Вольпин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eseniada.narod.ru/volpin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сенин и Толстая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diana-zb.narod.ru/plaha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ргей Есенин с матерью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feb-web.ru/feb/sholokh/critics/ksp/ksp-001b.htm?cmd=2&amp;part=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ы 1- 4, 8,11, 13,14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a4format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  2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ozon.ru/context/detail/id/5003612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дия Кашина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konstantinovohram.ru/photo/his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95280" y="260280"/>
            <a:ext cx="807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Юбилею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Сергея Александровича Есенина 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286000" y="1857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...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жалость - мало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горечь - мало дал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ного жил - кто в наши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ни, всё дал -- кто песню 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М. Цвета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сар 1895.jpg"/>
          <p:cNvPicPr/>
          <p:nvPr/>
        </p:nvPicPr>
        <p:blipFill>
          <a:blip r:embed="rId2"/>
          <a:stretch/>
        </p:blipFill>
        <p:spPr>
          <a:xfrm>
            <a:off x="0" y="990720"/>
            <a:ext cx="388620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4714920" y="2000160"/>
            <a:ext cx="3929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Когда –то у той вон кал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не было шестнадцать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И девушка в белой наки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Сказала мне  ласково: «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Далёкие, милые были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Тот образ во мне не уг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ы все в эти годы люб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Но, значит, любили и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378612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071960" y="750960"/>
            <a:ext cx="4071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помн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на говор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"Простите...  Была не пра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мужа безумно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Как вспомню... болит голо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Но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скорбила случайн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Жестокость была мой су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Была в том печальная тай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Что страстью преступной зо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8" descr="el1-567-.jpg"/>
          <p:cNvPicPr/>
          <p:nvPr/>
        </p:nvPicPr>
        <p:blipFill>
          <a:blip r:embed="rId2"/>
          <a:stretch/>
        </p:blipFill>
        <p:spPr>
          <a:xfrm>
            <a:off x="0" y="1214280"/>
            <a:ext cx="3714840" cy="5643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143240" y="228600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С алым соком ягоды на к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ежная, красивая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а закат ты розовый пох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И, как снег, лучиста и све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14240" y="500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Мария Бальзамов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и Анна Сард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анна из.jpg"/>
          <p:cNvPicPr/>
          <p:nvPr/>
        </p:nvPicPr>
        <p:blipFill>
          <a:blip r:embed="rId2"/>
          <a:stretch/>
        </p:blipFill>
        <p:spPr>
          <a:xfrm>
            <a:off x="0" y="1214280"/>
            <a:ext cx="414324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Анна Романовна 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Изряд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572000" y="1571760"/>
            <a:ext cx="3714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Знаю, годы тревогу заглуш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Эта боль, как и годы, прой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уста, и невинную д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Для другого она бережё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Не с тоски я судьбы поджид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Будет злобно крутить поро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придёт она к нашему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Обогреть своего малыша</a:t>
            </a:r>
            <a:r>
              <a:rPr b="0" i="1" lang="en-US" sz="2000" spc="-1" strike="noStrike">
                <a:solidFill>
                  <a:srgbClr val="40315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208069.jpg"/>
          <p:cNvPicPr/>
          <p:nvPr/>
        </p:nvPicPr>
        <p:blipFill>
          <a:blip r:embed="rId2"/>
          <a:stretch/>
        </p:blipFill>
        <p:spPr>
          <a:xfrm>
            <a:off x="0" y="1143000"/>
            <a:ext cx="42148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642960" y="5716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 Display"/>
              </a:rPr>
              <a:t>Русские цар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7800" y="1857240"/>
            <a:ext cx="435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иветствует мой стих младых цар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И кроткость юную в их ласковых серд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Где тени бледные и горестные м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Они тому, кто шёл страдать за н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отягивают царственны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2"/>
          <p:cNvSpPr/>
          <p:nvPr/>
        </p:nvSpPr>
        <p:spPr>
          <a:xfrm>
            <a:off x="4286160" y="4714920"/>
            <a:ext cx="4500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райх.jpeg"/>
          <p:cNvPicPr/>
          <p:nvPr/>
        </p:nvPicPr>
        <p:blipFill>
          <a:blip r:embed="rId2"/>
          <a:stretch/>
        </p:blipFill>
        <p:spPr>
          <a:xfrm>
            <a:off x="0" y="1214280"/>
            <a:ext cx="4000680" cy="5643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357120" y="5000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no Pro"/>
              </a:rPr>
              <a:t>Зинаида Райх с детьми С. 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500720" y="1305000"/>
            <a:ext cx="3929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всё, конечно,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Как я стоя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Приблизившись к сте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зволнованно ходили вы по 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И что-то рез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лицо бросали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Меня вы не люб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Я мучил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У вас была т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глазах устал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0-10-18T07:21:36Z</dcterms:modified>
  <cp:revision>102</cp:revision>
  <dc:subject/>
  <dc:title>Любимые женщины  Сергея Есенина</dc:title>
</cp:coreProperties>
</file>