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9EC-E155-400E-82F8-E8518D97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272-4A29-455A-A9CF-64DFE483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1A3-1F76-456B-AAC0-684F6B0B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C83-DFA3-411F-861A-0C857BEB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C735-D851-420E-85AD-991D5599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7F4D-DA59-4CE9-95EE-8EFFD99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B5A6-B1F0-4C08-B2A0-7C7406FA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B672-CD4E-468E-8C63-6F37F72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460F-2D62-4CC1-8537-B354FB3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7E65-19BF-4105-9A52-96FAA71A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DAA6-4951-47A3-9F54-7E4CDF34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158-5AFA-4AA4-A969-F1F2AEC9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8B1C-0380-49B3-995A-383ED43D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F014-5AC5-4BF4-957E-1EF3D4DE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2BA8-6ACA-41E8-AA4F-02D739E0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9B4E-E4C1-4BF9-B3C5-4A3ACB40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F217-1B07-4ED9-B124-3AE94EBD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229-1D77-4414-9CDB-132B4CA3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57F-C270-4EB3-B8E3-6347B785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55F-463A-48B7-B033-01192A2D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7DB-6424-4E33-B911-CD1A9D21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DAB-D9C9-430A-B3D8-E7242CF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5D0-520F-4BC2-AA69-6C701FC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D4D-268D-482E-8570-16619169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63F-D8FD-4153-9AA5-5E7CDECEA1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A264-AB38-46C6-9EEC-FF88186D80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715000" y="990360"/>
            <a:ext cx="3276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лександр Сергеевич Пушк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Капитанская доч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342040" cy="670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История создания повести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 середины 1832 года А.С. Пушкин начинает работу над историей восстания под предводительством Емельяна Пугачева. Поэту была дана возможность ознакомиться с секретными материалами о восстании и действиях властей по его подавлению, он обращался к неопубликованным документам из семейных архивов и частных коллекций. В «Архивных тетрадях» Пушкина сохранились копии именных указов и писем Пугачева, выписки из донесений о боевых действиях с отрядами Пугачев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457200"/>
            <a:ext cx="853416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1833 году Пушкин решает поехать в те места Поволжья и Приуралья, где происходило восстание, кроме того, он рассчитывал на встречи с очевидцами этих событий. Получив разрешение императора Николая I,  Пушкин приезжает в Казань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Я в Казани с пятого… Здесь я возился со стариками, современниками моего героя; объезжал окрестности города, осматривал места сражений, расспрашивал, записывал и очень доволен, что не напрасно посетил эту сторону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Из письма А.С. Пушкина его жене, Н.Н. Пушкиной, 8 сентября 1833 года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тем он отправляется в Оренбург, где тоже посещает места боев, где встречается с современниками событ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57440" y="2362320"/>
            <a:ext cx="3429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Благовещенский собор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азанского кремл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465800" cy="617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 материалов о бунте сложилась «История Пугачева», написанная в Болдине осенью 1833 года и вышедшая в 1834 под названием «История Пугачевского бунта», которое дал этому труду император после прочтения. Однако «История Пугачева» успеха не имела в отличие от вышедшей позже исторической повести «Капитанская дочка», где Пушкин в художественной форме возвращался к событиям 1773-1775 го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Изначально героем «Капитанской дочки» должен был быть дворянин, подпоручик 2-го гренадерского полка Шванвич, перешедший на сторону Пугачева. Сведения об этом дворянине, который «предпочел гнусную жизнь - честной смерти», Пушкин обнаружил в документах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После изучения материалов бунта, Пушкин приходит к выводу, что дворянство - единственное из всех сословий, оставшееся верным императрице. Новым героем романа должен был стать пленник Пугачева Башарин, офицер, помилованный Пугачевым за доброе отношение к солдатам. Позже этот герой должен был перейти обратно на сторону императрицы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75096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Пушкин отказывается от идеи предательства офицера. В 1835-36 годах менялись сюжетные линии, фамилии героев. Прообраз Гринева Башарин стал Валуевым, потом Буланиным.  И последним вариантом стал Петр Гринев, фамилию которого Пушкин обнаружил в архивных материалах. Гринев числился среди тех офицеров, которые были подозреваемы в «сообщении со злодеями, но по следствию оказались невинн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ник Гринева, Швабрин, сохранил некоторые черты предполагаемого героя Шванвича и появился тоже только в окончательной редакции. В конце октября 1836 года произведение получило название - «Капитанская доч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B</cp:lastModifiedBy>
  <dcterms:modified xsi:type="dcterms:W3CDTF">2011-03-11T00:38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