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93F-D55D-4EAD-904A-2B57B062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336-73F1-4F85-B88C-A3843642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9CD-D7DC-4812-8228-0895CE13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C97-85A9-4290-B5C7-6C32214D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7EEF-2CF3-4B3B-8774-CCCD243B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1E82-6851-4164-8CAE-3C4D2648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EFE2-54C4-4EEB-8232-0E5052DA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1786-A1AD-4B98-A334-A839F079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A1BF-ABB1-47B1-9F40-D368E15B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BC8A-0E77-46E2-AA11-C91626BD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AF1D-BE27-496D-ADD3-DC71ADA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88F-0113-4C0F-A327-41F36FF7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8977-DF75-4A40-9F80-5FFB190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7461-C9C6-4425-8885-4067DC4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4701-3221-402C-976F-09FF70CD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56E9-9DE3-4A28-A54D-FDB999C8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EDEA-F368-4E84-9018-AEA51A53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258-4FC7-436A-B570-D64B263C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75E-D7A7-40C8-A7F5-2CC8EC77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B34-69AF-424F-A106-8BB9E82A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63C-F530-4D9A-87C9-305D7DAD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C57-6112-4811-AD4A-90F7F145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332-DCFF-430D-9DDC-3422C9EC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A9E-247C-4EF8-BB74-A9F9A9A1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6C72-E0D6-45CB-A5AE-322235CF88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20EB-88D2-49A7-8537-8C0E36F86E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715000" y="990360"/>
            <a:ext cx="3276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лександр Сергеевич Пушк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Капитанская доч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342040" cy="670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История создания повести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 середины 1832 года А.С. Пушкин начинает работу над историей восстания под предводительством Емельяна Пугачева. Поэту была дана возможность ознакомиться с секретными материалами о восстании и действиях властей по его подавлению, он обращался к неопубликованным документам из семейных архивов и частных коллекций. В «Архивных тетрадях» Пушкина сохранились копии именных указов и писем Пугачева, выписки из донесений о боевых действиях с отрядами Пугачев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457200"/>
            <a:ext cx="853416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1833 году Пушкин решает поехать в те места Поволжья и Приуралья, где происходило восстание, кроме того, он рассчитывал на встречи с очевидцами этих событий. Получив разрешение императора Николая I,  Пушкин приезжает в Казань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Я в Казани с пятого… Здесь я возился со стариками, современниками моего героя; объезжал окрестности города, осматривал места сражений, расспрашивал, записывал и очень доволен, что не напрасно посетил эту сторону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Из письма А.С. Пушкина его жене, Н.Н. Пушкиной, 8 сентября 1833 года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тем он отправляется в Оренбург, где тоже посещает места боев, где встречается с современниками событ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57440" y="2362320"/>
            <a:ext cx="3429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Благовещенский собор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азанского кремл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465800" cy="617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 материалов о бунте сложилась «История Пугачева», написанная в Болдине осенью 1833 года и вышедшая в 1834 под названием «История Пугачевского бунта», которое дал этому труду император после прочтения. Однако «История Пугачева» успеха не имела в отличие от вышедшей позже исторической повести «Капитанская дочка», где Пушкин в художественной форме возвращался к событиям 1773-1775 го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Изначально героем «Капитанской дочки» должен был быть дворянин, подпоручик 2-го гренадерского полка Шванвич, перешедший на сторону Пугачева. Сведения об этом дворянине, который «предпочел гнусную жизнь - честной смерти», Пушкин обнаружил в документах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После изучения материалов бунта, Пушкин приходит к выводу, что дворянство - единственное из всех сословий, оставшееся верным императрице. Новым героем романа должен был стать пленник Пугачева Башарин, офицер, помилованный Пугачевым за доброе отношение к солдатам. Позже этот герой должен был перейти обратно на сторону императрицы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75096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Пушкин отказывается от идеи предательства офицера. В 1835-36 годах менялись сюжетные линии, фамилии героев. Прообраз Гринева Башарин стал Валуевым, потом Буланиным.  И последним вариантом стал Петр Гринев, фамилию которого Пушкин обнаружил в архивных материалах. Гринев числился среди тех офицеров, которые были подозреваемы в «сообщении со злодеями, но по следствию оказались невинн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ник Гринева, Швабрин, сохранил некоторые черты предполагаемого героя Шванвича и появился тоже только в окончательной редакции. В конце октября 1836 года произведение получило название - «Капитанская доч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B</cp:lastModifiedBy>
  <dcterms:modified xsi:type="dcterms:W3CDTF">2011-03-11T00:38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