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jpeg" ContentType="image/jpeg"/>
  <Override PartName="/ppt/media/image2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788-234A-4B85-8907-2623AE5D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8C4-AB8B-46B3-86AA-C738C53C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BBA0-A75B-466C-BA99-B53011B2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19DC-DEE1-4772-B182-F5FB4DD2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DB56-7B68-495F-B622-B12F6B51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8813-40AB-4659-B4BB-8176D9D7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AB3B-3899-4302-A32B-BED8CF71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802C-89D6-4248-B1EF-838E5201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F8F1-1D98-4ADC-8BDD-50F0A7D6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8089-2321-4408-BDA8-6B38B50D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1912-18D2-49A7-A398-1F25545C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A3A6-5936-4ED5-A2D0-99055A61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1A7B-12E3-4706-B692-9B197462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13C2-CEE6-40ED-9989-74FD1E77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DF58-E9ED-4E46-AD09-BE3D31AE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3D90-120A-4FFB-9570-CCADBCCC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66FC-0BD8-4053-937B-2C33CD07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EC33-26E1-418A-86FA-0149EF11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F3A-BB58-4BBC-8BCE-B1467F98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C04B-AF5C-40DB-AA7C-778EC9E4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750-D153-4A97-9388-05C52119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28C6-828D-4C1D-943D-6E2A7DF1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FD37-2D4E-41F4-937A-5991E628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032-F722-4A84-9707-98A48D38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80B7-E368-4CFE-9E94-618D2693650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13329"/>
                </a:gs>
                <a:gs pos="100000">
                  <a:srgbClr val="2e3f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2b4135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83d32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33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33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314b3d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2133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314b3d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21332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213329"/>
                </a:gs>
                <a:gs pos="50000">
                  <a:srgbClr val="283930"/>
                </a:gs>
                <a:gs pos="100000">
                  <a:srgbClr val="2133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0C07-68F2-40A4-94D1-C0B58BF64DB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321977"/>
          <p:cNvPicPr/>
          <p:nvPr/>
        </p:nvPicPr>
        <p:blipFill>
          <a:blip r:embed="rId1"/>
          <a:stretch/>
        </p:blipFill>
        <p:spPr>
          <a:xfrm>
            <a:off x="755640" y="115920"/>
            <a:ext cx="7777080" cy="6553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718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d3f1db"/>
                </a:solidFill>
                <a:latin typeface="Arial"/>
              </a:rPr>
              <a:t>Николай Васильевич Гоголь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_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924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0b100"/>
                </a:solidFill>
                <a:latin typeface="Tahoma"/>
              </a:rPr>
              <a:t>ТУР ПЕРВЫЙ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6d84"/>
                </a:solidFill>
                <a:latin typeface="Tahoma"/>
              </a:rPr>
              <a:t>СЛОВА, СЛОВА, СЛОВ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d3f1db"/>
                </a:solidFill>
                <a:latin typeface="Tahoma"/>
              </a:rPr>
              <a:t>Слова, слова, слова…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опро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мб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абард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ле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антр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Щелкоп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рап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ртикуляр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вет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листратиш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когни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тв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агоух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ежесоленая тре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едно-желт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атен (искаж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сатель (презрит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инный кн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тат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урной тон (искаж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истратор (искаж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й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d3f1db"/>
                </a:solidFill>
                <a:latin typeface="Tahoma"/>
              </a:rPr>
              <a:t>Слова, слова, слова…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, как мухи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меня лёгкост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с Пушкиным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му смеётес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родничий глуп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ру взятк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ти две недел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а коротеньких человека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т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здоравлив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ыкновенная в мысл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дружеской ног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д собой смеёте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сивый мер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рзыми щен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секли унтер-офицерскую вдо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ли сёмгу и еще много ч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29"/>
          <p:cNvPicPr/>
          <p:nvPr/>
        </p:nvPicPr>
        <p:blipFill>
          <a:blip r:embed="rId1"/>
          <a:stretch/>
        </p:blipFill>
        <p:spPr>
          <a:xfrm>
            <a:off x="1116000" y="189000"/>
            <a:ext cx="7201080" cy="6352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3f1db"/>
                </a:solidFill>
                <a:latin typeface="Tahoma"/>
              </a:rPr>
              <a:t>Тур второй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Узнай героя комедии по его описа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3f1db"/>
                </a:solidFill>
                <a:latin typeface="Tahoma"/>
              </a:rPr>
              <a:t>Уже постаревший на службе и очень неглупый, по-своему, человек. Хотя и взяточник</a:t>
            </a:r>
            <a:r>
              <a:rPr b="0" lang="ru-RU" sz="3200" spc="-1" strike="noStrike">
                <a:solidFill>
                  <a:srgbClr val="d3f1db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d3f1db"/>
              </a:solidFill>
              <a:latin typeface="Arial"/>
            </a:endParaRPr>
          </a:p>
        </p:txBody>
      </p:sp>
      <p:pic>
        <p:nvPicPr>
          <p:cNvPr id="139" name="Picture 4" descr="29"/>
          <p:cNvPicPr/>
          <p:nvPr/>
        </p:nvPicPr>
        <p:blipFill>
          <a:blip r:embed="rId1"/>
          <a:stretch/>
        </p:blipFill>
        <p:spPr>
          <a:xfrm>
            <a:off x="468360" y="2060640"/>
            <a:ext cx="4038480" cy="43480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ороднич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Антон Антонович Сквозник-Дмухан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d3f1db"/>
                </a:solidFill>
                <a:latin typeface="Tahoma"/>
              </a:rPr>
              <a:t>… </a:t>
            </a:r>
            <a:r>
              <a:rPr b="0" i="1" lang="ru-RU" sz="2000" spc="-1" strike="noStrike">
                <a:solidFill>
                  <a:srgbClr val="d3f1db"/>
                </a:solidFill>
                <a:latin typeface="Tahoma"/>
              </a:rPr>
              <a:t>О</a:t>
            </a:r>
            <a:r>
              <a:rPr b="0" i="1" lang="ru-RU" sz="2800" spc="-1" strike="noStrike">
                <a:solidFill>
                  <a:srgbClr val="d3f1db"/>
                </a:solidFill>
                <a:latin typeface="Tahoma"/>
              </a:rPr>
              <a:t>чень толстый, неповоротливый и неуклюжий человек, но при всем том проныра и плут…</a:t>
            </a:r>
            <a:endParaRPr b="0" lang="en-US" sz="2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печитель богоугодных завед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емляника Артемий Филипп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lit08-06"/>
          <p:cNvPicPr/>
          <p:nvPr/>
        </p:nvPicPr>
        <p:blipFill>
          <a:blip r:embed="rId1"/>
          <a:stretch/>
        </p:blipFill>
        <p:spPr>
          <a:xfrm>
            <a:off x="468360" y="1628640"/>
            <a:ext cx="352728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f1db"/>
                </a:solidFill>
                <a:latin typeface="Tahoma"/>
              </a:rPr>
              <a:t>…</a:t>
            </a:r>
            <a:r>
              <a:rPr b="0" lang="ru-RU" sz="3200" spc="-1" strike="noStrike">
                <a:solidFill>
                  <a:srgbClr val="d3f1db"/>
                </a:solidFill>
                <a:latin typeface="Tahoma"/>
              </a:rPr>
              <a:t>человек, прочитавший пять или шесть книг и потому несколько вольнодумен…</a:t>
            </a:r>
            <a:endParaRPr b="0" lang="en-US" sz="3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япкин –Тяпк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д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lit08-05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5005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3f1db"/>
                </a:solidFill>
                <a:latin typeface="Tahoma"/>
              </a:rPr>
              <a:t>Не приведи господь служить по ученой части! Всего боишься</a:t>
            </a:r>
            <a:r>
              <a:rPr b="0" lang="ru-RU" sz="3200" spc="-1" strike="noStrike">
                <a:solidFill>
                  <a:srgbClr val="d3f1db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мотритель учили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Лука Лукич Хлоп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liСмотритель  училищ"/>
          <p:cNvPicPr/>
          <p:nvPr/>
        </p:nvPicPr>
        <p:blipFill>
          <a:blip r:embed="rId1"/>
          <a:stretch/>
        </p:blipFill>
        <p:spPr>
          <a:xfrm>
            <a:off x="4932360" y="1557360"/>
            <a:ext cx="381636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f1db"/>
                </a:solidFill>
                <a:latin typeface="Tahoma"/>
              </a:rPr>
              <a:t>…</a:t>
            </a:r>
            <a:r>
              <a:rPr b="0" i="1" lang="ru-RU" sz="2800" spc="-1" strike="noStrike">
                <a:solidFill>
                  <a:srgbClr val="d3f1db"/>
                </a:solidFill>
                <a:latin typeface="Tahoma"/>
              </a:rPr>
              <a:t>оба низенькие, коротенькие, очень любопытные; чрезвычайно похожи друг на друга…</a:t>
            </a:r>
            <a:endParaRPr b="0" lang="en-US" sz="2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тр Иванович Бобчи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тр Иванович Добчи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 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f1db"/>
                </a:solidFill>
                <a:latin typeface="Tahoma"/>
              </a:rPr>
              <a:t>Молодой человек лет двадцати трех, тоненький, худенький; несколько приглуповат …</a:t>
            </a:r>
            <a:endParaRPr b="0" lang="en-US" sz="24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ван Александрович Хлеста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29"/>
          <p:cNvPicPr/>
          <p:nvPr/>
        </p:nvPicPr>
        <p:blipFill>
          <a:blip r:embed="rId1"/>
          <a:stretch/>
        </p:blipFill>
        <p:spPr>
          <a:xfrm>
            <a:off x="395280" y="1628640"/>
            <a:ext cx="3745080" cy="49690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637000"/>
            <a:ext cx="6400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d3f1db"/>
              </a:solidFill>
              <a:latin typeface="Arial"/>
            </a:endParaRPr>
          </a:p>
        </p:txBody>
      </p:sp>
      <p:pic>
        <p:nvPicPr>
          <p:cNvPr id="107" name="Picture 9" descr="1252833109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29"/>
          <p:cNvPicPr/>
          <p:nvPr/>
        </p:nvPicPr>
        <p:blipFill>
          <a:blip r:embed="rId1"/>
          <a:stretch/>
        </p:blipFill>
        <p:spPr>
          <a:xfrm>
            <a:off x="1187280" y="0"/>
            <a:ext cx="66247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924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0b100"/>
                </a:solidFill>
                <a:latin typeface="Arial"/>
              </a:rPr>
              <a:t>Тур третий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знай сцену из комед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lit08-03"/>
          <p:cNvPicPr/>
          <p:nvPr/>
        </p:nvPicPr>
        <p:blipFill>
          <a:blip r:embed="rId1"/>
          <a:stretch/>
        </p:blipFill>
        <p:spPr>
          <a:xfrm>
            <a:off x="1835280" y="189000"/>
            <a:ext cx="5599080" cy="64706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4652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3f1db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4716360" y="260280"/>
            <a:ext cx="3456000" cy="1297080"/>
          </a:xfrm>
          <a:prstGeom prst="wedgeRoundRectCallout">
            <a:avLst>
              <a:gd name="adj1" fmla="val -29055"/>
              <a:gd name="adj2" fmla="val 69949"/>
              <a:gd name="adj3" fmla="val 16667"/>
            </a:avLst>
          </a:prstGeom>
          <a:solidFill>
            <a:srgbClr val="4a6d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«Я пригласил вас, господа, с тем, чтобы сообщить пренеприятное извести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сцена  вранья"/>
          <p:cNvPicPr/>
          <p:nvPr/>
        </p:nvPicPr>
        <p:blipFill>
          <a:blip r:embed="rId1"/>
          <a:stretch/>
        </p:blipFill>
        <p:spPr>
          <a:xfrm>
            <a:off x="1476360" y="189000"/>
            <a:ext cx="5832360" cy="633564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5"/>
          <p:cNvSpPr/>
          <p:nvPr/>
        </p:nvSpPr>
        <p:spPr>
          <a:xfrm>
            <a:off x="3924360" y="765000"/>
            <a:ext cx="3095640" cy="863640"/>
          </a:xfrm>
          <a:prstGeom prst="wedgeRoundRectCallout">
            <a:avLst>
              <a:gd name="adj1" fmla="val -22564"/>
              <a:gd name="adj2" fmla="val 118013"/>
              <a:gd name="adj3" fmla="val 16667"/>
            </a:avLst>
          </a:prstGeom>
          <a:solidFill>
            <a:srgbClr val="4a6d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я, признаться, только литературой существ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ml_objects456"/>
          <p:cNvPicPr/>
          <p:nvPr/>
        </p:nvPicPr>
        <p:blipFill>
          <a:blip r:embed="rId1"/>
          <a:stretch/>
        </p:blipFill>
        <p:spPr>
          <a:xfrm>
            <a:off x="1835280" y="0"/>
            <a:ext cx="5545080" cy="655308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/>
          <p:cNvSpPr/>
          <p:nvPr/>
        </p:nvSpPr>
        <p:spPr>
          <a:xfrm>
            <a:off x="2627280" y="620640"/>
            <a:ext cx="2016000" cy="1008000"/>
          </a:xfrm>
          <a:prstGeom prst="wedgeRoundRectCallout">
            <a:avLst>
              <a:gd name="adj1" fmla="val -28347"/>
              <a:gd name="adj2" fmla="val 70000"/>
              <a:gd name="adj3" fmla="val 16667"/>
            </a:avLst>
          </a:prstGeom>
          <a:solidFill>
            <a:srgbClr val="4a6d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Анна Андреевна, благословите постоянную любовь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29"/>
          <p:cNvPicPr/>
          <p:nvPr/>
        </p:nvPicPr>
        <p:blipFill>
          <a:blip r:embed="rId1"/>
          <a:stretch/>
        </p:blipFill>
        <p:spPr>
          <a:xfrm>
            <a:off x="1908000" y="260280"/>
            <a:ext cx="5183280" cy="6048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3419640" y="260280"/>
            <a:ext cx="1873080" cy="1152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4a6d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Нет, я влюблен в вас. Жизнь моя на волос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 "/>
          <p:cNvPicPr/>
          <p:nvPr/>
        </p:nvPicPr>
        <p:blipFill>
          <a:blip r:embed="rId1"/>
          <a:stretch/>
        </p:blipFill>
        <p:spPr>
          <a:xfrm>
            <a:off x="233280" y="333360"/>
            <a:ext cx="8910720" cy="6323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i="1" lang="ru-RU" sz="3800" spc="-1" strike="noStrike">
                <a:solidFill>
                  <a:srgbClr val="f0b100"/>
                </a:solidFill>
                <a:latin typeface="Arial"/>
              </a:rPr>
              <a:t>Итоговое задание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b1"/>
          <p:cNvPicPr/>
          <p:nvPr/>
        </p:nvPicPr>
        <p:blipFill>
          <a:blip r:embed="rId1"/>
          <a:stretch/>
        </p:blipFill>
        <p:spPr>
          <a:xfrm>
            <a:off x="971640" y="0"/>
            <a:ext cx="73832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5589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ушкин и Гоголь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2_big"/>
          <p:cNvPicPr/>
          <p:nvPr/>
        </p:nvPicPr>
        <p:blipFill>
          <a:blip r:embed="rId1"/>
          <a:stretch/>
        </p:blipFill>
        <p:spPr>
          <a:xfrm>
            <a:off x="542880" y="0"/>
            <a:ext cx="80582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7775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0b100"/>
                </a:solidFill>
                <a:latin typeface="Arial"/>
              </a:rPr>
              <a:t>КОМЕДИЯ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ml_objects448"/>
          <p:cNvPicPr/>
          <p:nvPr/>
        </p:nvPicPr>
        <p:blipFill>
          <a:blip r:embed="rId1"/>
          <a:stretch/>
        </p:blipFill>
        <p:spPr>
          <a:xfrm>
            <a:off x="4284720" y="549360"/>
            <a:ext cx="465768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324000" y="1484280"/>
            <a:ext cx="388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37103"/>
                </a:solidFill>
                <a:latin typeface="Arial"/>
              </a:rPr>
              <a:t>« …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37103"/>
                </a:solidFill>
                <a:latin typeface="Arial"/>
              </a:rPr>
              <a:t>Я  решил  собрать  все  дурное, какое  я  только  знал,  и  за  одним  разом  над  всем  посмеяться»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c37103"/>
                </a:solidFill>
                <a:latin typeface="Arial"/>
              </a:rPr>
              <a:t>Н. Гог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004"/>
          <p:cNvPicPr/>
          <p:nvPr/>
        </p:nvPicPr>
        <p:blipFill>
          <a:blip r:embed="rId1"/>
          <a:stretch/>
        </p:blipFill>
        <p:spPr>
          <a:xfrm>
            <a:off x="826920" y="189000"/>
            <a:ext cx="7417080" cy="6397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157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0b100"/>
                </a:solidFill>
                <a:latin typeface="Tahoma"/>
              </a:rPr>
              <a:t>Разминка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d3f1db"/>
                </a:solidFill>
                <a:latin typeface="Tahoma"/>
              </a:rPr>
              <a:t>Кто подарил Н.В. Гоголю сюжет комедии «Ревизор»?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.С. Пушкин рассказал Гоголю о случае, бывшем в городе Устюжине Новгородской губернии, и о каком-то проезжем господине, выдававшем себя за чиновника министерства и обокравшем городских ж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0" descr="2fc0401db8f1"/>
          <p:cNvPicPr/>
          <p:nvPr/>
        </p:nvPicPr>
        <p:blipFill>
          <a:blip r:embed="rId1"/>
          <a:stretch/>
        </p:blipFill>
        <p:spPr>
          <a:xfrm>
            <a:off x="590400" y="1600200"/>
            <a:ext cx="377064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3f1db"/>
                </a:solidFill>
                <a:latin typeface="Tahoma"/>
              </a:rPr>
              <a:t>Где и когда увидела свет комедия «Ревизор»?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19 апреля 1836 года на сцене Александрийского театра состоялось первое представление комедии Н.В. Гоголя «Ревизор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095-1"/>
          <p:cNvPicPr/>
          <p:nvPr/>
        </p:nvPicPr>
        <p:blipFill>
          <a:blip r:embed="rId1"/>
          <a:stretch/>
        </p:blipFill>
        <p:spPr>
          <a:xfrm>
            <a:off x="4500720" y="1628640"/>
            <a:ext cx="417492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d3f1db"/>
                </a:solidFill>
                <a:latin typeface="Tahoma"/>
              </a:rPr>
              <a:t>Какой эпиграф взял Гоголь для своей комедии? В чем его смысл?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 зеркало неча пенять, коли рожа кр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8" descr="1463574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d3f1db"/>
                </a:solidFill>
                <a:latin typeface="Tahoma"/>
              </a:rPr>
              <a:t>«Ну и пьеска! А мне досталось боле всех!» Чьи это слова?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мператор Николай Первый, присутствующий на премьере спектак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6" descr="2424"/>
          <p:cNvPicPr/>
          <p:nvPr/>
        </p:nvPicPr>
        <p:blipFill>
          <a:blip r:embed="rId1"/>
          <a:stretch/>
        </p:blipFill>
        <p:spPr>
          <a:xfrm>
            <a:off x="4932360" y="1557360"/>
            <a:ext cx="3816360" cy="46101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8:37:30Z</dcterms:created>
  <dc:creator>.</dc:creator>
  <dc:description/>
  <dc:language>en-US</dc:language>
  <cp:lastModifiedBy>Admin</cp:lastModifiedBy>
  <dcterms:modified xsi:type="dcterms:W3CDTF">2010-10-30T04:31:34Z</dcterms:modified>
  <cp:revision>57</cp:revision>
  <dc:subject/>
  <dc:title>Комедия  Николая  Васильевича  Гоголя  «Ревизор»</dc:title>
</cp:coreProperties>
</file>