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75F-39E5-47CD-997E-B52926D3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8D6-F59F-4478-A65F-3BAFDB34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31C-87CD-42DA-8F3F-E1EB8E66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F07-F8C6-4C34-B761-40D78533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13F0-F61C-4813-BCEC-784A9027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8DB1-F9DD-4175-9EF2-8328C320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156B-2087-4671-A4AE-4FC2B820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2519-A646-48EC-A9B4-E71020E7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00C4-2112-4738-A552-D7E49F67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98B-C02B-433B-9732-A9C2531A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9EDC-9BFD-44AD-BB68-6A2E1BE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C05-F0D9-46C3-BD23-39C76709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989B-25B1-48CA-8D2E-C9AEA91F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1B97-E51D-48B8-8E67-018F8E2B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7303-8AC6-4154-8998-74E6B3C5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2422-2D2D-493A-B52C-C6243615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2CB4-8C91-4015-9AC3-727E6221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2E1-2051-4F75-AD1D-4DDCCFEC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5AE-4B9B-418A-84CB-22F099AB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59C-B45C-439E-8CB3-95350245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DA4-224E-48BB-B38E-9B8747B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6B4-5216-4B03-95E0-CA1154D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5C0-AC98-4430-BFC5-92ADC99A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FAC-5B2B-4E50-9150-6ACA604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B5EF-086E-4BE9-822F-BC5B6F37288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2e3f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135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3d32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83930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ACF5-29A7-4762-A6D1-4853C659C89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21977"/>
          <p:cNvPicPr/>
          <p:nvPr/>
        </p:nvPicPr>
        <p:blipFill>
          <a:blip r:embed="rId1"/>
          <a:stretch/>
        </p:blipFill>
        <p:spPr>
          <a:xfrm>
            <a:off x="755640" y="115920"/>
            <a:ext cx="7777080" cy="6553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Arial"/>
              </a:rPr>
              <a:t>Николай Васильевич Гоголь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_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0b100"/>
                </a:solidFill>
                <a:latin typeface="Tahoma"/>
              </a:rPr>
              <a:t>ТУР ПЕРВЫЙ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6d84"/>
                </a:solidFill>
                <a:latin typeface="Tahoma"/>
              </a:rPr>
              <a:t>СЛОВА, СЛОВА, СЛОВ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Tahoma"/>
              </a:rPr>
              <a:t>Слова, слова, слова…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б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бар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е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нтр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коп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ап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тикуля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ве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страти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когни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у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жесоленая тре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дно-жел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тен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тель (презри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инный к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тат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урной тон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атор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й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Tahoma"/>
              </a:rPr>
              <a:t>Слова, слова, слова…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как мухи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меня лёгкос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с Пушкины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у смеёте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одничий глуп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у взят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и две недел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 коротеньких человек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доравли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ыкновенная в мысл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ружеской н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собой смеёте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сивый ме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зыми щен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екли унтер-офицерскую вдо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 сёмгу и еще много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29"/>
          <p:cNvPicPr/>
          <p:nvPr/>
        </p:nvPicPr>
        <p:blipFill>
          <a:blip r:embed="rId1"/>
          <a:stretch/>
        </p:blipFill>
        <p:spPr>
          <a:xfrm>
            <a:off x="1116000" y="189000"/>
            <a:ext cx="7201080" cy="6352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3f1db"/>
                </a:solidFill>
                <a:latin typeface="Tahoma"/>
              </a:rPr>
              <a:t>Тур второй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Узнай героя комедии по его опис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Tahoma"/>
              </a:rPr>
              <a:t>Уже постаревший на службе и очень неглупый, по-своему, человек. Хотя и взяточник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pic>
        <p:nvPicPr>
          <p:cNvPr id="139" name="Picture 4" descr="29"/>
          <p:cNvPicPr/>
          <p:nvPr/>
        </p:nvPicPr>
        <p:blipFill>
          <a:blip r:embed="rId1"/>
          <a:stretch/>
        </p:blipFill>
        <p:spPr>
          <a:xfrm>
            <a:off x="468360" y="2060640"/>
            <a:ext cx="4038480" cy="4348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роднич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нтон Антонович Сквозник-Дмуха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3f1db"/>
                </a:solidFill>
                <a:latin typeface="Tahoma"/>
              </a:rPr>
              <a:t>… </a:t>
            </a:r>
            <a:r>
              <a:rPr b="0" i="1" lang="ru-RU" sz="2000" spc="-1" strike="noStrike">
                <a:solidFill>
                  <a:srgbClr val="d3f1db"/>
                </a:solidFill>
                <a:latin typeface="Tahoma"/>
              </a:rPr>
              <a:t>О</a:t>
            </a: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чень толстый, неповоротливый и неуклюжий человек, но при всем том проныра и плут…</a:t>
            </a:r>
            <a:endParaRPr b="0" lang="en-US" sz="2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печитель богоугодных за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емляника Артемий Филипп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lit08-06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человек, прочитавший пять или шесть книг и потому несколько вольнодумен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япкин –Тяп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lit08-05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Tahoma"/>
              </a:rPr>
              <a:t>Не приведи господь служить по ученой части! Всего боишься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мотритель учили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ука Лукич Хлоп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liСмотритель  училищ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…</a:t>
            </a: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оба низенькие, коротенькие, очень любопытные; чрезвычайно похожи друг на друга…</a:t>
            </a:r>
            <a:endParaRPr b="0" lang="en-US" sz="2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тр Иванович Бобч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тр Иванович Добч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 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f1db"/>
                </a:solidFill>
                <a:latin typeface="Tahoma"/>
              </a:rPr>
              <a:t>Молодой человек лет двадцати трех, тоненький, худенький; несколько приглуповат …</a:t>
            </a:r>
            <a:endParaRPr b="0" lang="en-US" sz="24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ван Александрович Хлест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29"/>
          <p:cNvPicPr/>
          <p:nvPr/>
        </p:nvPicPr>
        <p:blipFill>
          <a:blip r:embed="rId1"/>
          <a:stretch/>
        </p:blipFill>
        <p:spPr>
          <a:xfrm>
            <a:off x="395280" y="1628640"/>
            <a:ext cx="374508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63700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d3f1db"/>
              </a:solidFill>
              <a:latin typeface="Arial"/>
            </a:endParaRPr>
          </a:p>
        </p:txBody>
      </p:sp>
      <p:pic>
        <p:nvPicPr>
          <p:cNvPr id="107" name="Picture 9" descr="1252833109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29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Arial"/>
              </a:rPr>
              <a:t>Тур третий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знай сцену из коме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lit08-03"/>
          <p:cNvPicPr/>
          <p:nvPr/>
        </p:nvPicPr>
        <p:blipFill>
          <a:blip r:embed="rId1"/>
          <a:stretch/>
        </p:blipFill>
        <p:spPr>
          <a:xfrm>
            <a:off x="1835280" y="189000"/>
            <a:ext cx="5599080" cy="6470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65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716360" y="260280"/>
            <a:ext cx="3456000" cy="1297080"/>
          </a:xfrm>
          <a:prstGeom prst="wedgeRoundRectCallout">
            <a:avLst>
              <a:gd name="adj1" fmla="val -29055"/>
              <a:gd name="adj2" fmla="val 69949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Я пригласил вас, господа, с тем, чтобы сообщить пренеприятное извести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сцена  вранья"/>
          <p:cNvPicPr/>
          <p:nvPr/>
        </p:nvPicPr>
        <p:blipFill>
          <a:blip r:embed="rId1"/>
          <a:stretch/>
        </p:blipFill>
        <p:spPr>
          <a:xfrm>
            <a:off x="1476360" y="189000"/>
            <a:ext cx="5832360" cy="6335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3924360" y="765000"/>
            <a:ext cx="3095640" cy="863640"/>
          </a:xfrm>
          <a:prstGeom prst="wedgeRoundRectCallout">
            <a:avLst>
              <a:gd name="adj1" fmla="val -22564"/>
              <a:gd name="adj2" fmla="val 118013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, признаться, только литературой существ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ml_objects456"/>
          <p:cNvPicPr/>
          <p:nvPr/>
        </p:nvPicPr>
        <p:blipFill>
          <a:blip r:embed="rId1"/>
          <a:stretch/>
        </p:blipFill>
        <p:spPr>
          <a:xfrm>
            <a:off x="1835280" y="0"/>
            <a:ext cx="5545080" cy="65530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2627280" y="620640"/>
            <a:ext cx="2016000" cy="1008000"/>
          </a:xfrm>
          <a:prstGeom prst="wedgeRoundRectCallout">
            <a:avLst>
              <a:gd name="adj1" fmla="val -28347"/>
              <a:gd name="adj2" fmla="val 70000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нна Андреевна, благословите постоянную любовь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29"/>
          <p:cNvPicPr/>
          <p:nvPr/>
        </p:nvPicPr>
        <p:blipFill>
          <a:blip r:embed="rId1"/>
          <a:stretch/>
        </p:blipFill>
        <p:spPr>
          <a:xfrm>
            <a:off x="1908000" y="260280"/>
            <a:ext cx="5183280" cy="6048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3419640" y="260280"/>
            <a:ext cx="1873080" cy="1152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т, я влюблен в вас. Жизнь моя на волос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 "/>
          <p:cNvPicPr/>
          <p:nvPr/>
        </p:nvPicPr>
        <p:blipFill>
          <a:blip r:embed="rId1"/>
          <a:stretch/>
        </p:blipFill>
        <p:spPr>
          <a:xfrm>
            <a:off x="233280" y="333360"/>
            <a:ext cx="8910720" cy="6323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i="1" lang="ru-RU" sz="3800" spc="-1" strike="noStrike">
                <a:solidFill>
                  <a:srgbClr val="f0b100"/>
                </a:solidFill>
                <a:latin typeface="Arial"/>
              </a:rPr>
              <a:t>Итоговое задание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b1"/>
          <p:cNvPicPr/>
          <p:nvPr/>
        </p:nvPicPr>
        <p:blipFill>
          <a:blip r:embed="rId1"/>
          <a:stretch/>
        </p:blipFill>
        <p:spPr>
          <a:xfrm>
            <a:off x="971640" y="0"/>
            <a:ext cx="73832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589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ушкин и Гоголь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2_big"/>
          <p:cNvPicPr/>
          <p:nvPr/>
        </p:nvPicPr>
        <p:blipFill>
          <a:blip r:embed="rId1"/>
          <a:stretch/>
        </p:blipFill>
        <p:spPr>
          <a:xfrm>
            <a:off x="542880" y="0"/>
            <a:ext cx="8058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775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Arial"/>
              </a:rPr>
              <a:t>КОМЕДИЯ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ml_objects448"/>
          <p:cNvPicPr/>
          <p:nvPr/>
        </p:nvPicPr>
        <p:blipFill>
          <a:blip r:embed="rId1"/>
          <a:stretch/>
        </p:blipFill>
        <p:spPr>
          <a:xfrm>
            <a:off x="4284720" y="549360"/>
            <a:ext cx="465768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24000" y="1484280"/>
            <a:ext cx="388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7103"/>
                </a:solidFill>
                <a:latin typeface="Arial"/>
              </a:rPr>
              <a:t>« 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37103"/>
                </a:solidFill>
                <a:latin typeface="Arial"/>
              </a:rPr>
              <a:t>Я  решил  собрать  все  дурное, какое  я  только  знал,  и  за  одним  разом  над  всем  посмеяться»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c37103"/>
                </a:solidFill>
                <a:latin typeface="Arial"/>
              </a:rPr>
              <a:t>Н. Гог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004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397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Tahoma"/>
              </a:rPr>
              <a:t>Разминка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Кто подарил Н.В. Гоголю сюжет комедии «Ревизор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.С. Пушкин рассказал Гоголю о случае, бывшем в городе Устюжине Новгородской губернии, и о каком-то проезжем господине, выдававшем себя за чиновника министерства и обокравшем городских 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0" descr="2fc0401db8f1"/>
          <p:cNvPicPr/>
          <p:nvPr/>
        </p:nvPicPr>
        <p:blipFill>
          <a:blip r:embed="rId1"/>
          <a:stretch/>
        </p:blipFill>
        <p:spPr>
          <a:xfrm>
            <a:off x="590400" y="1600200"/>
            <a:ext cx="377064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3f1db"/>
                </a:solidFill>
                <a:latin typeface="Tahoma"/>
              </a:rPr>
              <a:t>Где и когда увидела свет комедия «Ревизор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9 апреля 1836 года на сцене Александрийского театра состоялось первое представление комедии Н.В. Гоголя «Ревиз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095-1"/>
          <p:cNvPicPr/>
          <p:nvPr/>
        </p:nvPicPr>
        <p:blipFill>
          <a:blip r:embed="rId1"/>
          <a:stretch/>
        </p:blipFill>
        <p:spPr>
          <a:xfrm>
            <a:off x="4500720" y="1628640"/>
            <a:ext cx="41749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Какой эпиграф взял Гоголь для своей комедии? В чем его смыс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зеркало неча пенять, коли рожа кр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1463574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«Ну и пьеска! А мне досталось боле всех!» Чьи это слова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мператор Николай Первый, присутствующий на премьере спектак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2424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4610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8:37:30Z</dcterms:created>
  <dc:creator>.</dc:creator>
  <dc:description/>
  <dc:language>en-US</dc:language>
  <cp:lastModifiedBy>Admin</cp:lastModifiedBy>
  <dcterms:modified xsi:type="dcterms:W3CDTF">2010-10-30T04:31:34Z</dcterms:modified>
  <cp:revision>57</cp:revision>
  <dc:subject/>
  <dc:title>Комедия  Николая  Васильевича  Гоголя  «Ревизор»</dc:title>
</cp:coreProperties>
</file>