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A82-89CD-4634-AF0D-3B6DA511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E3C-102C-49A9-81BA-930D58C0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313-3379-4363-AB64-77D7DE1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0E2-27AF-4557-9BE0-777F932A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E4B6-F211-4CE2-BD4F-40275E0A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D43-E0C1-4BC4-BF15-FB64CB7B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5BFA-CEBA-40BD-BC19-A2B298C4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085D-C35E-4DAB-B770-DDFF9E7E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BE3-741A-4295-AC68-5F14ACB3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CC77-1735-42C6-B461-9E14545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362-03B9-47DE-B3A7-6C92231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7AF-F72C-415B-BC05-017BD47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024D-9000-4C25-BF6D-98031ED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0FB-3948-4F61-A3FF-69796DB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58F-C7DA-4F37-903A-8593783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F78-7DB0-4A02-B626-8612BDC4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71C-A5DB-4630-83F9-94D7BB54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A0C-1941-401D-AC50-23B880D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DE5-4E6F-48F1-9A0D-32281BA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EC-B4AD-4353-A2EE-35A061F1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64A-B5E5-4EFB-9696-C9944CB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A11-8264-48A0-B193-4FD66D7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2EF-538F-46AC-BCC4-739A604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4B4-99A3-4DFB-BE9C-20741975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9C35-177A-4476-8D7C-76EABC6A9DD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37B-4E06-4D15-B4F9-E9F4438BF5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21977"/>
          <p:cNvPicPr/>
          <p:nvPr/>
        </p:nvPicPr>
        <p:blipFill>
          <a:blip r:embed="rId1"/>
          <a:stretch/>
        </p:blipFill>
        <p:spPr>
          <a:xfrm>
            <a:off x="755640" y="115920"/>
            <a:ext cx="777708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Arial"/>
              </a:rPr>
              <a:t>Николай Васильевич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_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0b100"/>
                </a:solidFill>
                <a:latin typeface="Tahoma"/>
              </a:rPr>
              <a:t>ТУР ПЕРВЫЙ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d84"/>
                </a:solidFill>
                <a:latin typeface="Tahoma"/>
              </a:rPr>
              <a:t>СЛОВА, СЛОВА, СЛОВ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б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бар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нтр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коп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ап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тикуля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ве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страти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огни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у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есоленая тр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дно-жел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те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тель (презри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й к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ат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рной то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атор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как мухи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меня лёгкос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 Пушкины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смеёте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одничий глуп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у взят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две недел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 коротеньких челове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доравли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ыкновенная в мыс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ружеск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собой смеёт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ивый ме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зыми щен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екли унтер-офицерскую вд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 сёмгу и еще много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9"/>
          <p:cNvPicPr/>
          <p:nvPr/>
        </p:nvPicPr>
        <p:blipFill>
          <a:blip r:embed="rId1"/>
          <a:stretch/>
        </p:blipFill>
        <p:spPr>
          <a:xfrm>
            <a:off x="1116000" y="189000"/>
            <a:ext cx="7201080" cy="635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3f1db"/>
                </a:solidFill>
                <a:latin typeface="Tahoma"/>
              </a:rPr>
              <a:t>Тур второ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знай героя комедии по его опис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Уже постаревший на службе и очень неглупый, по-своему, человек. Хотя и взяточник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39" name="Picture 4" descr="29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434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одн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тон Антонович Сквозник-Дмух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… </a:t>
            </a: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О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чень толстый, неповоротливый и неуклюжий человек, но при всем том проныра и плут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емляника Артемий Филипп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lit08-06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человек, прочитавший пять или шесть книг и потому несколько вольнодумен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пкин –Т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lit08-05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Не приведи господь служить по ученой части! Всего боишься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мотритель учили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ука Лукич Хло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liСмотритель  училищ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оба низенькие, коротенькие, очень любопытные; чрезвычайно похожи друг на друга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Б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Д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 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f1db"/>
                </a:solidFill>
                <a:latin typeface="Tahoma"/>
              </a:rPr>
              <a:t>Молодой человек лет двадцати трех, тоненький, худенький; несколько приглуповат …</a:t>
            </a:r>
            <a:endParaRPr b="0" lang="en-US" sz="24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ван Александрович Хлест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29"/>
          <p:cNvPicPr/>
          <p:nvPr/>
        </p:nvPicPr>
        <p:blipFill>
          <a:blip r:embed="rId1"/>
          <a:stretch/>
        </p:blipFill>
        <p:spPr>
          <a:xfrm>
            <a:off x="395280" y="1628640"/>
            <a:ext cx="374508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63700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07" name="Picture 9" descr="1252833109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9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Тур трети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знай сцену из коме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lit08-03"/>
          <p:cNvPicPr/>
          <p:nvPr/>
        </p:nvPicPr>
        <p:blipFill>
          <a:blip r:embed="rId1"/>
          <a:stretch/>
        </p:blipFill>
        <p:spPr>
          <a:xfrm>
            <a:off x="1835280" y="189000"/>
            <a:ext cx="5599080" cy="6470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716360" y="260280"/>
            <a:ext cx="3456000" cy="1297080"/>
          </a:xfrm>
          <a:prstGeom prst="wedgeRoundRectCallout">
            <a:avLst>
              <a:gd name="adj1" fmla="val -29055"/>
              <a:gd name="adj2" fmla="val 69949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Я пригласил вас, господа, с тем, чтобы сообщить пренеприятное извести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сцена  вранья"/>
          <p:cNvPicPr/>
          <p:nvPr/>
        </p:nvPicPr>
        <p:blipFill>
          <a:blip r:embed="rId1"/>
          <a:stretch/>
        </p:blipFill>
        <p:spPr>
          <a:xfrm>
            <a:off x="1476360" y="189000"/>
            <a:ext cx="5832360" cy="6335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3924360" y="765000"/>
            <a:ext cx="3095640" cy="863640"/>
          </a:xfrm>
          <a:prstGeom prst="wedgeRoundRectCallout">
            <a:avLst>
              <a:gd name="adj1" fmla="val -22564"/>
              <a:gd name="adj2" fmla="val 118013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, признаться, только литературой существ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l_objects456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553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2627280" y="620640"/>
            <a:ext cx="2016000" cy="1008000"/>
          </a:xfrm>
          <a:prstGeom prst="wedgeRoundRectCallout">
            <a:avLst>
              <a:gd name="adj1" fmla="val -28347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нна Андреевна, благословите постоянную любов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9"/>
          <p:cNvPicPr/>
          <p:nvPr/>
        </p:nvPicPr>
        <p:blipFill>
          <a:blip r:embed="rId1"/>
          <a:stretch/>
        </p:blipFill>
        <p:spPr>
          <a:xfrm>
            <a:off x="1908000" y="260280"/>
            <a:ext cx="5183280" cy="6048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419640" y="260280"/>
            <a:ext cx="1873080" cy="1152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т, я влюблен в вас. Жизнь моя на волос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 "/>
          <p:cNvPicPr/>
          <p:nvPr/>
        </p:nvPicPr>
        <p:blipFill>
          <a:blip r:embed="rId1"/>
          <a:stretch/>
        </p:blipFill>
        <p:spPr>
          <a:xfrm>
            <a:off x="233280" y="333360"/>
            <a:ext cx="8910720" cy="63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i="1" lang="ru-RU" sz="3800" spc="-1" strike="noStrike">
                <a:solidFill>
                  <a:srgbClr val="f0b100"/>
                </a:solidFill>
                <a:latin typeface="Arial"/>
              </a:rPr>
              <a:t>Итоговое задание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b1"/>
          <p:cNvPicPr/>
          <p:nvPr/>
        </p:nvPicPr>
        <p:blipFill>
          <a:blip r:embed="rId1"/>
          <a:stretch/>
        </p:blipFill>
        <p:spPr>
          <a:xfrm>
            <a:off x="971640" y="0"/>
            <a:ext cx="73832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шкин и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_big"/>
          <p:cNvPicPr/>
          <p:nvPr/>
        </p:nvPicPr>
        <p:blipFill>
          <a:blip r:embed="rId1"/>
          <a:stretch/>
        </p:blipFill>
        <p:spPr>
          <a:xfrm>
            <a:off x="542880" y="0"/>
            <a:ext cx="8058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775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КОМЕДИЯ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ml_objects448"/>
          <p:cNvPicPr/>
          <p:nvPr/>
        </p:nvPicPr>
        <p:blipFill>
          <a:blip r:embed="rId1"/>
          <a:stretch/>
        </p:blipFill>
        <p:spPr>
          <a:xfrm>
            <a:off x="4284720" y="549360"/>
            <a:ext cx="465768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24000" y="1484280"/>
            <a:ext cx="38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7103"/>
                </a:solidFill>
                <a:latin typeface="Arial"/>
              </a:rPr>
              <a:t>« 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Я  решил  собрать  все  дурное, какое  я  только  знал,  и  за  одним  разом  над  всем  посмеяться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Н. Гог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04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397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Tahoma"/>
              </a:rPr>
              <a:t>Разминка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то подарил Н.В. Гоголю сюжет комедии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.С. Пушкин рассказал Гоголю о случае, бывшем в городе Устюжине Новгородской губернии, и о каком-то проезжем господине, выдававшем себя за чиновника министерства и обокравшем городских 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2fc0401db8f1"/>
          <p:cNvPicPr/>
          <p:nvPr/>
        </p:nvPicPr>
        <p:blipFill>
          <a:blip r:embed="rId1"/>
          <a:stretch/>
        </p:blipFill>
        <p:spPr>
          <a:xfrm>
            <a:off x="590400" y="1600200"/>
            <a:ext cx="37706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Где и когда увидела свет комедия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9 апреля 1836 года на сцене Александрийского театра состоялось первое представление комедии Н.В. Гоголя «Р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095-1"/>
          <p:cNvPicPr/>
          <p:nvPr/>
        </p:nvPicPr>
        <p:blipFill>
          <a:blip r:embed="rId1"/>
          <a:stretch/>
        </p:blipFill>
        <p:spPr>
          <a:xfrm>
            <a:off x="4500720" y="1628640"/>
            <a:ext cx="4174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акой эпиграф взял Гоголь для своей комедии? В чем его смыс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зеркало неча пенять, коли рожа кр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1463574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«Ну и пьеска! А мне досталось боле всех!» Чьи это слова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мператор Николай Первый, присутствующий на премьере спектак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2424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8:37:30Z</dcterms:created>
  <dc:creator>.</dc:creator>
  <dc:description/>
  <dc:language>en-US</dc:language>
  <cp:lastModifiedBy>Admin</cp:lastModifiedBy>
  <dcterms:modified xsi:type="dcterms:W3CDTF">2010-10-30T04:31:34Z</dcterms:modified>
  <cp:revision>57</cp:revision>
  <dc:subject/>
  <dc:title>Комедия  Николая  Васильевича  Гоголя  «Ревизор»</dc:title>
</cp:coreProperties>
</file>