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F01-349B-4FBC-960A-1DE8CCD8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1FB-1222-45CA-B711-9F69ED44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2627-A65C-4917-B8B1-B0083C3B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A9F-1395-4D07-A9A4-1450F47E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9FF-F68C-445C-AAFB-76FF3B8B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2DD-3B7E-4C70-9BAC-0DAD08976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402-B124-47DC-8C17-E5DB3A80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CE4-0CAE-49C8-845F-C96CD3AC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727-6846-45C0-9424-FBC97FED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A0B-7EF7-4596-BAED-9B564227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97D-F254-4291-B4F7-872B6CAC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611F-9C83-404A-BC61-CC4255C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663300">
              <a:alpha val="8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df53"/>
                </a:solidFill>
                <a:latin typeface="Castellar"/>
              </a:rPr>
              <a:t>Click to edit the title text format</a:t>
            </a: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bdf53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bdf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0FA8-8B1A-4B9A-91F1-643AD5142A8A}" type="slidenum">
              <a:rPr b="0" lang="ru-RU" sz="1400" spc="-1" strike="noStrike">
                <a:solidFill>
                  <a:srgbClr val="fbdf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9880"/>
            <a:ext cx="7772400" cy="1470240"/>
          </a:xfrm>
          <a:prstGeom prst="rect">
            <a:avLst/>
          </a:prstGeom>
          <a:solidFill>
            <a:srgbClr val="6633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bdf53"/>
                </a:solidFill>
                <a:latin typeface="Castellar"/>
              </a:rPr>
              <a:t>Телемания </a:t>
            </a: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5714640"/>
            <a:ext cx="640080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bdf53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ТВ на развитие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6633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df53"/>
                </a:solidFill>
                <a:latin typeface="Castellar"/>
              </a:rPr>
              <a:t>Анализ общей статистики</a:t>
            </a: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bdf53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ве трети наших детей в возрасте от 6 до 12 лет смотрят телевизор ежедневно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ремя ежедневного просмотра телепередач ребенком составляет в среднем более 2 часов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50% детей смотрят телепередачи подряд, безо всякого выбора и исключений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5% детей в возрасте от 6 до 10 лет смотрят одни и те же телепередачи от 5 до 40 раз подряд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8% ребят в возрасте от 6 до 12 лет при определении рейтинга  времяпрепровождения на первое место поставили телевизор и исключив при этом занятия спортом, прогулки на воздухе  общение с семье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6633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bdf53"/>
                </a:solidFill>
                <a:latin typeface="Castellar"/>
              </a:rPr>
              <a:t>Влияние телевидения на развитие детей</a:t>
            </a:r>
            <a:br>
              <a:rPr sz="4400"/>
            </a:b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bdf53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  Дети приучаются к поверхностному восприятию жизни, становятся пассивными и интеллектуально лен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  Под влиянием поведения и действия героев фильмов слабеет собственная энергия и творческая сила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  При просмотре развлекательных фильмов и передач дети не прилагают умственных усилий, в связи с этим снижается уровень понимания  ребенка,   уменьшаются  острота  его  восприятия   и способность к логическому мыш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 Со временем в детском характере появляются ложь и скрытность, ребенок привыкает к пустому проведению времени и сидению перед экра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Передачи и фильмы низкого морального уровня учат детей агрес­сивности, совершению неблаговидных поступков и, в конечном счете, способствуют снижению моральных усто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  Низкопробные фильмы влияют и на физическое состояние ребенка: у него портится зрение, слабеет нервная система, начина­ются частые просту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  Фильмы низкого уровня несут откровенное зло, так как показывают неблаговидные и преступные действия как нормальное поведение человека. Дети пытаются подражать таким мнимым кумирам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6633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bdf53"/>
                </a:solidFill>
                <a:latin typeface="Castellar"/>
              </a:rPr>
              <a:t>Правила борьбы с телеманией</a:t>
            </a:r>
            <a:br>
              <a:rPr sz="4400"/>
            </a:b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bdf53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овместное определение и обсуждение телепередач для просмот­ра взрослых и детей на последующую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Обсуждение любимых телепередач взрослых и детей после просмо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Выслушивание «за» и «против» детей по поводу взрослых передач, и мнения взрослых по поводу детских пере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Телевизор должен быть помощником в созидании, а не 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ушении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   Среди прочих других форм общения с ребенком в семье, телевизор должен занимать последнее место, уступая свои права прогулкам    с   детьми,    беседам,    походам,    совместной    трудово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ятельности, чтению художественн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   Необходимо помнить о том, что ребенок, который ежедневно смотрит сцены насилия, убийства, свыкается с ними и даже испы­тывает при этом удовольствие. Обязательно надо исключить их просмотра для сохранения душевного покоя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663300">
              <a:alpha val="8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bdf53"/>
                </a:solidFill>
                <a:latin typeface="Castellar"/>
              </a:rPr>
              <a:t>Советы о том, как привлечь телевидение на пользу</a:t>
            </a:r>
            <a:r>
              <a:rPr b="0" lang="ru-RU" sz="4400" spc="-1" strike="noStrike">
                <a:solidFill>
                  <a:srgbClr val="fbdf53"/>
                </a:solidFill>
                <a:latin typeface="Castellar"/>
              </a:rPr>
              <a:t> </a:t>
            </a:r>
            <a:r>
              <a:rPr b="1" lang="ru-RU" sz="4400" spc="-1" strike="noStrike">
                <a:solidFill>
                  <a:srgbClr val="fbdf53"/>
                </a:solidFill>
                <a:latin typeface="Castellar"/>
              </a:rPr>
              <a:t>детей:</a:t>
            </a:r>
            <a:br>
              <a:rPr sz="4400"/>
            </a:br>
            <a:endParaRPr b="0" lang="en-US" sz="4400" spc="-1" strike="noStrike">
              <a:solidFill>
                <a:srgbClr val="fbdf53"/>
              </a:solidFill>
              <a:latin typeface="Castellar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bdf53">
                  <a:alpha val="50196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режде чем ребенок сядет за просмотр какого-либо фильма, постарайтесь заранее узнать, о чем он, будет ли он подходящим для восприятия малы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е проводите сами все свободное время за телевизором, не смотрите подряд все передачи и фильмы. Глядя на родителей, и ребенок не будет смотреть все подря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осмотр вместе с ребенком некоторых фильмов дает возможность объяснить ему, «что такое хорошо и что такое плохо», дать оценку характерам главных героев карт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  Не позволяйте ребенку долго смотреть телевизор, старайтесь занять его другими развлечениями, более полезными для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  Приучайте ребенка смотреть фильмы познавательные, научно-популярные, исторические, которые расширяют кругозор и учат думать.   Рекомендуется  смотреть  их  вместе  с ребенком,  чтобы вовремя объяснить ему непонятные моменты, а затем обсудить увиде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Не забывайте о влиянии телевизора не только на психологическое состояние ребенка, но и физическое. Длительное времяпровождение оказывает отрицательное влияние на органы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3-24T14:47:4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