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EC28-25DF-4DF1-A697-B9B50061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DE2A-9CCF-43F6-821A-2D95FAC9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616C-DF6D-4AB3-A76F-07E57E8F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2120-261C-4B90-8B57-3C777D09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D26F-1901-4035-BD79-0C6491CE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B881-2858-407F-8E6B-55698F04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70C8-3B87-4300-8C12-EBC6345E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F470-903E-4CD3-AD3A-2715F87F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495E-CB85-4EE3-B2EE-87C1FE04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1677-6087-4867-81BD-D6CCFD2F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49B0-F714-4557-8342-15591C49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2D4C-009B-4168-879D-078F7FAB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A63B-318C-470F-A486-D77F0764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46CA-EC2B-496E-8CA3-93B16720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498B-78A7-40EC-AAB3-06819006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F462-4A28-429C-827C-A3F98E35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6028-8B17-4001-A47B-98BC88F2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421C3-BE70-466B-AE09-D9FC50D2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2DDAF-38A7-4C34-AF7B-A870239A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46464-099A-4E16-B9EA-E8DA56A5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031C2-BBE4-4791-BF02-A73B265F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0624B-B7FB-4825-B7F5-4EC9C1DF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5B77-A065-4D2F-B3A2-CF12EB31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7E2F9-A9E1-4DC3-8421-8DDA0A90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F5BE3-572B-46CD-9A9D-6707E215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D4C82-33EA-41B9-9C10-0C167E70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F6BC1-DF89-41C9-8CBB-6464C4F9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AC388-F503-4E19-9DFA-699CDB64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FE9DA-FD70-4F38-B927-9224BB78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21C32-84C1-4F00-BF8F-40BCF308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F8381-2EA7-4F80-8C7F-145ADE03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2967F-F982-4F0B-8CCE-CF4449DE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DD9D0-C374-40C8-BC54-D60733BA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9DE-3D9C-4835-8395-BE04DE53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B8180-7B23-4080-A9E1-8BE12B9B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B26DC-33D4-4917-BE85-554730B9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BF73F-7DD9-4376-A95B-5F4FC154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1C938-5EC1-4CDC-B96B-9A25F03C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716A3-38FF-4B98-8B71-D6A2260C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1F3BD-2D37-4165-9075-D3CA841C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F34E3-69D6-4B95-B724-6A969F62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962A9-C9E9-413D-B181-31545511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3E540-3896-43DC-9365-AB39914C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21860-BD0A-40E8-9F9C-B14D47CD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765A-FC3C-4A72-8F4C-3FFA1573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EF36C-943A-4295-B424-DF502A43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EE49C-DE34-4429-B33A-044CC6CE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E9306-A0E5-4ECB-9DF7-9015675B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AC609-08E3-469A-BFAB-56B64B13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A44D6-41AA-4C96-A116-AB61F4C6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12CF3-7BDA-45A3-BFBD-CD918761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0A5D9-26AC-44D8-8B1A-D7113058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76572-1085-489C-B93D-FC278EF6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78E97-6EA7-40CF-BD34-D11DC3D0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9300E-2BA8-4587-A72D-AAB0B601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44D1-854E-4628-9082-DD784C4A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64EB2-9C11-42C6-817E-F6F24400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82549-8E7B-4D55-830E-CBE2BC97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57514-A445-4910-A9B2-553103A5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A5715-3B0F-4230-8F29-BE9727FF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003A3-FAD3-407F-A941-E9A14E2D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E55BE-BB34-4CEC-9C46-3BCC653C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FB249-1189-40F5-9F8E-29CC2013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37B6E-08FF-4755-8659-A978DF91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8671C-CF4A-4EE4-9BED-9BC68D0B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4ADA3-ACD8-4AC8-A53F-75EBD85D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5C95-5F64-4E38-9423-1D49D94E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2CA41-5451-4B90-9B81-8CD99F35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CE39E-5DF2-4DDC-B6B2-E34ED9BA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5F4AB-DE17-4EBF-B43E-045586F2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8E629-BCB9-46FA-AB36-B47B27D3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F2760-594D-49AB-BE3A-5B1984A6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CF11C-3932-4090-8590-3691DFB5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7D5D0-D29F-48A3-AB31-FAB33C93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6C4B3-DAE8-4B16-8EE4-36B78621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67614-A17B-4D29-91E9-76B41333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47373-1028-4C20-BA6A-C82CD3FD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55A9-A33D-41EE-A33F-F164D39D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368D1-ABAB-4B44-8ED5-FB1F611E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FC09D-A999-45AB-AC40-81FD4D78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41055-664A-47A7-BCDF-9EC736BB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B1123-5530-45B2-AE90-9FEF1815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7BDBA-5832-45B2-9E40-205270D5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2EA23-5231-4547-97C6-3E6A2E0F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CA303-4D80-4277-BBAD-27A5D6EA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D4111-DB66-4634-8A7F-9C541362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FAFD7-0461-4EE0-BBC3-4F97D81F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6B680-60B4-472A-AEBD-DDE1993E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309F-7F68-49E9-9790-22D5AFC5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206CC-02B5-4969-839D-17115CC4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3EDDA-53D5-4406-B204-BA5D7458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8175D-32C4-4070-9304-12A76885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A56EE-CF7F-4CB2-BC6B-DAF01B5A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5EF4B-2EEB-48A3-BC4F-603BB9F6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32ADC-4399-491C-BCAD-DE7315B0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17C7B-32F2-4702-BE4B-51A0D457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884C-1340-4278-B4E1-C1F5CD95BA7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0DD5-E7B6-42A3-9B32-01D7A6E0FC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9" descr="65_5187"/>
          <p:cNvPicPr/>
          <p:nvPr/>
        </p:nvPicPr>
        <p:blipFill>
          <a:blip r:embed="rId2"/>
          <a:srcRect l="35434" t="0" r="40158" b="0"/>
          <a:stretch/>
        </p:blipFill>
        <p:spPr>
          <a:xfrm>
            <a:off x="-36360" y="0"/>
            <a:ext cx="148716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dt" idx="7"/>
          </p:nvPr>
        </p:nvSpPr>
        <p:spPr>
          <a:xfrm>
            <a:off x="1547280" y="6237000"/>
            <a:ext cx="242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ftr" idx="8"/>
          </p:nvPr>
        </p:nvSpPr>
        <p:spPr>
          <a:xfrm>
            <a:off x="4140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9"/>
          </p:nvPr>
        </p:nvSpPr>
        <p:spPr>
          <a:xfrm>
            <a:off x="7380000" y="6244920"/>
            <a:ext cx="130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BA0E-EC0C-44DF-A201-69AF6B5539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2" name="Freeform 11"/>
          <p:cNvSpPr/>
          <p:nvPr/>
        </p:nvSpPr>
        <p:spPr>
          <a:xfrm>
            <a:off x="971640" y="-230040"/>
            <a:ext cx="1008000" cy="731664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9" descr="65_5187"/>
          <p:cNvPicPr/>
          <p:nvPr/>
        </p:nvPicPr>
        <p:blipFill>
          <a:blip r:embed="rId2"/>
          <a:srcRect l="35434" t="0" r="40158" b="0"/>
          <a:stretch/>
        </p:blipFill>
        <p:spPr>
          <a:xfrm>
            <a:off x="-36360" y="0"/>
            <a:ext cx="148716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dt" idx="10"/>
          </p:nvPr>
        </p:nvSpPr>
        <p:spPr>
          <a:xfrm>
            <a:off x="1547280" y="6237000"/>
            <a:ext cx="242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ftr" idx="11"/>
          </p:nvPr>
        </p:nvSpPr>
        <p:spPr>
          <a:xfrm>
            <a:off x="4140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12"/>
          </p:nvPr>
        </p:nvSpPr>
        <p:spPr>
          <a:xfrm>
            <a:off x="7380000" y="6244920"/>
            <a:ext cx="130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10EB-8D2E-42C9-9F3F-C0DD75253D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5" name="Freeform 11"/>
          <p:cNvSpPr/>
          <p:nvPr/>
        </p:nvSpPr>
        <p:spPr>
          <a:xfrm>
            <a:off x="971640" y="-230040"/>
            <a:ext cx="1008000" cy="731664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224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4"/>
            <p:cNvSpPr/>
            <p:nvPr/>
          </p:nvSpPr>
          <p:spPr>
            <a:xfrm>
              <a:off x="0" y="28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5"/>
            <p:cNvSpPr/>
            <p:nvPr/>
          </p:nvSpPr>
          <p:spPr>
            <a:xfrm>
              <a:off x="7953480" y="2880"/>
              <a:ext cx="1203120" cy="685476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228" name="Group 7"/>
              <p:cNvGrpSpPr/>
              <p:nvPr/>
            </p:nvGrpSpPr>
            <p:grpSpPr>
              <a:xfrm>
                <a:off x="8381880" y="360"/>
                <a:ext cx="762120" cy="2272680"/>
                <a:chOff x="8381880" y="360"/>
                <a:chExt cx="762120" cy="2272680"/>
              </a:xfrm>
            </p:grpSpPr>
            <p:grpSp>
              <p:nvGrpSpPr>
                <p:cNvPr id="229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230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231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3" name="Oval 12"/>
                  <p:cNvSpPr/>
                  <p:nvPr/>
                </p:nvSpPr>
                <p:spPr>
                  <a:xfrm rot="16200000">
                    <a:off x="8830080" y="1324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16"/>
                  <p:cNvSpPr/>
                  <p:nvPr/>
                </p:nvSpPr>
                <p:spPr>
                  <a:xfrm rot="16200000">
                    <a:off x="8830080" y="19440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7"/>
                  <p:cNvSpPr/>
                  <p:nvPr/>
                </p:nvSpPr>
                <p:spPr>
                  <a:xfrm rot="16200000">
                    <a:off x="8778600" y="16956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3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1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06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2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2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7" name="Group 26"/>
              <p:cNvGrpSpPr/>
              <p:nvPr/>
            </p:nvGrpSpPr>
            <p:grpSpPr>
              <a:xfrm>
                <a:off x="7848720" y="1602360"/>
                <a:ext cx="828720" cy="4707360"/>
                <a:chOff x="7848720" y="1602360"/>
                <a:chExt cx="828720" cy="4707360"/>
              </a:xfrm>
            </p:grpSpPr>
            <p:pic>
              <p:nvPicPr>
                <p:cNvPr id="24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2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60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4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7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4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5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7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67" name="Freeform 46"/>
            <p:cNvSpPr/>
            <p:nvPr/>
          </p:nvSpPr>
          <p:spPr>
            <a:xfrm>
              <a:off x="7953480" y="4909320"/>
              <a:ext cx="1190520" cy="1938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47"/>
            <p:cNvSpPr/>
            <p:nvPr/>
          </p:nvSpPr>
          <p:spPr>
            <a:xfrm>
              <a:off x="7939080" y="4858560"/>
              <a:ext cx="1219320" cy="199908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8"/>
            <p:cNvSpPr/>
            <p:nvPr/>
          </p:nvSpPr>
          <p:spPr>
            <a:xfrm>
              <a:off x="7927920" y="2819520"/>
              <a:ext cx="1231920" cy="403488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9"/>
            <p:cNvSpPr/>
            <p:nvPr/>
          </p:nvSpPr>
          <p:spPr>
            <a:xfrm>
              <a:off x="8010360" y="3539880"/>
              <a:ext cx="979560" cy="218340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50"/>
            <p:cNvSpPr/>
            <p:nvPr/>
          </p:nvSpPr>
          <p:spPr>
            <a:xfrm>
              <a:off x="8244000" y="429840"/>
              <a:ext cx="914400" cy="504576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51"/>
            <p:cNvSpPr/>
            <p:nvPr/>
          </p:nvSpPr>
          <p:spPr>
            <a:xfrm>
              <a:off x="8250120" y="264960"/>
              <a:ext cx="909720" cy="30697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52"/>
            <p:cNvSpPr/>
            <p:nvPr/>
          </p:nvSpPr>
          <p:spPr>
            <a:xfrm>
              <a:off x="7943760" y="2880"/>
              <a:ext cx="576360" cy="33508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53"/>
            <p:cNvSpPr/>
            <p:nvPr/>
          </p:nvSpPr>
          <p:spPr>
            <a:xfrm>
              <a:off x="7943760" y="4320"/>
              <a:ext cx="300240" cy="33512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54"/>
            <p:cNvSpPr/>
            <p:nvPr/>
          </p:nvSpPr>
          <p:spPr>
            <a:xfrm>
              <a:off x="7866000" y="4320"/>
              <a:ext cx="88920" cy="68547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56"/>
            <p:cNvSpPr/>
            <p:nvPr/>
          </p:nvSpPr>
          <p:spPr>
            <a:xfrm rot="5400000">
              <a:off x="4325760" y="3317400"/>
              <a:ext cx="685476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1BC1-456E-4C06-AAA6-FFEC1E11DE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7" descr="4c8aa36f7131"/>
          <p:cNvPicPr/>
          <p:nvPr/>
        </p:nvPicPr>
        <p:blipFill>
          <a:blip r:embed="rId2"/>
          <a:stretch/>
        </p:blipFill>
        <p:spPr>
          <a:xfrm>
            <a:off x="2411280" y="1989000"/>
            <a:ext cx="4235760" cy="36007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AEE1-20E8-499F-BBDB-CA08E1F09E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7" descr="4c8aa36f7131"/>
          <p:cNvPicPr/>
          <p:nvPr/>
        </p:nvPicPr>
        <p:blipFill>
          <a:blip r:embed="rId2"/>
          <a:stretch/>
        </p:blipFill>
        <p:spPr>
          <a:xfrm>
            <a:off x="2411280" y="1989000"/>
            <a:ext cx="4235760" cy="36007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BB94-DBB9-40C4-8D72-A2AE4FBE14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94EF-6396-4E09-903F-0E495172D3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1714680"/>
          </a:xfrm>
          <a:prstGeom prst="rect">
            <a:avLst/>
          </a:prstGeom>
          <a:solidFill>
            <a:srgbClr val="99cc00">
              <a:alpha val="6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Моя семья – моя радость</a:t>
            </a:r>
            <a:br>
              <a:rPr sz="5400"/>
            </a:br>
            <a:endParaRPr b="1" lang="en-US" sz="5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2428920" y="5715000"/>
            <a:ext cx="6400800" cy="9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дительская любовь должна помогать, а не мешать жить ребен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Picture 3" descr=""/>
          <p:cNvPicPr/>
          <p:nvPr/>
        </p:nvPicPr>
        <p:blipFill>
          <a:blip r:embed="rId1"/>
          <a:stretch/>
        </p:blipFill>
        <p:spPr>
          <a:xfrm>
            <a:off x="785880" y="2500200"/>
            <a:ext cx="42465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Times New Roman"/>
              </a:rPr>
              <a:t>2.Безразличие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Не показывайте ребенку, что вам все равно, чем он занимает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«Кроха», немедленно начнет проверять, настоящее ли ваше безразличие, изначально совершая плохие поступ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Ребенок ждет, последует ли кри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Поэтому с ним нужно наладить дружеские отношения, даже если его поведение вас не устраива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4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4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4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4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4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4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Times New Roman"/>
              </a:rPr>
              <a:t>3.Навязанная роль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143000" y="1071360"/>
            <a:ext cx="7337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Дети готовы сделать все, чтобы понравиться своим родителя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Они готовы погрузиться в мир сложных взрослых проблем, вместо того чтобы обсуждать свои интересы со сверстник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При этом их собственные проблемы остаются нерешенны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4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4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400" fill="hold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400" fill="hold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"/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400" fill="hold"/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00" fill="hold"/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Times New Roman"/>
              </a:rPr>
              <a:t>4.Нет времени</a:t>
            </a: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Если есть ребенок, надо и время для него най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Иначе он будет искать среди чужих людей родственную душ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4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4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4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4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Times New Roman"/>
              </a:rPr>
              <a:t>5. Слишком мало ласки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Дети любого возраста стремятся к лас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Она помогает ощущать себя нужными и придает уверенность в своих сил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Желание приласкать в большинстве случаев должно исходить от самого ребе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Но не навязывайте активно свою любовь – это может оттолкну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4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4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4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4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4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14c19"/>
                </a:solidFill>
                <a:latin typeface="Times New Roman"/>
              </a:rPr>
              <a:t>Безусловная любовь – это маячок:</a:t>
            </a:r>
            <a:endParaRPr b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d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</a:rPr>
              <a:t>не дающий ребенку сбиться с пути в океане жизненных трудност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0d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</a:rPr>
              <a:t>служащий ориентиром  в поиске решений при возникающих разногласия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3" dur="2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8" dur="20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14c19"/>
                </a:solidFill>
                <a:latin typeface="Times New Roman"/>
              </a:rPr>
              <a:t>Безусловная любовь не зависит:</a:t>
            </a:r>
            <a:endParaRPr b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ни от внешности ребе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ни от его достоинств и недостат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ни от способнос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ни от сегодняшнего пове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714560" y="1600200"/>
            <a:ext cx="42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возможность удовлетворять эмоциональные потребности ребен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Подрастая, дети задают один вопрос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</a:rPr>
              <a:t>«Вы любите меня?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4753080" cy="5715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500200" y="274320"/>
            <a:ext cx="6392880" cy="7254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Times New Roman"/>
              </a:rPr>
              <a:t>Любовь родителей -  это:</a:t>
            </a:r>
            <a:endParaRPr b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3" dur="20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79280" y="54000"/>
            <a:ext cx="6985080" cy="216072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Times New Roman"/>
              </a:rPr>
              <a:t>Если мы любим ребенка за что-то,</a:t>
            </a:r>
            <a:br>
              <a:rPr sz="4400"/>
            </a:br>
            <a:r>
              <a:rPr b="1" lang="ru-RU" sz="4400" spc="-1" strike="noStrike">
                <a:solidFill>
                  <a:srgbClr val="ff33cc"/>
                </a:solidFill>
                <a:latin typeface="Times New Roman"/>
              </a:rPr>
              <a:t> он чувствует это и :</a:t>
            </a:r>
            <a:endParaRPr b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071600" y="1999800"/>
            <a:ext cx="489276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d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</a:rPr>
              <a:t>теряет уверенность в себ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d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</a:rPr>
              <a:t>становится тревожным и напряженны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d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</a:rPr>
              <a:t>начинает лгать и лицемери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d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1"/>
          <a:stretch/>
        </p:blipFill>
        <p:spPr>
          <a:xfrm>
            <a:off x="0" y="3214800"/>
            <a:ext cx="42386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7" dur="5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763640" y="428400"/>
            <a:ext cx="7129440" cy="98892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АНКЕТА ДЛЯ РОДИТЕЛЕЙ</a:t>
            </a:r>
            <a:br>
              <a:rPr sz="4400"/>
            </a:br>
            <a:endParaRPr b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332000" y="1499760"/>
            <a:ext cx="76327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1. Считаете ли Вы, что в вашей семье есть взаимопонимание с детьми?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2. Говорят ли с Вами дети «по душам», советуются ли по «личным делам»?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3. Интересуются ли они вашей работой?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4. Знаете ли Вы друзей ваших детей?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5. Участвуют ли дети вместе с Вами в хозяйственных заботах?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6. Проверяете ли Вы, как они учат уроки?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7. Есть ли у Вас общие с ними занятия и увлечения?</a:t>
            </a:r>
            <a:br>
              <a:rPr sz="3000"/>
            </a:b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1332000" y="285480"/>
            <a:ext cx="7632720" cy="70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8. Участвуют ли дети в подготовке к семей ным праздникам?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9. А «детские праздники» - предпочитают ли ребята, чтобы Вы были с ними, или хотят проводить их «без взрослых»?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10. Обсуждаете ли вы с детьми прочитанные книги?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11. А телевизионные передачи и фильмы?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12. Бываете ли вместе в театрах, музеях, на выставках и концертах?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13. Участвуете ли вместе с детьми в прогулках, туристских походах?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14. Предпочитаете ли проводить отпуск вместе с детьми в прогулках, поездках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071800" y="1213920"/>
            <a:ext cx="6984720" cy="112572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Детей, которых любят </a:t>
            </a:r>
            <a:r>
              <a:rPr b="1" i="1" lang="ru-RU" sz="4400" spc="-1" strike="noStrike">
                <a:solidFill>
                  <a:srgbClr val="663300"/>
                </a:solidFill>
                <a:latin typeface="Times New Roman"/>
              </a:rPr>
              <a:t>искренне и безусловно,</a:t>
            </a:r>
            <a:endParaRPr b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979280" y="2857320"/>
            <a:ext cx="698508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легко увидеть в детском коллектив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678880" cy="16542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 каждое «да» 2 балла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 каждое «отчасти», «иногда» - 1 балл, за «нет» - 0. 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332000" y="2071800"/>
            <a:ext cx="76327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Более 20 баллов.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аши отношения с детьми в основном можно считать благополучными.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т 10 до 20 баллов.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тношения можно оценить как удовлетворительные, но недостаточно многосторонние. Вам следует подумать, как они должны быть улучшены и чем дополнены.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енее 10 баллов.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аши контакты с детьми явно недостаточны. Необходимо принимать срочные меры для их улучшения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3929040" y="214200"/>
            <a:ext cx="3857760" cy="28926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3" descr=""/>
          <p:cNvPicPr/>
          <p:nvPr/>
        </p:nvPicPr>
        <p:blipFill>
          <a:blip r:embed="rId2"/>
          <a:stretch/>
        </p:blipFill>
        <p:spPr>
          <a:xfrm>
            <a:off x="3786120" y="3357720"/>
            <a:ext cx="3875040" cy="30240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263520" y="214200"/>
            <a:ext cx="35942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енок учится тому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видит у себя в дом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дители пример ем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то при жене и детях груб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у язык распутства люб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усть помнит, что с лихвой получи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 то от них, чему их учит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м, где аббат не враг вин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я братия пьяным-пьян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волк воспитывал овец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ходку раку дал оте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ь видят нас и слышат дет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 за слова свои в ответ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за дела: легко толкну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ей на нехороший пут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ржи в приличии свой дом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бы не каяться пот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484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666729"/>
              </a:solidFill>
              <a:latin typeface="Times New Roman"/>
            </a:endParaRPr>
          </a:p>
        </p:txBody>
      </p:sp>
      <p:pic>
        <p:nvPicPr>
          <p:cNvPr id="487" name="Picture 2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4381560" cy="328608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57400" y="3500280"/>
            <a:ext cx="379404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гда родилась наша дружная семья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ядом с папой и мамой не было меня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асто я смотрю на фото их красив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немножко злюсь и чуть-чуть завидую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шиваю папу: «Где я был тогда: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чает папа: «Не было тебя!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 же может быть такое, чтобы без мен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дилась такая дружная семья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 так люблю, когда луна глядит в окошко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сказки тихо бродят по угла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рядом мама держит за ладошк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гладит мои волосы слег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Любовь умиления</a:t>
            </a:r>
            <a:endParaRPr b="0" lang="en-US" sz="4000" spc="-1" strike="noStrike">
              <a:solidFill>
                <a:srgbClr val="666729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инстинктивная, неразумная, иногда наивная любов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 чему она приводит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бенок, воспитанный в атмосфере умиления его личностью, не знает понятий «нельзя», «надо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263520" y="357120"/>
            <a:ext cx="73864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бенок не знает своего долга перед родителями, не умеет трудитьс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н не видит других людей с их желаниями и потребностя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таких детей твердо складывается убеждение, что он приносит счастье, радость родителям и людям уже тем, что он просто живет на све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14c19"/>
                </a:solidFill>
                <a:latin typeface="Times New Roman"/>
              </a:rPr>
              <a:t>Деспотическая любовь</a:t>
            </a:r>
            <a:endParaRPr b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ребенка с малых лет извращается представление о добром начале в человеке, он перестает верить в человека и человечно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атмосфере мелких придирок, постоянных упреков ребенок ожесточаетс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происходит из – за неумения родителями пользоваться своей власт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важайте мнение ребенка, его детские жел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ните он такой же человек как и в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го душа явно протестует, когда кто-то пытается сделать его игрушкой своего произво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Любовь отку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Arial"/>
              </a:rPr>
              <a:t>Родители видят свой долг  только в обеспечении всех материальных потребностей реб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Arial"/>
              </a:rPr>
              <a:t>В семье царит атмосфера духовной пустоты, убож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Arial"/>
              </a:rPr>
              <a:t>Чем больше дефицит ребенка в родительской любви, тем больше его стремление получать её материальные замени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57200" y="28548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Ребенку будут совершенно не знакомы сострадание, милосерд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Став взрослыми и строя свои взаимоотношения с другими людьми, дети будут выбирать ложные ценности (деньги, материальные благ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Пять ошибок в воспитании:</a:t>
            </a:r>
            <a:endParaRPr b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Times New Roman"/>
              </a:rPr>
              <a:t>1.Обещание больше не люби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Это одно из сильнейших средств в воспитан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Но эта угроза родителями как правило не осуществляе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А дети прекрасно чувствуют фаль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Единожды обманув, вы надолго потеряете доверие ребе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4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7T22:51:06Z</dcterms:created>
  <dc:creator>1</dc:creator>
  <dc:description/>
  <dc:language>en-US</dc:language>
  <cp:lastModifiedBy>user</cp:lastModifiedBy>
  <dcterms:modified xsi:type="dcterms:W3CDTF">2011-03-24T14:21:00Z</dcterms:modified>
  <cp:revision>13</cp:revision>
  <dc:subject/>
  <dc:title>Детей, которых любят искренне и безусловно</dc:title>
</cp:coreProperties>
</file>