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AC1-B739-4C82-8A5E-5FF56A8E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31E-BA7A-41D9-80DB-BB26D9DB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E2B-F673-49E8-AC37-FC67B30A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9C6-C98C-41E0-9971-0CF586B6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B516-8E9A-4D27-A7AF-300C3AE3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5382-0C87-41D1-A0FA-6EFA7727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2F1A-AE8A-4942-B901-15D2B388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7C5B-0855-4EB5-9546-91605796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006B-E6C0-44F7-81E7-69FF7C2B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C718-3BDC-4A89-AC9B-0139A70A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B24D-048D-4C12-9EC6-3B2876ED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316-841D-44DE-83F2-F991BAA8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9860-09FF-49AC-8F30-0E945552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090A-77A1-44CE-93C1-22B55A69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7C48-8008-45D1-ACDD-8C6D015C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43BA-4B65-4DD4-9A30-30F4286A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1331-F82D-4B36-BB67-2573CB89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E57-3D1A-40EA-BFB8-C6E9FECC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BB1-5BA2-4941-8A3B-DA7635D0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687-4656-44B4-AB14-67AD6AD0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F0E-AF53-4159-9E46-86962B7D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2AA-EEAD-47EF-AF45-CD2D9264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88D-38E4-4A8A-B587-A9D37542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CA4-6F74-408E-BB9F-E453339D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1051-0F09-4395-B83D-B686649BDE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C909-3A4B-4356-B31B-6441A6907D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5" descr=""/>
          <p:cNvPicPr/>
          <p:nvPr/>
        </p:nvPicPr>
        <p:blipFill>
          <a:blip r:embed="rId1"/>
          <a:stretch/>
        </p:blipFill>
        <p:spPr>
          <a:xfrm>
            <a:off x="-6480" y="706320"/>
            <a:ext cx="9352080" cy="11350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6" descr=""/>
          <p:cNvPicPr/>
          <p:nvPr/>
        </p:nvPicPr>
        <p:blipFill>
          <a:blip r:embed="rId2"/>
          <a:stretch/>
        </p:blipFill>
        <p:spPr>
          <a:xfrm>
            <a:off x="298440" y="2066760"/>
            <a:ext cx="8736120" cy="235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берите слова из лев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асти со словами со втор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Всего 11 с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0" y="0"/>
            <a:ext cx="9144000" cy="676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762120" y="0"/>
            <a:ext cx="3657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 раунд 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00068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440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66"/>
                </a:solidFill>
                <a:latin typeface="Calibri"/>
              </a:rPr>
              <a:t>Поздравляем победителей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3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80520" y="1447560"/>
            <a:ext cx="8610840" cy="4678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990099"/>
                </a:solidFill>
                <a:latin typeface="Calibri"/>
              </a:rPr>
              <a:t>Задание оценивается одним(1) балло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Какой мультипликационный герой говорит: "Ребята, давайте жить дружно”?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У кого есть шапка без головы, нога без сапога?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На сколько частей разделён отрезок, если на нём три точки?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Назовите столицу России?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Calibri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Чем кончается всё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Calibri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Кто спит головой вниз?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Calibri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Пингвин – птица или зверь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Calibri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На каком языке говорят в Лондон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Calibri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9 x 8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Calibri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Двуногое жилище Бабы Яги?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2209680" y="152280"/>
            <a:ext cx="4038840" cy="12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 раунд 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600200" cy="28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328608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2743200" y="0"/>
            <a:ext cx="3657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I раунд 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380880" y="1905120"/>
            <a:ext cx="8534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Verdana"/>
              </a:rPr>
              <a:t>Задание оценивается одним(1) баллом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520" y="2590920"/>
            <a:ext cx="8610840" cy="3465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этом задании учувствуют два человека от команды (капитан команды и его помощни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2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2514600" cy="22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1 коман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0" y="1599840"/>
            <a:ext cx="4495680" cy="35053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БУРА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ЛОСИП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ЧЕ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Ж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2 коман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828440" y="1600200"/>
            <a:ext cx="4800600" cy="3581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БА-Я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РАЧ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3 коман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3360" y="1600200"/>
            <a:ext cx="4724280" cy="3581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Ж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Ф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КА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4 коман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33360" y="1600200"/>
            <a:ext cx="4800600" cy="3581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У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А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ТОГРАФ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2666880" y="0"/>
            <a:ext cx="42674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II раунд 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f75e1"/>
                </a:solidFill>
                <a:latin typeface="Calibri"/>
              </a:rPr>
              <a:t>Пословицы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«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В науку нет коротких пут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90099"/>
                </a:solidFill>
                <a:latin typeface="Calibri"/>
              </a:rPr>
              <a:t>(Задание оценивается двумя(2) баллами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0574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 теперь проверим Ваше чувство юмора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нажды Дж. Свифт спросил своего слугу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Том, что это значит? Мои сапоги не вычищены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т, сэр – ответил Том – Вы же собираетесь идти гулять, так я подумал: они всё равно станут грязным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Хорошо, собирайся, Том, пойдёшь со мной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о, сэр, я ещё не завтракал…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опрос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Что же ответил Дж. Свифт?!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         (</a:t>
            </a:r>
            <a:r>
              <a:rPr b="1" lang="ru-RU" sz="2400" spc="-1" strike="noStrike">
                <a:solidFill>
                  <a:srgbClr val="990099"/>
                </a:solidFill>
                <a:latin typeface="Calibri"/>
              </a:rPr>
              <a:t>Задание оценивается двумя(2) баллами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362320" y="0"/>
            <a:ext cx="3886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V раунд 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на</cp:lastModifiedBy>
  <dcterms:modified xsi:type="dcterms:W3CDTF">2010-12-16T16:14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