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E3C6-DDD0-4727-AF81-D8C2D4A66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E530-9CEA-430F-B91A-FA5EC636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A20C-7CE5-482B-BC43-90BC0EE47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B962-6D68-4235-A54A-EC91D20CA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FAA5-FF11-445A-9769-408D6353D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2F83-BC45-4827-8860-241F4615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CC1D-120D-4EA7-A998-30D404BE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717F-D6A3-4F5B-943C-D6D3DBF8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4442-5D1F-47BD-9808-843265BC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D561-54AE-4E77-9CB2-E5C6AE1B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82DC-8978-42CD-832F-0DDE2AFB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2A3C-AB97-4EB3-86AA-A93EF315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FA77-6018-4AC7-B759-AA623FF3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AD9F-5BAB-4E18-AEF4-704B68D7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568B-8C00-4AF7-B622-8C6D96D0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EC1A-4CA8-46CD-9B97-244A6D901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7446-E505-46F8-97A0-B7AD14AA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750C-6A54-40E2-9560-C7BE7EAC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A5AF-369B-4869-80C9-37EB2AEE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4F4F-5DA9-45F4-AF24-31BBFA26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CD7F-6ECD-4E18-8ACD-703FAF17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33C0-EBDB-4B7B-8637-2F6C5238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F7FD-A86C-4837-880E-AF0C545D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3AAD-0F6C-487A-9BFE-0EAAC437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A6F5-D1CD-4AAC-93DD-13566541C7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3E25-B30A-418E-AC89-B5DB78FFA845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Прямоугольник 10" descr=""/>
          <p:cNvPicPr/>
          <p:nvPr/>
        </p:nvPicPr>
        <p:blipFill>
          <a:blip r:embed="rId2"/>
          <a:stretch/>
        </p:blipFill>
        <p:spPr>
          <a:xfrm>
            <a:off x="23760" y="12600"/>
            <a:ext cx="827244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5"/>
          <p:cNvSpPr txBox="1"/>
          <p:nvPr/>
        </p:nvSpPr>
        <p:spPr>
          <a:xfrm>
            <a:off x="539640" y="1484280"/>
            <a:ext cx="7993080" cy="27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 знаете ли вы...?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99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5"/>
          <p:cNvGrpSpPr/>
          <p:nvPr/>
        </p:nvGrpSpPr>
        <p:grpSpPr>
          <a:xfrm>
            <a:off x="237960" y="182520"/>
            <a:ext cx="8668080" cy="1311480"/>
            <a:chOff x="237960" y="182520"/>
            <a:chExt cx="8668080" cy="1311480"/>
          </a:xfrm>
        </p:grpSpPr>
        <p:pic>
          <p:nvPicPr>
            <p:cNvPr id="88" name="Rectangle 5" descr=""/>
            <p:cNvPicPr/>
            <p:nvPr/>
          </p:nvPicPr>
          <p:blipFill>
            <a:blip r:embed="rId1"/>
            <a:stretch/>
          </p:blipFill>
          <p:spPr>
            <a:xfrm>
              <a:off x="237960" y="182520"/>
              <a:ext cx="8668080" cy="13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357120" y="305280"/>
              <a:ext cx="8429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990000"/>
                  </a:solidFill>
                  <a:latin typeface="Arial"/>
                </a:rPr>
                <a:t>Первый телефон был изобретен</a:t>
              </a:r>
              <a:endParaRPr b="0" lang="en-US" sz="3200" spc="-1" strike="noStrike">
                <a:solidFill>
                  <a:srgbClr val="cce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990000"/>
                  </a:solidFill>
                  <a:latin typeface="Arial"/>
                </a:rPr>
                <a:t>А. Г. Беллом в 1876 г. </a:t>
              </a:r>
              <a:endParaRPr b="0" lang="en-US" sz="32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90" name="Rectangle 6"/>
          <p:cNvGrpSpPr/>
          <p:nvPr/>
        </p:nvGrpSpPr>
        <p:grpSpPr>
          <a:xfrm>
            <a:off x="237960" y="1504800"/>
            <a:ext cx="8668080" cy="1189080"/>
            <a:chOff x="237960" y="1504800"/>
            <a:chExt cx="8668080" cy="1189080"/>
          </a:xfrm>
        </p:grpSpPr>
        <p:pic>
          <p:nvPicPr>
            <p:cNvPr id="91" name="Rectangle 6" descr=""/>
            <p:cNvPicPr/>
            <p:nvPr/>
          </p:nvPicPr>
          <p:blipFill>
            <a:blip r:embed="rId2"/>
            <a:stretch/>
          </p:blipFill>
          <p:spPr>
            <a:xfrm>
              <a:off x="237960" y="1504800"/>
              <a:ext cx="866808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57120" y="1628640"/>
              <a:ext cx="8429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8000"/>
                  </a:solidFill>
                  <a:latin typeface="Arial"/>
                </a:rPr>
                <a:t>В 1882 г. П. М. Голубицкий сконструировал </a:t>
              </a:r>
              <a:endParaRPr b="0" lang="en-US" sz="2800" spc="-1" strike="noStrike">
                <a:solidFill>
                  <a:srgbClr val="cce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8000"/>
                  </a:solidFill>
                  <a:latin typeface="Arial"/>
                </a:rPr>
                <a:t>настольный телефон.</a:t>
              </a:r>
              <a:endParaRPr b="0" lang="en-US" sz="2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93" name="Rectangle 7"/>
          <p:cNvGrpSpPr/>
          <p:nvPr/>
        </p:nvGrpSpPr>
        <p:grpSpPr>
          <a:xfrm>
            <a:off x="237960" y="2730600"/>
            <a:ext cx="8668080" cy="2554200"/>
            <a:chOff x="237960" y="2730600"/>
            <a:chExt cx="8668080" cy="2554200"/>
          </a:xfrm>
        </p:grpSpPr>
        <p:pic>
          <p:nvPicPr>
            <p:cNvPr id="94" name="Rectangle 7" descr=""/>
            <p:cNvPicPr/>
            <p:nvPr/>
          </p:nvPicPr>
          <p:blipFill>
            <a:blip r:embed="rId3"/>
            <a:stretch/>
          </p:blipFill>
          <p:spPr>
            <a:xfrm>
              <a:off x="237960" y="2730600"/>
              <a:ext cx="8668080" cy="25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357120" y="2852640"/>
              <a:ext cx="84297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66"/>
                  </a:solidFill>
                  <a:latin typeface="Arial"/>
                </a:rPr>
                <a:t>В 1913 году телефонная связь была установлена между Москвой и Харьковом, 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66"/>
                  </a:solidFill>
                  <a:latin typeface="Arial"/>
                </a:rPr>
                <a:t>Рязанью, Нижним Новгородом, Костромой. 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66"/>
                  </a:solidFill>
                  <a:latin typeface="Arial"/>
                </a:rPr>
                <a:t>Телефонные линии были протянуты между Петербургом и  Таллин, 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66"/>
                  </a:solidFill>
                  <a:latin typeface="Arial"/>
                </a:rPr>
                <a:t>Баку и  Тбилиси, Петербургом и  Хельсинки. 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96" name="Rectangle 8"/>
          <p:cNvGrpSpPr/>
          <p:nvPr/>
        </p:nvGrpSpPr>
        <p:grpSpPr>
          <a:xfrm>
            <a:off x="237960" y="5376960"/>
            <a:ext cx="8668080" cy="1079280"/>
            <a:chOff x="237960" y="5376960"/>
            <a:chExt cx="8668080" cy="1079280"/>
          </a:xfrm>
        </p:grpSpPr>
        <p:pic>
          <p:nvPicPr>
            <p:cNvPr id="97" name="Rectangle 8" descr=""/>
            <p:cNvPicPr/>
            <p:nvPr/>
          </p:nvPicPr>
          <p:blipFill>
            <a:blip r:embed="rId4"/>
            <a:stretch/>
          </p:blipFill>
          <p:spPr>
            <a:xfrm>
              <a:off x="237960" y="5376960"/>
              <a:ext cx="866808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357120" y="5502960"/>
              <a:ext cx="842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66"/>
                  </a:solidFill>
                  <a:latin typeface="Arial"/>
                </a:rPr>
                <a:t>Эстен Мякитоло, считают отцом современной 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66"/>
                  </a:solidFill>
                  <a:latin typeface="Arial"/>
                </a:rPr>
                <a:t>мобильной телефонии.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7" descr="scan101048uw3bm.jpg"/>
          <p:cNvPicPr/>
          <p:nvPr/>
        </p:nvPicPr>
        <p:blipFill>
          <a:blip r:embed="rId1"/>
          <a:stretch/>
        </p:blipFill>
        <p:spPr>
          <a:xfrm>
            <a:off x="214200" y="214200"/>
            <a:ext cx="5286600" cy="3429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8" descr="samsung_sgh-d780_duos.jpg"/>
          <p:cNvPicPr/>
          <p:nvPr/>
        </p:nvPicPr>
        <p:blipFill>
          <a:blip r:embed="rId2"/>
          <a:stretch/>
        </p:blipFill>
        <p:spPr>
          <a:xfrm>
            <a:off x="6215040" y="0"/>
            <a:ext cx="2428920" cy="20718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9" descr="1.jpg"/>
          <p:cNvPicPr/>
          <p:nvPr/>
        </p:nvPicPr>
        <p:blipFill>
          <a:blip r:embed="rId3"/>
          <a:stretch/>
        </p:blipFill>
        <p:spPr>
          <a:xfrm>
            <a:off x="6786720" y="2143080"/>
            <a:ext cx="1928520" cy="22147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20" descr="055193.jpg"/>
          <p:cNvPicPr/>
          <p:nvPr/>
        </p:nvPicPr>
        <p:blipFill>
          <a:blip r:embed="rId4"/>
          <a:stretch/>
        </p:blipFill>
        <p:spPr>
          <a:xfrm>
            <a:off x="428760" y="4143240"/>
            <a:ext cx="2928960" cy="238464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21" descr="image00018.png"/>
          <p:cNvPicPr/>
          <p:nvPr/>
        </p:nvPicPr>
        <p:blipFill>
          <a:blip r:embed="rId5"/>
          <a:stretch/>
        </p:blipFill>
        <p:spPr>
          <a:xfrm>
            <a:off x="6858000" y="4429080"/>
            <a:ext cx="2071800" cy="22147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22" descr="bf0d5c0f5f3a.jpg"/>
          <p:cNvPicPr/>
          <p:nvPr/>
        </p:nvPicPr>
        <p:blipFill>
          <a:blip r:embed="rId6"/>
          <a:stretch/>
        </p:blipFill>
        <p:spPr>
          <a:xfrm>
            <a:off x="3500280" y="4071960"/>
            <a:ext cx="27864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12"/>
          <p:cNvSpPr txBox="1"/>
          <p:nvPr/>
        </p:nvSpPr>
        <p:spPr>
          <a:xfrm>
            <a:off x="214200" y="0"/>
            <a:ext cx="8605800" cy="19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Почему обиделась мама?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cc0099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357120" y="1714680"/>
            <a:ext cx="8572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ша:</a:t>
            </a:r>
            <a:r>
              <a:rPr b="0" lang="ru-RU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ло, Катя, это ты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Мама: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т, это не Катя. А кто ее спрашивает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ша: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, так, знакомая. А где Катя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Мама: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е нет дома. Что ей передать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ша: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т блин, обещала меня подождать, а сама куда – то слиняла!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Мама: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тите, я  с вами в таком духе не могу дальше разговаривать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14200" y="1428840"/>
            <a:ext cx="4214880" cy="5214960"/>
          </a:xfrm>
          <a:prstGeom prst="rect">
            <a:avLst/>
          </a:prstGeom>
          <a:solidFill>
            <a:srgbClr val="3d3dd7"/>
          </a:solidFill>
          <a:ln w="9360">
            <a:solidFill>
              <a:srgbClr val="cc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Маша:</a:t>
            </a: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лло, Катя, это ты?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Tahoma"/>
              </a:rPr>
              <a:t>Мама: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т, это не Катя. А кто ее спрашивает?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Маша:</a:t>
            </a: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а, так, знакомая. А где Катя?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Tahoma"/>
              </a:rPr>
              <a:t>Мама:</a:t>
            </a:r>
            <a:r>
              <a:rPr b="1" lang="ru-RU" sz="24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Ее нет дома. Что ей передать?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Маша:</a:t>
            </a: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т блин, обещала меня подождать, а сама куда – то слиняла!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Tahoma"/>
              </a:rPr>
              <a:t>Мама: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остите, я  с вами в таком духе не могу дальше разговаривать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428720" y="1428840"/>
            <a:ext cx="4429080" cy="5214960"/>
          </a:xfrm>
          <a:prstGeom prst="rect">
            <a:avLst/>
          </a:prstGeom>
          <a:solidFill>
            <a:srgbClr val="6700e5"/>
          </a:solidFill>
          <a:ln w="9360">
            <a:solidFill>
              <a:srgbClr val="cc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Мама: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Алло, слушаю вас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Tahoma"/>
                <a:ea typeface="Times New Roman"/>
              </a:rPr>
              <a:t>Маша:</a:t>
            </a:r>
            <a:r>
              <a:rPr b="1" lang="ru-RU" sz="2000" spc="-1" strike="noStrike">
                <a:solidFill>
                  <a:srgbClr val="ff6600"/>
                </a:solidFill>
                <a:latin typeface="Tahoma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Здравствуйте, вам звонить Катина одноклассница Маша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Мама: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Здравствуйте. Слушаю вас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Tahoma"/>
                <a:ea typeface="Times New Roman"/>
              </a:rPr>
              <a:t>Маша:</a:t>
            </a:r>
            <a:r>
              <a:rPr b="1" lang="ru-RU" sz="2000" spc="-1" strike="noStrike">
                <a:solidFill>
                  <a:srgbClr val="ff6600"/>
                </a:solidFill>
                <a:latin typeface="Tahoma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А Катя дома?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Мама: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Кати нет дома. Что ей предать?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Tahoma"/>
                <a:ea typeface="Times New Roman"/>
              </a:rPr>
              <a:t>Маша: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Срочного ничего нет, просто мы с ней должны договориться о встрече. Я могу вам перезвонить?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Мама: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Да. Позвоните часа через два. Я передам, что вы ей звонили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Tahoma"/>
                <a:ea typeface="Times New Roman"/>
              </a:rPr>
              <a:t>Маша: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Спасибо. До свидания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Мама: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До свидания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9" name="WordArt 11"/>
          <p:cNvSpPr txBox="1"/>
          <p:nvPr/>
        </p:nvSpPr>
        <p:spPr>
          <a:xfrm>
            <a:off x="428760" y="0"/>
            <a:ext cx="8715240" cy="1357200"/>
          </a:xfrm>
          <a:prstGeom prst="rect">
            <a:avLst/>
          </a:prstGeom>
        </p:spPr>
        <p:txBody>
          <a:bodyPr wrap="none" lIns="90000" rIns="90000" tIns="46800" bIns="46800" anchor="t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Исправим ошибки разговора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cc0099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4" descr="c1123f88b531a856cf2bf4ba73661c28_fu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42920" y="999720"/>
            <a:ext cx="8858160" cy="5715000"/>
          </a:xfrm>
          <a:prstGeom prst="rect">
            <a:avLst/>
          </a:prstGeom>
          <a:solidFill>
            <a:srgbClr val="000066"/>
          </a:solidFill>
          <a:ln w="9360">
            <a:solidFill>
              <a:srgbClr val="cc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забывайте здороваться по телефону и лишь затем обращайтесь с просьбой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сь говорить по телефону кратко, сдержанно и вполголоса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когда в начале разговора не спрашивайте: «Кто говорит?»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шибся номером, обязательно попроси извинения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звоните без дела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чиная разговор, назовите себя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звоните по телефону утром до 9 часов или вечером после 22 часов (кроме случаев срочного сообщения)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и чудодейственных слова, которых часто не хватает в нашей речи – «извините», «пожалуйста», «спасибо», - особенно полезны при телефонных разговорах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этично занимать телефон длинными личными разговорами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этично обращаться с деликатными просьбами по телефону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ого запрещено пользоваться телефонами в церкви, в театре, в музее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этично просматривать чужую записную книжку с номерами телефонов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этично передавать номер телефона без согласия его владельца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этично жевать во время телефонного разговора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12" name="Прямоугольник 9" descr=""/>
          <p:cNvPicPr/>
          <p:nvPr/>
        </p:nvPicPr>
        <p:blipFill>
          <a:blip r:embed="rId1"/>
          <a:stretch/>
        </p:blipFill>
        <p:spPr>
          <a:xfrm>
            <a:off x="701640" y="-195120"/>
            <a:ext cx="758844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09:50:16Z</dcterms:created>
  <dc:creator>admin</dc:creator>
  <dc:description/>
  <dc:language>en-US</dc:language>
  <cp:lastModifiedBy>User_B</cp:lastModifiedBy>
  <dcterms:modified xsi:type="dcterms:W3CDTF">2011-04-05T02:18:49Z</dcterms:modified>
  <cp:revision>19</cp:revision>
  <dc:subject/>
  <dc:title>Слайд 1</dc:title>
</cp:coreProperties>
</file>