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D4B-CD35-4303-89C5-C8BF98B4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771-E02A-4741-BED9-204F2BC8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95B-50F1-47B1-8550-C9741723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DE0-8C48-426A-A2F8-7ED2EB45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421C-CCE4-4993-B8F4-24A9D1C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6E2-F02A-4AE6-905F-F9E8094A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8C0F-8BB5-47B4-82EC-B1280DD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2BC2-A8B9-42BA-8400-B282B71A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85F3-9707-4A86-8680-5D1CCF8E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BFF-F68D-4ECC-B416-1E3636D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4D2D-34DE-4788-A4EE-8634D54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67A-B65D-45CF-971C-A9A0CDF7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46E2-53AD-4173-807B-ABF7685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1B9-7B53-47D5-92C3-270FA7D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901-D836-402E-949E-3F126FB4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976E-FDC3-4627-8E35-03996D99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537B-58BD-4F66-AA14-124537CA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5A1-2B2C-490A-9F44-D255B501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75B-4F7E-45F7-8DAF-4F3311B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8AA-1FA8-427D-9522-88B4FDA7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1C2-C11B-4D60-A939-D48800B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EA8-1F6A-47B7-A41A-1726DE6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5BD-94E4-445D-B122-B7F9880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91F-BB11-4752-B303-8B8D36A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61B-1168-469D-BC5C-82C6F9B12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29F2-3871-44AA-81A6-3BBE7BABDACF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0" descr=""/>
          <p:cNvPicPr/>
          <p:nvPr/>
        </p:nvPicPr>
        <p:blipFill>
          <a:blip r:embed="rId2"/>
          <a:stretch/>
        </p:blipFill>
        <p:spPr>
          <a:xfrm>
            <a:off x="23760" y="12600"/>
            <a:ext cx="8272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539640" y="1484280"/>
            <a:ext cx="7993080" cy="27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знаете ли вы...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5"/>
          <p:cNvGrpSpPr/>
          <p:nvPr/>
        </p:nvGrpSpPr>
        <p:grpSpPr>
          <a:xfrm>
            <a:off x="237960" y="182520"/>
            <a:ext cx="8668080" cy="1311480"/>
            <a:chOff x="237960" y="182520"/>
            <a:chExt cx="8668080" cy="1311480"/>
          </a:xfrm>
        </p:grpSpPr>
        <p:pic>
          <p:nvPicPr>
            <p:cNvPr id="88" name="Rectangle 5" descr=""/>
            <p:cNvPicPr/>
            <p:nvPr/>
          </p:nvPicPr>
          <p:blipFill>
            <a:blip r:embed="rId1"/>
            <a:stretch/>
          </p:blipFill>
          <p:spPr>
            <a:xfrm>
              <a:off x="237960" y="182520"/>
              <a:ext cx="866808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57120" y="305280"/>
              <a:ext cx="842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Arial"/>
                </a:rPr>
                <a:t>Первый телефон был изобретен</a:t>
              </a:r>
              <a:endParaRPr b="0" lang="en-US" sz="32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Arial"/>
                </a:rPr>
                <a:t>А. Г. Беллом в 1876 г. </a:t>
              </a:r>
              <a:endParaRPr b="0" lang="en-US" sz="32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90" name="Rectangle 6"/>
          <p:cNvGrpSpPr/>
          <p:nvPr/>
        </p:nvGrpSpPr>
        <p:grpSpPr>
          <a:xfrm>
            <a:off x="237960" y="1504800"/>
            <a:ext cx="8668080" cy="1189080"/>
            <a:chOff x="237960" y="1504800"/>
            <a:chExt cx="8668080" cy="1189080"/>
          </a:xfrm>
        </p:grpSpPr>
        <p:pic>
          <p:nvPicPr>
            <p:cNvPr id="91" name="Rectangle 6" descr=""/>
            <p:cNvPicPr/>
            <p:nvPr/>
          </p:nvPicPr>
          <p:blipFill>
            <a:blip r:embed="rId2"/>
            <a:stretch/>
          </p:blipFill>
          <p:spPr>
            <a:xfrm>
              <a:off x="237960" y="1504800"/>
              <a:ext cx="8668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7120" y="1628640"/>
              <a:ext cx="842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Arial"/>
                </a:rPr>
                <a:t>В 1882 г. П. М. Голубицкий сконструировал 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Arial"/>
                </a:rPr>
                <a:t>настольный телефон.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93" name="Rectangle 7"/>
          <p:cNvGrpSpPr/>
          <p:nvPr/>
        </p:nvGrpSpPr>
        <p:grpSpPr>
          <a:xfrm>
            <a:off x="237960" y="2730600"/>
            <a:ext cx="8668080" cy="2554200"/>
            <a:chOff x="237960" y="2730600"/>
            <a:chExt cx="8668080" cy="2554200"/>
          </a:xfrm>
        </p:grpSpPr>
        <p:pic>
          <p:nvPicPr>
            <p:cNvPr id="94" name="Rectangle 7" descr=""/>
            <p:cNvPicPr/>
            <p:nvPr/>
          </p:nvPicPr>
          <p:blipFill>
            <a:blip r:embed="rId3"/>
            <a:stretch/>
          </p:blipFill>
          <p:spPr>
            <a:xfrm>
              <a:off x="237960" y="2730600"/>
              <a:ext cx="86680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57120" y="2852640"/>
              <a:ext cx="842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В 1913 году телефонная связь была установлена между Москвой и Харьковом,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Рязанью, Нижним Новгородом, Костромой.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Телефонные линии были протянуты между Петербургом и  Таллин,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Баку и  Тбилиси, Петербургом и  Хельсинки.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96" name="Rectangle 8"/>
          <p:cNvGrpSpPr/>
          <p:nvPr/>
        </p:nvGrpSpPr>
        <p:grpSpPr>
          <a:xfrm>
            <a:off x="237960" y="5376960"/>
            <a:ext cx="8668080" cy="1079280"/>
            <a:chOff x="237960" y="5376960"/>
            <a:chExt cx="8668080" cy="1079280"/>
          </a:xfrm>
        </p:grpSpPr>
        <p:pic>
          <p:nvPicPr>
            <p:cNvPr id="97" name="Rectangle 8" descr=""/>
            <p:cNvPicPr/>
            <p:nvPr/>
          </p:nvPicPr>
          <p:blipFill>
            <a:blip r:embed="rId4"/>
            <a:stretch/>
          </p:blipFill>
          <p:spPr>
            <a:xfrm>
              <a:off x="237960" y="5376960"/>
              <a:ext cx="86680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57120" y="5502960"/>
              <a:ext cx="842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Эстен Мякитоло, считают отцом современной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мобильной телефонии.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7" descr="scan101048uw3bm.jpg"/>
          <p:cNvPicPr/>
          <p:nvPr/>
        </p:nvPicPr>
        <p:blipFill>
          <a:blip r:embed="rId1"/>
          <a:stretch/>
        </p:blipFill>
        <p:spPr>
          <a:xfrm>
            <a:off x="214200" y="214200"/>
            <a:ext cx="528660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samsung_sgh-d780_duos.jpg"/>
          <p:cNvPicPr/>
          <p:nvPr/>
        </p:nvPicPr>
        <p:blipFill>
          <a:blip r:embed="rId2"/>
          <a:stretch/>
        </p:blipFill>
        <p:spPr>
          <a:xfrm>
            <a:off x="6215040" y="0"/>
            <a:ext cx="2428920" cy="2071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1.jpg"/>
          <p:cNvPicPr/>
          <p:nvPr/>
        </p:nvPicPr>
        <p:blipFill>
          <a:blip r:embed="rId3"/>
          <a:stretch/>
        </p:blipFill>
        <p:spPr>
          <a:xfrm>
            <a:off x="6786720" y="2143080"/>
            <a:ext cx="1928520" cy="2214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055193.jpg"/>
          <p:cNvPicPr/>
          <p:nvPr/>
        </p:nvPicPr>
        <p:blipFill>
          <a:blip r:embed="rId4"/>
          <a:stretch/>
        </p:blipFill>
        <p:spPr>
          <a:xfrm>
            <a:off x="428760" y="4143240"/>
            <a:ext cx="2928960" cy="2384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1" descr="image00018.png"/>
          <p:cNvPicPr/>
          <p:nvPr/>
        </p:nvPicPr>
        <p:blipFill>
          <a:blip r:embed="rId5"/>
          <a:stretch/>
        </p:blipFill>
        <p:spPr>
          <a:xfrm>
            <a:off x="6858000" y="442908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2" descr="bf0d5c0f5f3a.jpg"/>
          <p:cNvPicPr/>
          <p:nvPr/>
        </p:nvPicPr>
        <p:blipFill>
          <a:blip r:embed="rId6"/>
          <a:stretch/>
        </p:blipFill>
        <p:spPr>
          <a:xfrm>
            <a:off x="3500280" y="4071960"/>
            <a:ext cx="2786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12"/>
          <p:cNvSpPr txBox="1"/>
          <p:nvPr/>
        </p:nvSpPr>
        <p:spPr>
          <a:xfrm>
            <a:off x="214200" y="0"/>
            <a:ext cx="860580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очему обиделась мама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7120" y="171468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: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ло, Катя, это ты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м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не Катя. А кто ее спрашивает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так, знакомая. А где Кат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м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нет дома. Что ей передать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: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блин, обещала меня подождать, а сама куда – то слиняла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м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ите, я  с вами в таком духе не могу дальше разговаривать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428840"/>
            <a:ext cx="4214880" cy="5214960"/>
          </a:xfrm>
          <a:prstGeom prst="rect">
            <a:avLst/>
          </a:prstGeom>
          <a:solidFill>
            <a:srgbClr val="3d3dd7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ша: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ло, Катя, это ты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Мама: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т, это не Катя. А кто ее спрашивает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ша: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, так, знакомая. А где Катя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Мама: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е нет дома. Что ей передать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ша: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т блин, обещала меня подождать, а сама куда – то слиняла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Мама: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тите, я  с вами в таком духе не могу дальше разговаривать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28720" y="1428840"/>
            <a:ext cx="4429080" cy="5214960"/>
          </a:xfrm>
          <a:prstGeom prst="rect">
            <a:avLst/>
          </a:prstGeom>
          <a:solidFill>
            <a:srgbClr val="6700e5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Алло, слушаю вас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дравствуйте, вам звонить Катина одноклассница Маша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дравствуйте. Слушаю вас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А Катя дома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Кати нет дома. Что ей предать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рочного ничего нет, просто мы с ней должны договориться о встрече. Я могу вам перезвонить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Да. Позвоните часа через два. Я передам, что вы ей звонили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пасибо. До свидания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До свидания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428760" y="0"/>
            <a:ext cx="8715240" cy="13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справим ошибки разговора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c1123f88b531a856cf2bf4ba73661c28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2920" y="999720"/>
            <a:ext cx="8858160" cy="5715000"/>
          </a:xfrm>
          <a:prstGeom prst="rect">
            <a:avLst/>
          </a:prstGeom>
          <a:solidFill>
            <a:srgbClr val="000066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абывайте здороваться по телефону и лишь затем обращайтесь с просьбой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сь говорить по телефону кратко, сдержанно и вполголос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в начале разговора не спрашивайте: «Кто говорит?»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ся номером, обязательно попроси извинения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воните без дел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иная разговор, назовите себя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воните по телефону утром до 9 часов или вечером после 22 часов (кроме случаев срочного сообщения)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чудодейственных слова, которых часто не хватает в нашей речи – «извините», «пожалуйста», «спасибо», - особенно полезны при телефонных разговорах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занимать телефон длинными личными разговорами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обращаться с деликатными просьбами по телефону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го запрещено пользоваться телефонами в церкви, в театре, в музее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просматривать чужую записную книжку с номерами телефонов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передавать номер телефона без согласия его владельц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жевать во время телефонного разговор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2" name="Прямоугольник 9" descr=""/>
          <p:cNvPicPr/>
          <p:nvPr/>
        </p:nvPicPr>
        <p:blipFill>
          <a:blip r:embed="rId1"/>
          <a:stretch/>
        </p:blipFill>
        <p:spPr>
          <a:xfrm>
            <a:off x="701640" y="-195120"/>
            <a:ext cx="75884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50:16Z</dcterms:created>
  <dc:creator>admin</dc:creator>
  <dc:description/>
  <dc:language>en-US</dc:language>
  <cp:lastModifiedBy>User_B</cp:lastModifiedBy>
  <dcterms:modified xsi:type="dcterms:W3CDTF">2011-04-05T02:18:49Z</dcterms:modified>
  <cp:revision>19</cp:revision>
  <dc:subject/>
  <dc:title>Слайд 1</dc:title>
</cp:coreProperties>
</file>