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AF69-E275-493A-A5F4-5F6FC26075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92FE-8276-4119-B09F-AA6794668B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6EA0-D8CF-4D4B-B35C-CCEE8D8DAA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EBE1-81E2-4497-9FC4-BF14C988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D58-9C23-495A-B215-DB615EBC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20C-617D-4078-A680-EFFE871D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85E-FC3E-482A-9685-85A034D5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1073-D937-4E2E-B94A-710D1364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3512-52D7-4F2F-8C35-63E30C38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AC60-0CAA-416C-90A0-2C6EE655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A16F-3B89-4513-9B4B-D66F2E79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431F-583C-424A-8C54-32D00E38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42C6-D9EC-41C4-8A1D-0DA362BC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76CB-FD76-4678-8354-C1642361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1E8-5764-46A5-A46B-9D7F7727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C9E5-71E7-457F-A6C4-911BB5D4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6E5A-B893-4C00-969B-A874363B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A648-6455-418F-B84F-225E5607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047E-58D6-41FB-90AD-2A91C158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71F9-D62E-4F37-9A06-DC6764E4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CBC90-8E6D-4350-8787-FD1E5172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0E2B5-498D-4DBA-95D2-334775D9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1B96-5D1C-43E9-B45A-A0C8E71E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DB79E-8C61-4488-A308-B6514DC6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E9E87-9AC9-405B-838E-499F21B5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069B-522A-4340-848D-00680160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8BDFF-EDFE-4FC6-95E4-1340EFB1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EA773-F605-4CB7-8A95-2464BEA7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AB31A-9131-4BDF-8210-2A09F042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F2F93-8C52-42C1-9745-9C385D39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33254-3240-4B91-B8AD-6DD156BD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E55B8-748A-4F4B-AAEC-4506EF97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18601-E113-47E1-8088-62CD7A1F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23C51-5362-48D1-8994-7453970B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DF23B-0C9E-4DA3-B48D-286C05FB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D729C-2CD4-4FD7-93E2-00009918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37D-4BFB-4695-8117-090BEEB4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FC390-7BD7-48C7-9C0A-426CD2EF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7E35A-BF17-49AC-A337-28A49F2A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76443-19AC-4F16-B6C7-41574F02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D8AD1-84EB-426F-833D-D885F638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88091-340C-4BF3-97D4-4907F91F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0A636-8F6B-4771-996A-8259D9EB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E4618-21A9-4079-AA2B-6951D70B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8D1C6-39E4-4A63-8F11-599BC155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BD7BF-EC0F-4D55-985C-44127A4A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7C31A-E9BA-467C-A926-65988E00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72B-D7FB-4680-BB06-D26ADA4B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3E7C5-75E0-40CD-AB5D-A7508AF9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47665-8039-44E3-BC76-C47396D0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6EA91-B8BF-4967-8481-A9D68498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3511D-4D69-4A93-BB20-A1A7A6F7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9F15E-7CC0-4AB6-9972-4499073A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F1D89-122E-40B4-9416-F8B8A20E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2B835-9165-423C-A178-1B57FBD4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738B0-E146-4EB0-AF56-70C20B76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28719-E1A8-47BA-9A54-8C71689E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0A7D6-EDC6-4C62-927D-5A877432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D14-FA9E-42A3-A37E-DAC3961A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8F4CF-30C9-457B-B240-BBB1B139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EBE-0AA6-4B2F-9117-0A7CC479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B07-3876-4160-BEC7-FD9F02E6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D558-2A1C-451C-A578-C5DFC28D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Бродягина Ольга Семёновна, учитель МОУ Улётовская СО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23D4-3FD9-4F67-9478-0A637336966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Бродягина Ольга Семёновна, учитель МОУ Улётовская СО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0731-E5CC-42C7-AADD-05EFA1EADD9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Бродягина Ольга Семёновна, учитель МОУ Улётовская СО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4A16-DE97-40BE-9F98-457BF95B36D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Бродягина Ольга Семёновна, учитель МОУ Улётовская СО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4D56-D223-40DB-A5B5-CE7114E5FE0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Бродягина Ольга Семёновна, учитель МОУ Улётовская СОШ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5691-C6D3-4E1F-B8B6-93A61A374F5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6958080" cy="1736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Урок русского языка в 9 классе в формате подготовки к ГИА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Сжатое изложение по тексту  К. Г. Паустовског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Дата 5"/>
          <p:cNvSpPr/>
          <p:nvPr/>
        </p:nvSpPr>
        <p:spPr>
          <a:xfrm>
            <a:off x="2286000" y="6072120"/>
            <a:ext cx="44388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Бродягина Ольга Семёновна, учитель МОУ Улётовская СО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6. Слёзы восхищени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читайте 6 абзац. Подчеркните ключевые понятия этого предложения, установите между ними смысловые связ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Женщины, женщина, никто; слушали, заплакала, не обернулся; слёзы восхищен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28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Женщины слушали певцов. Самая молодая заплакала, но никто не обернулся, потому что это были слёзы восхищ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Дата 5"/>
          <p:cNvSpPr/>
          <p:nvPr/>
        </p:nvSpPr>
        <p:spPr>
          <a:xfrm>
            <a:off x="2143080" y="6111720"/>
            <a:ext cx="514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Бродягина Ольга Семёновна, учитель МОУ Улётовская СО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5600" y="4983120"/>
            <a:ext cx="69008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</a:t>
            </a:r>
            <a:r>
              <a:rPr b="1" i="1" lang="ru-RU" sz="36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Слёзы восхищени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3280" y="529920"/>
            <a:ext cx="8183520" cy="4755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мы возвращались с рыбалки  в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варном вагон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ого поезда. В вагоне было много народу: женщины с кошёлками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год и грибов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бритые и оборванные охотники. Сначала женщины разговаривали о своих делах, но вскоре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дохнув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молча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 окна поезда люди (Они)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ались тихим закатом, слушали птичье щебетанье, которое даже шум поезда не мог заглуш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молодая женщина, воодушевившись, запела простую рязанскую песню, и кое–кто из женщин стал  ей подпев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женщины замолкли, один из охотников предложил своему спутнику тоже спе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были очарованы необыкновенным голосом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ного из охотников, который лился широко и свободно. (Все были очарованы необыкновенным голосом охотников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лушали певцов. Самая молодая  заплакала, но никто не обернулся,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тому что это были слёзы восхищ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ая молодая  заплакала, но никто не обернулс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были слёзы восхищени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Дата 5"/>
          <p:cNvSpPr/>
          <p:nvPr/>
        </p:nvSpPr>
        <p:spPr>
          <a:xfrm>
            <a:off x="2071800" y="6111720"/>
            <a:ext cx="457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Бродягина Ольга Семёновна, учитель МОУ Улётовская СО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42680" y="5072040"/>
            <a:ext cx="6643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</a:t>
            </a:r>
            <a:r>
              <a:rPr b="1" i="1" lang="ru-RU" sz="36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Слёзы восхищени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мы возвращались с рыбалки  в маленьком поезде. В вагоне было много народу: женщины с кошёлками, небритые и оборванные охотники. Сначала женщины разговаривали о своих делах, но вскоре замолча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любовались тихим закатом, слушали птичье щебетанье, которое даже шум поезда не мог заглуш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я молодая женщина, воодушевившись, запела простую рязанскую песню, и кое–кто из женщин стал  ей подпев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женщины замолкли, один из охотников предложил своему спутнику тоже спе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были очарованы необыкновенным голосом охот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лушали певцов. Самая молодая  заплакала, но никто не обернулс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были слёзы восхищения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Дата 5"/>
          <p:cNvSpPr/>
          <p:nvPr/>
        </p:nvSpPr>
        <p:spPr>
          <a:xfrm>
            <a:off x="2786040" y="6111720"/>
            <a:ext cx="4214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Бродягина Ольга Семёновна, учитель МОУ Улётовская СО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</a:t>
            </a:r>
            <a:r>
              <a:rPr b="0" i="1" lang="ru-RU" sz="36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Приёмы работы с  текстом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 прослушайте текст и определите его главную мыс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е ключевые слова и определите, какое из них могло бы стать заголовком текс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ключевое слово или выражение вы  выбрали бы в качестве названия?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ите микротемы  (работа в группах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кольких  абзацев состоит текст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аглавьте каждый абзац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Дата 5"/>
          <p:cNvSpPr/>
          <p:nvPr/>
        </p:nvSpPr>
        <p:spPr>
          <a:xfrm>
            <a:off x="2143080" y="6111720"/>
            <a:ext cx="421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Бродягина Ольга Семёновна, учитель МОУ Улётовская СО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14720" y="4983120"/>
            <a:ext cx="64720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     </a:t>
            </a:r>
            <a:r>
              <a:rPr b="0" i="1" lang="ru-RU" sz="36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План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1285560"/>
            <a:ext cx="8183520" cy="3786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1. Возвращение с рыбал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2.Тихий зака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3. Запела молодая женщ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4. Запели охотни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5. Необыкновенный голо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6. Слёзы восхищ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Дата 5"/>
          <p:cNvSpPr/>
          <p:nvPr/>
        </p:nvSpPr>
        <p:spPr>
          <a:xfrm>
            <a:off x="2428920" y="6111720"/>
            <a:ext cx="4143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Бродягина Ольга Семёновна, учитель МОУ Улётовская СО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85920" y="4983120"/>
            <a:ext cx="74008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i="1" lang="ru-RU" sz="36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Приёмы сжатия текста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0141b"/>
                </a:solidFill>
                <a:latin typeface="Verdana"/>
              </a:rPr>
              <a:t>1</a:t>
            </a:r>
            <a:r>
              <a:rPr b="1" i="1" lang="ru-RU" sz="24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. Составление пла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2. Сокращение отдельных членов предлож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3. Выделение ключевых понятий путём подчёркив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4. Установление между ключевыми понятиями смысловых связ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5. Составление сложного предложения из слияния просты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6. Разделение сложного предложения на прост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7. Перевод прямой речи в косвенну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8. Пропуск предложений с описаниями, рассуждени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9. Исключение имён собственны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10. Составление осложнённого  предложения из нескольких просты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Дата 5"/>
          <p:cNvSpPr/>
          <p:nvPr/>
        </p:nvSpPr>
        <p:spPr>
          <a:xfrm>
            <a:off x="2428920" y="6111720"/>
            <a:ext cx="4500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Бродягина Ольга Семёновна, учитель МОУ Улётовская СО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1. Возвращение с рыбалк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Определите приёмы сжат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днажды мы возвращались с рыбалки  в товарном вагоне маленького поезда. В вагоне было много народу: женщины с кошёлками ягод и грибов, небритые и оборванные охотники. Сначала женщины разговаривали о своих делах, но вскоре, вздохнув, замолча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Дата 5"/>
          <p:cNvSpPr/>
          <p:nvPr/>
        </p:nvSpPr>
        <p:spPr>
          <a:xfrm>
            <a:off x="3776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Бродягина Ольга Семёновна, учитель МОУ Улётовская СО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</a:t>
            </a:r>
            <a:r>
              <a:rPr b="1" i="1" lang="ru-RU" sz="32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2.Тихий закат.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28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Из двух предложений составьте одно, используя приём 5 (работа в парах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з окна поезда люди любовались тихим закатом, слушали птичье щебетанье, которое даже шум поезда не мог заглуши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Дата 5"/>
          <p:cNvSpPr/>
          <p:nvPr/>
        </p:nvSpPr>
        <p:spPr>
          <a:xfrm>
            <a:off x="2428920" y="6111720"/>
            <a:ext cx="478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Бродягина Ольга Семёновна, учитель МОУ Улётовская СО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3. Запела молодая женщина.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8080" y="571320"/>
            <a:ext cx="7305840" cy="5524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з двух предложений составьте одно, используя приём 5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 индивидуально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i="1" lang="ru-RU" sz="28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Самая молодая женщина, воодушевившись, запела простую рязанскую песню, и кое–кто из женщин стал  ей подпева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Дата 5"/>
          <p:cNvSpPr/>
          <p:nvPr/>
        </p:nvSpPr>
        <p:spPr>
          <a:xfrm>
            <a:off x="2143080" y="6111720"/>
            <a:ext cx="507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Бродягина Ольга Семёновна, учитель МОУ Улётовская СО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4. Запели охотники.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ru-RU" sz="2800" spc="-1" strike="noStrike">
                <a:solidFill>
                  <a:srgbClr val="1b1810"/>
                </a:solidFill>
                <a:latin typeface="Times New Roman"/>
                <a:ea typeface="Times New Roman"/>
              </a:rPr>
              <a:t>Сократите предложение 4 абзаца, используя приём 7 (перевод прямой речи в косвенную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ru-RU" sz="28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Когда женщины замолкли, один из охотников предложил своему спутнику тоже спе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Дата 5"/>
          <p:cNvSpPr/>
          <p:nvPr/>
        </p:nvSpPr>
        <p:spPr>
          <a:xfrm>
            <a:off x="1928880" y="6111720"/>
            <a:ext cx="50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Бродягина Ольга Семёновна, учитель МОУ Улётовская СО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5. Необыкновенный голос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сократите 5 абзац, выбрав один из указанных приёмов ( приём 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Все были очарованы необыкновенным голосом одного из охотников, который лился широко и свобод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0141b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Дата 5"/>
          <p:cNvSpPr/>
          <p:nvPr/>
        </p:nvSpPr>
        <p:spPr>
          <a:xfrm>
            <a:off x="2286000" y="6000840"/>
            <a:ext cx="4929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Бродягина Ольга Семёновна, учитель МОУ Улётовская СО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8:11:54Z</dcterms:created>
  <dc:creator>пользователь</dc:creator>
  <dc:description/>
  <dc:language>en-US</dc:language>
  <cp:lastModifiedBy>Admin</cp:lastModifiedBy>
  <dcterms:modified xsi:type="dcterms:W3CDTF">2010-12-26T09:21:30Z</dcterms:modified>
  <cp:revision>9</cp:revision>
  <dc:subject/>
  <dc:title>Урок русского языка в 9 классе в формате подготовки к ГИА.</dc:title>
</cp:coreProperties>
</file>