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2E55-76FC-481A-9131-F6F80525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5513-BD2A-4A52-9438-69F1529E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0E19-F9AB-421E-961F-9AA6D9AD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975-AF93-4BC4-A8FD-1775A82A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479-6F80-480E-92E4-E04FB9A3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3E5-47A4-4FDE-805A-2D067494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3EB3-3D4B-43F2-AA85-DAB9C27C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189-7ADB-4A71-943C-60D433A7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6BCA-64F0-4F4F-A63E-9E345159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8FF2-BD4D-46BF-8D74-09465DDE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0C5F-BBCC-4625-8427-75D62DCC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48C3-1A8D-4349-83F5-CEA3E84F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93F6-F58C-4F70-8E12-EFCEA86B0B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t.1september.ru/2004/26/9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2340000" y="260280"/>
            <a:ext cx="2838600" cy="3514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3860280"/>
            <a:ext cx="8497800" cy="19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tangChe"/>
                <a:ea typeface="BatangChe"/>
              </a:rPr>
              <a:t>Изучение повести А.С. Пушкина «Капитанская доч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11280" y="260280"/>
          <a:ext cx="8064360" cy="6264360"/>
        </p:xfrm>
        <a:graphic>
          <a:graphicData uri="http://schemas.openxmlformats.org/drawingml/2006/table">
            <a:tbl>
              <a:tblPr/>
              <a:tblGrid>
                <a:gridCol w="2689200"/>
                <a:gridCol w="2687400"/>
                <a:gridCol w="268776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итерии сопостав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Гринё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Швабр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Отношение к семье капитана Мирон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ведение на поедин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Поведение во время захвата крепости пугачёвц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Отношение к Маше Мироно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Поведение с Пугачёв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Гринё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симпатией и любовью, с дружеской улыбкой, искренне любит и считает своей семьё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жается честно, отважно, защищая честь девуш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казывается принести присягу самозванцу. Готов мужественно умереть. Отказывается целовать Пугачёву ру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инё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Любит её, но даёт свободу выбора, уважает её решение, ни к чему не принуждает. Готов отдать жизнь за неё. Рискует собой, спасая её из лагеря пугачёвцев. Наконец, не называет её имя на следствии, не желая впутывать Машу в разбиратель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Держится смело, честно, искренне отвечая на опасные вопросы. Ведёт себя достойно дворянина и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Швабр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мешливо, с издёвкой, распространяет клеве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носит предательский удар беззащитному Гринёву, когда тот обернулся на голос Савельич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новится на сторону бунтовщиков, нарушает военную прися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вабр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Описывает Машу “совершенною дурочкою”, клевещет на неё. Держит взаперти, морит голодом. И в последний момент выдаёт Пугачёв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Унижается, выкручивается, ползает в ногах у Пугачёва, вымаливая прощ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соотносятся друг с другом Гринёв и Швабрин в системе персонаже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Антитез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– противопоставл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ринёв и Швабрин противопоставлены друг друг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lit.1september.ru/2004/26/9.ht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Елена Стародубце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риалы к урока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люстрации –  сайт Урок в формате А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79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акие эпизоды повести изображены на иллюстрациях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кажите о жизни Гринёва в Белогорской креп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представляет собой эта крепость, такая ли она, какой представлял себе гер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роходила служба в крепост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по-настоящему был в ней командир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ая атмосфера царила в семье капитана Миронов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Стрелка вправо с вырезом 5"/>
          <p:cNvSpPr/>
          <p:nvPr/>
        </p:nvSpPr>
        <p:spPr>
          <a:xfrm>
            <a:off x="7956720" y="6021360"/>
            <a:ext cx="863280" cy="576360"/>
          </a:xfrm>
          <a:custGeom>
            <a:avLst/>
            <a:gdLst>
              <a:gd name="textAreaLeft" fmla="*/ 143640 w 863280"/>
              <a:gd name="textAreaRight" fmla="*/ 719640 w 863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00" y="5400"/>
                </a:ln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14400" y="16200"/>
                </a:lnTo>
                <a:lnTo>
                  <a:pt x="0" y="16200"/>
                </a:lnTo>
                <a:lnTo>
                  <a:pt x="36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620280"/>
            <a:ext cx="91440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Белогорской крепости царит тёплая семейная атмосфера, солдаты и командиры с теплотой относятся друг к другу, нет официальщины. Вся крепость словно большая семья. Пётр полюбил этих людей, ничего другого себе не желая.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Пушки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 теплотой и нежностью пишет об отношениях этих людей, и здесь проводится одна из самых дорогих Пушкину идей —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мысль семейн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ексей Иванович Швабр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00720" y="1196640"/>
            <a:ext cx="43192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единственный из обитателей крепости говорит по-французски, его разговор остёр и занимателен. Он образован, служил в Петербурге в гвардии, переведён в Белогорскую крепость за дуэ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1054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очему Швабрин, поначалу понравившийся Гринёву, постепенно стал вызывать у него неприяти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 плохо отзывается о семействе капитана Миронова, клевещет на Ивана Игнатьича, в плохом свете выставил Машу. Все эти люди стали дороги Гринёву, и ему неприятно было слушать о них плохо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единок (Дуэль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Дуэ́л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фр. duel &lt; лат. duellum —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«поединок», «борьба двух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строго регламентированный так называемым дуэльным кодексом поединок между двумя людьми, цель которого — удовлетворить желание одного из дуэлянтов (вызывающего на дуэль) ответить за нанесенное ему или его чести оскорбление с соблюдением максимально честных и равных условий бо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3:07:50Z</dcterms:created>
  <dc:creator>Андрей</dc:creator>
  <dc:description/>
  <dc:language>en-US</dc:language>
  <cp:lastModifiedBy>Андрей</cp:lastModifiedBy>
  <dcterms:modified xsi:type="dcterms:W3CDTF">2011-10-22T01:44:53Z</dcterms:modified>
  <cp:revision>10</cp:revision>
  <dc:subject/>
  <dc:title>Слайд 1</dc:title>
</cp:coreProperties>
</file>