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CEE-DB58-4863-BB84-E8601863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665-700F-493E-AE84-C57BFD4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808-682F-4679-A12B-E8B508DF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93B-9943-4E23-BF59-7B65A01D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FFE-98CA-4F92-96A3-0CB57BBD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9CB-B1EE-4BF1-B02B-C609A702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640-3977-42F4-9666-84C8CE0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4A9-9623-41E4-89A7-6E58C451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53F-FC66-43E8-B5D0-7E9E0810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61A-F3F2-4B8B-83F4-99A61AF8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E32-94BA-4B1E-BF1F-1D0D70E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A41-8713-469B-AD0B-76486DB4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1460-8FC5-4B81-90BE-7141274B9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665280" y="-115920"/>
            <a:ext cx="6723000" cy="51944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2852640" y="3998880"/>
            <a:ext cx="4938840" cy="9018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4"/>
          <a:stretch/>
        </p:blipFill>
        <p:spPr>
          <a:xfrm>
            <a:off x="4011480" y="5346720"/>
            <a:ext cx="449280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3" descr="dis42.gif"/>
          <p:cNvPicPr/>
          <p:nvPr/>
        </p:nvPicPr>
        <p:blipFill>
          <a:blip r:embed="rId5"/>
          <a:stretch/>
        </p:blipFill>
        <p:spPr>
          <a:xfrm>
            <a:off x="357120" y="4143240"/>
            <a:ext cx="171468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Таблица 2" descr=""/>
          <p:cNvPicPr/>
          <p:nvPr/>
        </p:nvPicPr>
        <p:blipFill>
          <a:blip r:embed="rId1"/>
          <a:stretch/>
        </p:blipFill>
        <p:spPr>
          <a:xfrm>
            <a:off x="712800" y="353880"/>
            <a:ext cx="7986600" cy="607068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домой 3">
            <a:hlinkClick r:id="rId2" action="ppaction://hlinksldjump"/>
          </p:cNvPr>
          <p:cNvSpPr/>
          <p:nvPr/>
        </p:nvSpPr>
        <p:spPr>
          <a:xfrm>
            <a:off x="142920" y="6357960"/>
            <a:ext cx="571320" cy="399960"/>
          </a:xfrm>
          <a:custGeom>
            <a:avLst/>
            <a:gdLst>
              <a:gd name="textAreaLeft" fmla="*/ 25920 w 571320"/>
              <a:gd name="textAreaRight" fmla="*/ 545400 w 57132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80" name="Таблица 4" descr=""/>
          <p:cNvPicPr/>
          <p:nvPr/>
        </p:nvPicPr>
        <p:blipFill>
          <a:blip r:embed="rId2"/>
          <a:stretch/>
        </p:blipFill>
        <p:spPr>
          <a:xfrm>
            <a:off x="639720" y="1427040"/>
            <a:ext cx="7991640" cy="441324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5"/>
          <p:cNvSpPr/>
          <p:nvPr/>
        </p:nvSpPr>
        <p:spPr>
          <a:xfrm>
            <a:off x="28584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16191" y="3837"/>
                </a:moveTo>
                <a:lnTo>
                  <a:pt x="18767" y="6448"/>
                </a:lnTo>
                <a:lnTo>
                  <a:pt x="18767" y="4707"/>
                </a:lnTo>
                <a:lnTo>
                  <a:pt x="20543" y="4707"/>
                </a:lnTo>
                <a:lnTo>
                  <a:pt x="20543" y="8224"/>
                </a:lnTo>
                <a:lnTo>
                  <a:pt x="23154" y="10800"/>
                </a:lnTo>
                <a:lnTo>
                  <a:pt x="21500" y="10800"/>
                </a:lnTo>
                <a:lnTo>
                  <a:pt x="21500" y="17989"/>
                </a:lnTo>
                <a:lnTo>
                  <a:pt x="10882" y="17989"/>
                </a:lnTo>
                <a:lnTo>
                  <a:pt x="10882" y="10800"/>
                </a:lnTo>
                <a:lnTo>
                  <a:pt x="9228" y="10800"/>
                </a:lnTo>
                <a:close/>
              </a:path>
              <a:path fill="darkenLess" w="32382" h="21600">
                <a:moveTo>
                  <a:pt x="18767" y="6448"/>
                </a:moveTo>
                <a:lnTo>
                  <a:pt x="18767" y="4707"/>
                </a:lnTo>
                <a:lnTo>
                  <a:pt x="20543" y="4707"/>
                </a:lnTo>
                <a:lnTo>
                  <a:pt x="20543" y="8224"/>
                </a:lnTo>
                <a:close/>
              </a:path>
              <a:path fill="darkenLess" w="32382" h="21600">
                <a:moveTo>
                  <a:pt x="15268" y="14299"/>
                </a:moveTo>
                <a:lnTo>
                  <a:pt x="17114" y="14299"/>
                </a:lnTo>
                <a:lnTo>
                  <a:pt x="17114" y="17989"/>
                </a:lnTo>
                <a:lnTo>
                  <a:pt x="21500" y="17989"/>
                </a:lnTo>
                <a:lnTo>
                  <a:pt x="21500" y="10800"/>
                </a:lnTo>
                <a:lnTo>
                  <a:pt x="10882" y="10800"/>
                </a:lnTo>
                <a:lnTo>
                  <a:pt x="10882" y="17989"/>
                </a:lnTo>
                <a:lnTo>
                  <a:pt x="15268" y="1798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420840" y="-133200"/>
            <a:ext cx="8515080" cy="712800"/>
          </a:xfrm>
          <a:prstGeom prst="rect">
            <a:avLst/>
          </a:prstGeom>
          <a:ln w="0">
            <a:noFill/>
          </a:ln>
        </p:spPr>
      </p:pic>
      <p:pic>
        <p:nvPicPr>
          <p:cNvPr id="83" name="Таблица 4" descr=""/>
          <p:cNvPicPr/>
          <p:nvPr/>
        </p:nvPicPr>
        <p:blipFill>
          <a:blip r:embed="rId2"/>
          <a:stretch/>
        </p:blipFill>
        <p:spPr>
          <a:xfrm>
            <a:off x="353880" y="682560"/>
            <a:ext cx="8650440" cy="55231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3"/>
          <a:stretch/>
        </p:blipFill>
        <p:spPr>
          <a:xfrm>
            <a:off x="493560" y="6072120"/>
            <a:ext cx="7083720" cy="541440"/>
          </a:xfrm>
          <a:prstGeom prst="rect">
            <a:avLst/>
          </a:prstGeom>
          <a:ln w="0">
            <a:noFill/>
          </a:ln>
        </p:spPr>
      </p:pic>
      <p:sp>
        <p:nvSpPr>
          <p:cNvPr id="85" name="Управляющая кнопка: домой 6"/>
          <p:cNvSpPr/>
          <p:nvPr/>
        </p:nvSpPr>
        <p:spPr>
          <a:xfrm>
            <a:off x="28584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5118" y="3837"/>
                </a:moveTo>
                <a:lnTo>
                  <a:pt x="17694" y="6448"/>
                </a:ln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lnTo>
                  <a:pt x="22081" y="10800"/>
                </a:lnTo>
                <a:lnTo>
                  <a:pt x="20427" y="10800"/>
                </a:lnTo>
                <a:lnTo>
                  <a:pt x="20427" y="17989"/>
                </a:lnTo>
                <a:lnTo>
                  <a:pt x="9809" y="17989"/>
                </a:lnTo>
                <a:lnTo>
                  <a:pt x="9809" y="10800"/>
                </a:lnTo>
                <a:lnTo>
                  <a:pt x="8155" y="10800"/>
                </a:lnTo>
                <a:close/>
              </a:path>
              <a:path fill="darkenLess" w="30236" h="21600">
                <a:moveTo>
                  <a:pt x="17694" y="6448"/>
                </a:moveTo>
                <a:lnTo>
                  <a:pt x="17694" y="4707"/>
                </a:lnTo>
                <a:lnTo>
                  <a:pt x="19470" y="4707"/>
                </a:lnTo>
                <a:lnTo>
                  <a:pt x="19470" y="8224"/>
                </a:lnTo>
                <a:close/>
              </a:path>
              <a:path fill="darkenLess" w="30236" h="21600">
                <a:moveTo>
                  <a:pt x="14195" y="14299"/>
                </a:moveTo>
                <a:lnTo>
                  <a:pt x="16040" y="14299"/>
                </a:lnTo>
                <a:lnTo>
                  <a:pt x="16040" y="17989"/>
                </a:lnTo>
                <a:lnTo>
                  <a:pt x="20427" y="17989"/>
                </a:lnTo>
                <a:lnTo>
                  <a:pt x="20427" y="10800"/>
                </a:lnTo>
                <a:lnTo>
                  <a:pt x="9809" y="10800"/>
                </a:lnTo>
                <a:lnTo>
                  <a:pt x="9809" y="17989"/>
                </a:lnTo>
                <a:lnTo>
                  <a:pt x="14195" y="1798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3800" y="25236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Calibri"/>
              </a:rPr>
              <a:t>Башня Фразеология</a:t>
            </a:r>
            <a:br>
              <a:rPr sz="2900"/>
            </a:br>
            <a:r>
              <a:rPr b="1" i="1" lang="ru-RU" sz="2900" spc="-1" strike="noStrike">
                <a:solidFill>
                  <a:srgbClr val="ffffff"/>
                </a:solidFill>
                <a:latin typeface="Calibri"/>
              </a:rPr>
              <a:t>Объясните фразеологизм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Таблица 2" descr=""/>
          <p:cNvPicPr/>
          <p:nvPr/>
        </p:nvPicPr>
        <p:blipFill>
          <a:blip r:embed="rId1"/>
          <a:stretch/>
        </p:blipFill>
        <p:spPr>
          <a:xfrm>
            <a:off x="639720" y="1427040"/>
            <a:ext cx="7991640" cy="486432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85840" y="635796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3794"/>
                </a:moveTo>
                <a:lnTo>
                  <a:pt x="24278" y="10800"/>
                </a:lnTo>
                <a:lnTo>
                  <a:pt x="10265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Башня неологизмов, архаизмов, историз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Разделите все слова на три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Таблица 4" descr=""/>
          <p:cNvPicPr/>
          <p:nvPr/>
        </p:nvPicPr>
        <p:blipFill>
          <a:blip r:embed="rId1"/>
          <a:stretch/>
        </p:blipFill>
        <p:spPr>
          <a:xfrm>
            <a:off x="566640" y="1066680"/>
            <a:ext cx="8010720" cy="492624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10"/>
          <p:cNvSpPr/>
          <p:nvPr/>
        </p:nvSpPr>
        <p:spPr>
          <a:xfrm>
            <a:off x="214200" y="6286680"/>
            <a:ext cx="571680" cy="42840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3837"/>
                </a:moveTo>
                <a:lnTo>
                  <a:pt x="16985" y="6448"/>
                </a:lnTo>
                <a:lnTo>
                  <a:pt x="16985" y="4707"/>
                </a:lnTo>
                <a:lnTo>
                  <a:pt x="18761" y="4707"/>
                </a:lnTo>
                <a:lnTo>
                  <a:pt x="18761" y="8224"/>
                </a:lnTo>
                <a:lnTo>
                  <a:pt x="21372" y="10800"/>
                </a:lnTo>
                <a:lnTo>
                  <a:pt x="19718" y="10800"/>
                </a:lnTo>
                <a:lnTo>
                  <a:pt x="19718" y="17989"/>
                </a:lnTo>
                <a:lnTo>
                  <a:pt x="9100" y="17989"/>
                </a:lnTo>
                <a:lnTo>
                  <a:pt x="9100" y="10800"/>
                </a:lnTo>
                <a:lnTo>
                  <a:pt x="7446" y="10800"/>
                </a:lnTo>
                <a:close/>
              </a:path>
              <a:path fill="darkenLess" w="28818" h="21600">
                <a:moveTo>
                  <a:pt x="16985" y="6448"/>
                </a:moveTo>
                <a:lnTo>
                  <a:pt x="16985" y="4707"/>
                </a:lnTo>
                <a:lnTo>
                  <a:pt x="18761" y="4707"/>
                </a:lnTo>
                <a:lnTo>
                  <a:pt x="18761" y="8224"/>
                </a:lnTo>
                <a:close/>
              </a:path>
              <a:path fill="darkenLess" w="28818" h="21600">
                <a:moveTo>
                  <a:pt x="13486" y="14299"/>
                </a:moveTo>
                <a:lnTo>
                  <a:pt x="15332" y="14299"/>
                </a:lnTo>
                <a:lnTo>
                  <a:pt x="15332" y="17989"/>
                </a:lnTo>
                <a:lnTo>
                  <a:pt x="19718" y="17989"/>
                </a:lnTo>
                <a:lnTo>
                  <a:pt x="19718" y="10800"/>
                </a:lnTo>
                <a:lnTo>
                  <a:pt x="9100" y="10800"/>
                </a:lnTo>
                <a:lnTo>
                  <a:pt x="9100" y="17989"/>
                </a:lnTo>
                <a:lnTo>
                  <a:pt x="13486" y="1798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761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3840" y="1000080"/>
            <a:ext cx="4000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Говор какой-либо мес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овое сло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ловарный состав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Устаревшее слово, которое не имеет синонимов  в современном язы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лово, одинаковое с другим по звуч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Главная значимая часть с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лово, близкое по значению к другому сло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лово, противоположное по значению другому сло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Ключевое слово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Таблица 9" descr=""/>
          <p:cNvPicPr/>
          <p:nvPr/>
        </p:nvPicPr>
        <p:blipFill>
          <a:blip r:embed="rId2"/>
          <a:stretch/>
        </p:blipFill>
        <p:spPr>
          <a:xfrm>
            <a:off x="4211640" y="1212840"/>
            <a:ext cx="4713120" cy="4292640"/>
          </a:xfrm>
          <a:prstGeom prst="rect">
            <a:avLst/>
          </a:prstGeom>
          <a:ln w="0">
            <a:noFill/>
          </a:ln>
        </p:spPr>
      </p:pic>
      <p:sp>
        <p:nvSpPr>
          <p:cNvPr id="9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14200" y="614376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Таблица 9" descr=""/>
          <p:cNvPicPr/>
          <p:nvPr/>
        </p:nvPicPr>
        <p:blipFill>
          <a:blip r:embed="rId2"/>
          <a:stretch/>
        </p:blipFill>
        <p:spPr>
          <a:xfrm>
            <a:off x="1427040" y="1285920"/>
            <a:ext cx="6789960" cy="446256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214200" y="614376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24289" y="10800"/>
                </a:lnTo>
                <a:lnTo>
                  <a:pt x="10276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2"/>
          <a:stretch/>
        </p:blipFill>
        <p:spPr>
          <a:xfrm>
            <a:off x="847800" y="669960"/>
            <a:ext cx="7229520" cy="5273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dis42.gif"/>
          <p:cNvPicPr/>
          <p:nvPr/>
        </p:nvPicPr>
        <p:blipFill>
          <a:blip r:embed="rId3"/>
          <a:stretch/>
        </p:blipFill>
        <p:spPr>
          <a:xfrm>
            <a:off x="4929120" y="3929040"/>
            <a:ext cx="200016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ок 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priorico.com/scen/skazochnoe_perevoploschenie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менские муз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talks.su/news/muzikl-bremenskie-muzikanty-2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positfiles.com/ru/files/qhvxi6c7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. Альбертова «Литературные игр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Путешествуем по городу Лекс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1 этап. Тамож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2 этап. Аллея Синони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6c0a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e46c0a"/>
                </a:solidFill>
                <a:latin typeface="Calibri"/>
              </a:rPr>
              <a:t>3 этап. Река  Антони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4 этап. Холм Омони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5 этап. Башня неологизм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       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и архаиз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6 этап. Кроссворд «Лекси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«Знающие» - команда №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«Думающие» - команда №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«Умеющие» - команда №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dis42.gif"/>
          <p:cNvPicPr/>
          <p:nvPr/>
        </p:nvPicPr>
        <p:blipFill>
          <a:blip r:embed="rId1"/>
          <a:stretch/>
        </p:blipFill>
        <p:spPr>
          <a:xfrm>
            <a:off x="6500880" y="3929040"/>
            <a:ext cx="19288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Выноска-облако 7"/>
          <p:cNvSpPr/>
          <p:nvPr/>
        </p:nvSpPr>
        <p:spPr>
          <a:xfrm rot="19963200">
            <a:off x="6429240" y="1856880"/>
            <a:ext cx="2571840" cy="1541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Счастливого пу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ermuz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4929120" y="3929040"/>
            <a:ext cx="40006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Program Files\Microsoft Office\MEDIA\CAGCAT10\j01955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14840" y="471492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58" name="Стрелка влево 11" descr=""/>
          <p:cNvPicPr/>
          <p:nvPr/>
        </p:nvPicPr>
        <p:blipFill>
          <a:blip r:embed="rId4"/>
          <a:stretch/>
        </p:blipFill>
        <p:spPr>
          <a:xfrm>
            <a:off x="6838920" y="5200560"/>
            <a:ext cx="2249640" cy="1998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5"/>
          <a:stretch/>
        </p:blipFill>
        <p:spPr>
          <a:xfrm>
            <a:off x="426960" y="3749760"/>
            <a:ext cx="2627280" cy="2730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6"/>
          <a:stretch/>
        </p:blipFill>
        <p:spPr>
          <a:xfrm>
            <a:off x="5138640" y="3859200"/>
            <a:ext cx="3011760" cy="554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7"/>
          <a:stretch/>
        </p:blipFill>
        <p:spPr>
          <a:xfrm>
            <a:off x="4486320" y="2451240"/>
            <a:ext cx="2682720" cy="13777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8"/>
          <a:stretch/>
        </p:blipFill>
        <p:spPr>
          <a:xfrm>
            <a:off x="2779560" y="5857920"/>
            <a:ext cx="3445200" cy="5554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9"/>
          <a:stretch/>
        </p:blipFill>
        <p:spPr>
          <a:xfrm>
            <a:off x="566640" y="2432160"/>
            <a:ext cx="4011840" cy="5554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9"/>
          <p:cNvSpPr/>
          <p:nvPr/>
        </p:nvSpPr>
        <p:spPr>
          <a:xfrm>
            <a:off x="3537000" y="500040"/>
            <a:ext cx="67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20" descr=""/>
          <p:cNvPicPr/>
          <p:nvPr/>
        </p:nvPicPr>
        <p:blipFill>
          <a:blip r:embed="rId10"/>
          <a:stretch/>
        </p:blipFill>
        <p:spPr>
          <a:xfrm>
            <a:off x="189000" y="1500120"/>
            <a:ext cx="3322440" cy="554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2" descr="dis42.gif"/>
          <p:cNvPicPr/>
          <p:nvPr/>
        </p:nvPicPr>
        <p:blipFill>
          <a:blip r:embed="rId11"/>
          <a:stretch/>
        </p:blipFill>
        <p:spPr>
          <a:xfrm>
            <a:off x="5429160" y="4572000"/>
            <a:ext cx="157176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Таблица 1" descr=""/>
          <p:cNvPicPr/>
          <p:nvPr/>
        </p:nvPicPr>
        <p:blipFill>
          <a:blip r:embed="rId1"/>
          <a:stretch/>
        </p:blipFill>
        <p:spPr>
          <a:xfrm>
            <a:off x="712800" y="1427040"/>
            <a:ext cx="7986600" cy="4894560"/>
          </a:xfrm>
          <a:prstGeom prst="rect">
            <a:avLst/>
          </a:prstGeom>
          <a:ln w="0">
            <a:noFill/>
          </a:ln>
        </p:spPr>
      </p:pic>
      <p:pic>
        <p:nvPicPr>
          <p:cNvPr id="68" name="Заголовок 2" descr=""/>
          <p:cNvPicPr/>
          <p:nvPr/>
        </p:nvPicPr>
        <p:blipFill>
          <a:blip r:embed="rId2"/>
          <a:stretch/>
        </p:blipFill>
        <p:spPr>
          <a:xfrm>
            <a:off x="2206800" y="66600"/>
            <a:ext cx="5157720" cy="9810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омой 3">
            <a:hlinkClick r:id="rId3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3837"/>
                </a:moveTo>
                <a:lnTo>
                  <a:pt x="15541" y="6448"/>
                </a:ln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lnTo>
                  <a:pt x="19927" y="10800"/>
                </a:lnTo>
                <a:lnTo>
                  <a:pt x="18274" y="10800"/>
                </a:lnTo>
                <a:lnTo>
                  <a:pt x="18274" y="17989"/>
                </a:lnTo>
                <a:lnTo>
                  <a:pt x="7655" y="17989"/>
                </a:lnTo>
                <a:lnTo>
                  <a:pt x="7655" y="10800"/>
                </a:lnTo>
                <a:lnTo>
                  <a:pt x="6001" y="10800"/>
                </a:lnTo>
                <a:close/>
              </a:path>
              <a:path fill="darkenLess" w="25929" h="21600">
                <a:moveTo>
                  <a:pt x="15541" y="6448"/>
                </a:moveTo>
                <a:lnTo>
                  <a:pt x="15541" y="4707"/>
                </a:lnTo>
                <a:lnTo>
                  <a:pt x="17316" y="4707"/>
                </a:lnTo>
                <a:lnTo>
                  <a:pt x="17316" y="8224"/>
                </a:lnTo>
                <a:close/>
              </a:path>
              <a:path fill="darkenLess" w="25929" h="21600">
                <a:moveTo>
                  <a:pt x="12042" y="14299"/>
                </a:moveTo>
                <a:lnTo>
                  <a:pt x="13887" y="14299"/>
                </a:lnTo>
                <a:lnTo>
                  <a:pt x="13887" y="17989"/>
                </a:lnTo>
                <a:lnTo>
                  <a:pt x="18274" y="17989"/>
                </a:lnTo>
                <a:lnTo>
                  <a:pt x="18274" y="10800"/>
                </a:lnTo>
                <a:lnTo>
                  <a:pt x="7655" y="10800"/>
                </a:lnTo>
                <a:lnTo>
                  <a:pt x="7655" y="17989"/>
                </a:lnTo>
                <a:lnTo>
                  <a:pt x="12042" y="1798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Таблица 1" descr=""/>
          <p:cNvPicPr/>
          <p:nvPr/>
        </p:nvPicPr>
        <p:blipFill>
          <a:blip r:embed="rId1"/>
          <a:stretch/>
        </p:blipFill>
        <p:spPr>
          <a:xfrm>
            <a:off x="712800" y="1427040"/>
            <a:ext cx="7986600" cy="5004000"/>
          </a:xfrm>
          <a:prstGeom prst="rect">
            <a:avLst/>
          </a:prstGeom>
          <a:ln w="0">
            <a:noFill/>
          </a:ln>
        </p:spPr>
      </p:pic>
      <p:pic>
        <p:nvPicPr>
          <p:cNvPr id="71" name="Заголовок 2" descr=""/>
          <p:cNvPicPr/>
          <p:nvPr/>
        </p:nvPicPr>
        <p:blipFill>
          <a:blip r:embed="rId2"/>
          <a:stretch/>
        </p:blipFill>
        <p:spPr>
          <a:xfrm>
            <a:off x="706320" y="7308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омой 3">
            <a:hlinkClick r:id="rId3" action="ppaction://hlinksldjump"/>
          </p:cNvPr>
          <p:cNvSpPr/>
          <p:nvPr/>
        </p:nvSpPr>
        <p:spPr>
          <a:xfrm>
            <a:off x="14292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85880" y="64292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Таблица 3" descr=""/>
          <p:cNvPicPr/>
          <p:nvPr/>
        </p:nvPicPr>
        <p:blipFill>
          <a:blip r:embed="rId1"/>
          <a:stretch/>
        </p:blipFill>
        <p:spPr>
          <a:xfrm>
            <a:off x="639720" y="1139760"/>
            <a:ext cx="7991640" cy="5626080"/>
          </a:xfrm>
          <a:prstGeom prst="rect">
            <a:avLst/>
          </a:prstGeom>
          <a:ln w="0">
            <a:noFill/>
          </a:ln>
        </p:spPr>
      </p:pic>
      <p:pic>
        <p:nvPicPr>
          <p:cNvPr id="75" name="Заголовок 2" descr=""/>
          <p:cNvPicPr/>
          <p:nvPr/>
        </p:nvPicPr>
        <p:blipFill>
          <a:blip r:embed="rId2"/>
          <a:stretch/>
        </p:blipFill>
        <p:spPr>
          <a:xfrm>
            <a:off x="371520" y="219240"/>
            <a:ext cx="8474040" cy="92700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142920" y="6315120"/>
            <a:ext cx="428760" cy="399960"/>
          </a:xfrm>
          <a:custGeom>
            <a:avLst/>
            <a:gdLst>
              <a:gd name="textAreaLeft" fmla="*/ 25920 w 428760"/>
              <a:gd name="textAreaRight" fmla="*/ 402840 w 42876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3154" h="21600">
                <a:moveTo>
                  <a:pt x="0" y="0"/>
                </a:moveTo>
                <a:lnTo>
                  <a:pt x="23154" y="0"/>
                </a:lnTo>
                <a:lnTo>
                  <a:pt x="23154" y="21600"/>
                </a:lnTo>
                <a:lnTo>
                  <a:pt x="0" y="21600"/>
                </a:lnTo>
                <a:close/>
              </a:path>
              <a:path fill="lightenLess" w="23154" h="21600">
                <a:moveTo>
                  <a:pt x="0" y="0"/>
                </a:moveTo>
                <a:lnTo>
                  <a:pt x="23154" y="0"/>
                </a:lnTo>
                <a:lnTo>
                  <a:pt x="21754" y="1400"/>
                </a:lnTo>
                <a:lnTo>
                  <a:pt x="1400" y="1400"/>
                </a:lnTo>
                <a:close/>
              </a:path>
              <a:path fill="darken" w="23154" h="21600">
                <a:moveTo>
                  <a:pt x="23154" y="0"/>
                </a:moveTo>
                <a:lnTo>
                  <a:pt x="23154" y="21600"/>
                </a:lnTo>
                <a:lnTo>
                  <a:pt x="21754" y="20200"/>
                </a:lnTo>
                <a:lnTo>
                  <a:pt x="21754" y="1400"/>
                </a:lnTo>
                <a:close/>
              </a:path>
              <a:path fill="darkenLess" w="23154" h="21600">
                <a:moveTo>
                  <a:pt x="23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4" y="20200"/>
                </a:lnTo>
                <a:close/>
              </a:path>
              <a:path fill="lighten" w="23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4" h="21600">
                <a:moveTo>
                  <a:pt x="4570" y="3794"/>
                </a:moveTo>
                <a:lnTo>
                  <a:pt x="18583" y="10800"/>
                </a:lnTo>
                <a:lnTo>
                  <a:pt x="4570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0-27T11:35:25Z</dcterms:modified>
  <cp:revision>94</cp:revision>
  <dc:subject/>
  <dc:title>Слайд 1</dc:title>
</cp:coreProperties>
</file>