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FEB-397C-4CFF-B073-364D45F5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DD4-1AD9-412B-A25F-C4FE3258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F352-2126-4DF8-A720-393EBBAD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D82-94A5-4B57-B75C-03489E43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9647-87E8-40A5-BC00-7650A198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DF8B-3F7D-4042-8BC0-1F528739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17EE-97C4-436A-9AA4-76A3763F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A2AD-B385-4916-BCCB-23C83D9E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9FCE-EC89-4BF8-8CAE-50E07ADF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0956-E3A8-495C-B3ED-151D0DCF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4D7B-72AE-4F65-81E7-846A4671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F23A-4FB7-4ECA-8812-60BDECF9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8225-CFAC-406F-9F3B-27109301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E8BA-5998-46F4-8BB7-5ABD9569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1DDD-2E7E-484A-8E01-99D9697B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7C9B-8DC7-4669-B11C-E7E137F1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C88B-4690-46D4-81E3-1FF4CC16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C3E-23EF-46BB-872A-ACCFB766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967-5DDE-407C-8CC6-6B87FC4A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E5E7-A865-4F73-BDC9-02785D74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194-6683-46F6-9E35-DF31E4FD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18AC-DFAC-4547-9E54-E41FF169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6911-D1C1-45DE-AA66-161F0477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F35-7BD2-4276-B575-C68B508E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8BA3-293A-41A4-9EC2-59376F9FAC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D277-855C-49A7-BDE8-DCF6A70448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дготовка  к единому государственному экзамен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готовка к выполнению части С: написание сочинения – рассуж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родягина Ольга Семёновна, учитель МОУ Улётовская СО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1238863376_wipe_book"/>
          <p:cNvPicPr/>
          <p:nvPr/>
        </p:nvPicPr>
        <p:blipFill>
          <a:blip r:embed="rId1"/>
          <a:stretch/>
        </p:blipFill>
        <p:spPr>
          <a:xfrm>
            <a:off x="4572000" y="1523880"/>
            <a:ext cx="4191120" cy="472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 такое комментарий текст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омментар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рассуждения, пояснительные замечания по поводу чего – либо. Именно комментарий показывает, насколько глубоко и полно понята проблема, как пишущий сумел увидеть её аспекты, намеченные автором, проследил за ходом авторской мыс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ва типа комментар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Текстуаль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объяснение текста, следование за автором в раскрытии пробл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онцепционный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интерпретация проблемы текста, её актуальность, столкновение различных мнений по данному вопросу и т.п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бой вид комментария должен    осуществляться с опорой на тек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опросы для конкретизации содержания комментар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, на каком материале автор раскрывает пробл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чем заостряет внима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аспекты проблемы рассматриваются в текс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эмоции автора выражены в текс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ражено отношение авто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МНИ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сказывая, мы говорим о том, что делают герои тек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ментируя, говорим о том, что делает автор тек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а текста – это 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иция автора – это ответ на вопрос, поставленный в текс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пособы формулирования авторской пози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иция автора таков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считает, чт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стремится донести до читателя мысл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убеждает нас в том, ч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тексте доказывается мысль о том, ч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ая мысль текста заключается в том, ч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Урок №3. Аргументация собственной позиции. Виды аргу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такое аргументац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основные виды аргумент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bimg404362"/>
          <p:cNvPicPr/>
          <p:nvPr/>
        </p:nvPicPr>
        <p:blipFill>
          <a:blip r:embed="rId1"/>
          <a:stretch/>
        </p:blipFill>
        <p:spPr>
          <a:xfrm>
            <a:off x="4648320" y="1523880"/>
            <a:ext cx="4114800" cy="464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 такое аргументация?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 такое аргументы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ргументаци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это приведение доказательств, объяснений, примеров для обоснования какой – либо мысли перед слушателями (читателями) или собеседни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ргументы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оказательства, приводимые в поддержку тезиса: факты, примеры, утверждения, объяснения – словом, всё, что может подтвердить тез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 тезиса к аргументам можно поставить вопрос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ОЧЕМ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гументы отвечают: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ОТОМУ ЧТ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ддерживающая и опровергающая аргументац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Аргументы «ЗА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олжны бы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авдивыми, опираться на авторитетные источни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упными, простыми, понятн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тражающими объективную реальность, соответствующими здравому смысл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ддерживающая и опровергающая аргументац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Аргументы «ПРОТИВ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олжны бы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убедительн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актичными и корректн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казывающими, что аргументы, приводимые в поддержку критикуемого тезиса, не выдерживают критики, слаб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ипы аргумен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Естественные доказатель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сылка на общезначимый опыт, который имеет (или мог бы иметь) каждый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видетельства самого автора сочи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сылка на авторит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словицы, поговор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римеры из художественной литера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тапы работы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акомление с требованиями к сочинению и критериями его прове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этапный разбор каждого крите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над композицией сочи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исание и проверка сочинений по разработанным критериям оцени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ипы аргумен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огические доказ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рассуждения с дефини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иллог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аналог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чувственные аргумен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то такое дефиниция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Дефиници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это краткое определение какого – либо понятия, отражающее существенные признаки предмета или явления; толкование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то такой писатель? Это человек, который умеет писать? Нет. Писать умеет каждый человек. Может быть, это человек, который пишет правильно? Нет. Правильно писать умеют все образованные лю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то такое силлогизм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иллогиз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 это умозаключение, в котором из двух суждений (посылок) следует третье суждение (умозаключе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е люди смертны. Сократ – человек. Следовательно, Сократ смерт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то такое аналогия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налоги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это умозаключение, при котором свойства, присущие одному объекту, переносятся на другой объект того же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физическая аналог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сопоставление близких или практически тождественных явлений и предме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разная аналог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сравнение отдаленных предметов действительности, сходство которых проявляется лишь в процессе сопоставления и имеет ярко выраженный образный харак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ОТ  АНАЛИЗА ТЕКСТА -  К СОЧИНЕНИЮ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7" descr="22004-08-10_07-11-05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472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НАНИЯ  И  УМ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НА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сновные этапы работы с текс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МЕ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полнять различные элементы комплексного анализа тек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здавать отдельные композиционные части сочинения по заданному  тек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я части 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уйте и прокомментируйте одну из проблем, поставленных автором  тек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уйте позицию авт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ишите, согласны или не согласны с точкой зрения автора прочитанного тек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 поче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ой ответ аргументируйте, опираясь на знания, жизненный или читательский опы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ы разбора содержательных критерие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блема текста, виды проблем, приемы выделения проблем текста, способы формулирования пробл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ментарий, виды комментария, способ оформ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явление позиции автора и способы её оформ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гументация собственной позиции, виды аргуме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д композицией сочи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стема уроков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рок №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облема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рок №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омментирование проблемы и выявление авторской пози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рок №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Аргументация собственной позиции. Виды аргум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i"/>
          <p:cNvPicPr/>
          <p:nvPr/>
        </p:nvPicPr>
        <p:blipFill>
          <a:blip r:embed="rId1"/>
          <a:stretch/>
        </p:blipFill>
        <p:spPr>
          <a:xfrm>
            <a:off x="4572000" y="1523880"/>
            <a:ext cx="4191120" cy="4648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рок №1. Проблема текс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лючевые вопросы у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е проблем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явить пробл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сформулировать проблему текст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pencil20090324140545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то такое проблема текста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блема текст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сложный практический или теоретический вопрос, требующий решения,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блемы могут бы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философские, социальные, политические, экологические, нравственные (этические) и друг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МНИ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м образом проблема касается вас, других людей, всего человеч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туация, описанная в тексте, - это иллюстрация, частный случай, пример проявления какой-либо абстрактной идеи, рассматриваемой авто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улируйте проблему так, чтобы она охватывала многие подобные ситу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ва наиболее простых способа формулировки проблем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блема какая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 автор размышляет над проблемой воспитания; в тексте поднимается проблема одиноч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Формулировка в виде вопрос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ает больше возможностей тогда, когда кратко сформулировать  проблему текста невозможно. Например: каким должно быть воспитание ребен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Урок №2. Комментирование проблемы и выявление авторской позиц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такое комментари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типы комментирования текс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выявить и сформулировать авторскую позици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schools"/>
          <p:cNvPicPr/>
          <p:nvPr/>
        </p:nvPicPr>
        <p:blipFill>
          <a:blip r:embed="rId1"/>
          <a:stretch/>
        </p:blipFill>
        <p:spPr>
          <a:xfrm>
            <a:off x="4648320" y="1911240"/>
            <a:ext cx="4038480" cy="3903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1-24T13:13:4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