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66A-CD3A-4687-AC2E-9F14B368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5D8-D88D-48CD-A191-1FCFDBC5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E8B-00CC-4D3D-A92A-53549DA3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B52-3A58-471C-94A3-DD1D03CC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AE09B-EEAA-441C-A419-5561ACD5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C8814-8F4D-434C-A5A7-DF9C4471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DB274-EDD0-4245-858A-F890A2BF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54B45-A147-4DF7-B19A-97C0B19C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0F38E-DCFA-409F-8B21-603391F3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17321-6130-401D-A604-CC0AB243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9E509-8AB1-43EA-88E8-EFB898C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DD4-0BA1-4A30-93AE-FEE3A476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5C83C-AABD-4316-A8AF-8FA158D5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F173C-0508-4231-B0EF-4E357518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995E7-D5C5-409C-9778-DE3711E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22006-85CD-468D-86F3-10417DE3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0D40B-69C0-4A83-96F1-FB1D09A9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949-1DA2-424C-A70E-0C666CCB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BA8-5945-401B-AD0F-1D9BC47C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281-8E53-407B-8224-F0A2ACC9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CE6-9A91-445A-997F-00A6F0B8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C49-698C-46C6-96ED-A738B905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F5F-8FEE-4839-8327-D0510FB2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5F9-EB42-48F5-AF35-1606159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6DEA-919B-402B-81CA-5C3347726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F333-8CF2-49E0-9F06-129A4C8757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5"/>
          <p:cNvSpPr txBox="1"/>
          <p:nvPr/>
        </p:nvSpPr>
        <p:spPr>
          <a:xfrm>
            <a:off x="609480" y="2514600"/>
            <a:ext cx="7915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ни  с  чередованием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6" descr="аним"/>
          <p:cNvPicPr/>
          <p:nvPr/>
        </p:nvPicPr>
        <p:blipFill>
          <a:blip r:embed="rId1"/>
          <a:stretch/>
        </p:blipFill>
        <p:spPr>
          <a:xfrm>
            <a:off x="6705720" y="4800600"/>
            <a:ext cx="148572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аним"/>
          <p:cNvPicPr/>
          <p:nvPr/>
        </p:nvPicPr>
        <p:blipFill>
          <a:blip r:embed="rId2"/>
          <a:stretch/>
        </p:blipFill>
        <p:spPr>
          <a:xfrm>
            <a:off x="1219320" y="380880"/>
            <a:ext cx="14857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аписать из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жение, при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жение к учебнику, пред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гать помощь, к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снуться новой темы, прик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саться к стене, разобрать пред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жение, по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жить на стол, по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гаться на удачу, легкое прик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сновение, к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сание мяча рукой, имя при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гательное, высказать предпо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ж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В корне </a:t>
            </a: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-раст-(-ращ-,-рос-)</a:t>
            </a:r>
            <a:br>
              <a:rPr sz="4000"/>
            </a:b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ишется </a:t>
            </a: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перед </a:t>
            </a: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ст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и </a:t>
            </a: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щ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, а в остальных случаях пишется </a:t>
            </a: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сключения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осток, отрасль, ростовщик, Ростов, Ростисл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аним"/>
          <p:cNvPicPr/>
          <p:nvPr/>
        </p:nvPicPr>
        <p:blipFill>
          <a:blip r:embed="rId1"/>
          <a:stretch/>
        </p:blipFill>
        <p:spPr>
          <a:xfrm>
            <a:off x="304920" y="2895480"/>
            <a:ext cx="14857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Тренажё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90360" y="1218960"/>
            <a:ext cx="7010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ыр…щенный в теплице, маленькое р…стение, юный возр…ст, зелёная пор…сль, Р…стов, ср…щение корней, зар…сли малины, Р…стислав, отр…сль промышленности, р…стёт в лесу, старый р…стовщик, мелкий р…сток, выр…щу летом, выр…сшие на гряд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" name="Управляющая кнопка: далее 3"/>
          <p:cNvGrpSpPr/>
          <p:nvPr/>
        </p:nvGrpSpPr>
        <p:grpSpPr>
          <a:xfrm>
            <a:off x="7120080" y="6072120"/>
            <a:ext cx="2212920" cy="998640"/>
            <a:chOff x="7120080" y="6072120"/>
            <a:chExt cx="2212920" cy="998640"/>
          </a:xfrm>
        </p:grpSpPr>
        <p:pic>
          <p:nvPicPr>
            <p:cNvPr id="116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120080" y="6072120"/>
              <a:ext cx="2212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315200" y="624852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b2bfe"/>
                  </a:solidFill>
                  <a:latin typeface="Tahoma"/>
                </a:rPr>
                <a:t>Провери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61760" y="6094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ы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щенный в теплице, маленькое 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ение, юный воз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, зелёная по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ль, Ростов, с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щение корней, за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ли малины, 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ислав, от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ль промышленности, 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ёт в лесу, старый 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овщик, мелкий 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ок, вы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щу летом, вы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шие на гряд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аним"/>
          <p:cNvPicPr/>
          <p:nvPr/>
        </p:nvPicPr>
        <p:blipFill>
          <a:blip r:embed="rId1"/>
          <a:stretch/>
        </p:blipFill>
        <p:spPr>
          <a:xfrm>
            <a:off x="533520" y="4952880"/>
            <a:ext cx="14857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равописание корней  с чередованием гласных </a:t>
            </a:r>
            <a:r>
              <a:rPr b="1" lang="ru-RU" sz="4000" spc="-1" strike="noStrike">
                <a:solidFill>
                  <a:srgbClr val="00c600"/>
                </a:solidFill>
                <a:latin typeface="Tahoma"/>
              </a:rPr>
              <a:t>Е - 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040" y="25142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 корнях с чередованием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 – 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пишется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, если после корня идет суффикс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-А-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. В остальных случаях пишется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-тер-(-тир-),-бер-(-бир-),-дер-(-дир-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-стел-(-стил-),-мер-(-мир-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-блест-(-блист-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0" descr="аним"/>
          <p:cNvPicPr/>
          <p:nvPr/>
        </p:nvPicPr>
        <p:blipFill>
          <a:blip r:embed="rId1"/>
          <a:stretch/>
        </p:blipFill>
        <p:spPr>
          <a:xfrm>
            <a:off x="152280" y="5562720"/>
            <a:ext cx="12193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1185840" y="1144440"/>
            <a:ext cx="6772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омни!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корнях с чередованием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а-(-я-) - -им-(-ин-)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шутся -им-, -ин-,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после них есть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ффикс А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5" descr="аним"/>
          <p:cNvPicPr/>
          <p:nvPr/>
        </p:nvPicPr>
        <p:blipFill>
          <a:blip r:embed="rId1"/>
          <a:stretch/>
        </p:blipFill>
        <p:spPr>
          <a:xfrm>
            <a:off x="1828800" y="609480"/>
            <a:ext cx="121932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Тренажё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об…ру урожай, уб…ри в комнате, зап..рай двери, прот…рай пыль, соб…рать грибы, зат…реть пятно, ум…рающий лебедь,  бл…стать на балу, заст…лить постель, изб…рать командира, нач…нать работу, пож…мать плечами, б…ру в руки, наб…раю в корзину, бл…стеть на солнц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Управляющая кнопка: далее 3"/>
          <p:cNvGrpSpPr/>
          <p:nvPr/>
        </p:nvGrpSpPr>
        <p:grpSpPr>
          <a:xfrm>
            <a:off x="6967440" y="6151680"/>
            <a:ext cx="2365560" cy="919080"/>
            <a:chOff x="6967440" y="6151680"/>
            <a:chExt cx="2365560" cy="919080"/>
          </a:xfrm>
        </p:grpSpPr>
        <p:pic>
          <p:nvPicPr>
            <p:cNvPr id="128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6967440" y="6151680"/>
              <a:ext cx="23655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162920" y="632448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b2bfe"/>
                  </a:solidFill>
                  <a:latin typeface="Tahoma"/>
                </a:rPr>
                <a:t>Провери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7696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о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у урожай, у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и в комнате, зап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й двери, прот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й пыль, со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ть грибы, зат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еть пятно, ум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ющий лебедь, бл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ать на балу, заст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лить постель, из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ть командира, нач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нать работу, пож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мать плечами, 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у в руки, на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ю в корзину, бл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еть на солнце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648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ЗА  РАБОТ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91960"/>
            <a:ext cx="7696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равописание корней с    чередованием гласных </a:t>
            </a:r>
            <a:r>
              <a:rPr b="1" lang="ru-RU" sz="4000" spc="-1" strike="noStrike">
                <a:solidFill>
                  <a:srgbClr val="00c600"/>
                </a:solidFill>
                <a:latin typeface="Tahoma"/>
              </a:rPr>
              <a:t>А - 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Запомни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Правила правописания корней с чередованием </a:t>
            </a: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А – 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можно  объединить в две груп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- правописание корней зависи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c600"/>
                </a:solidFill>
                <a:latin typeface="Tahoma"/>
              </a:rPr>
              <a:t>от уда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- правописание корней зависи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c600"/>
                </a:solidFill>
                <a:latin typeface="Tahoma"/>
              </a:rPr>
              <a:t>от звука, следующего за корн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От места ударени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зависит правописание корней -гар-(-гор-),</a:t>
            </a:r>
            <a:br>
              <a:rPr sz="4000"/>
            </a:b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-зар-(-зор-), -клан-(-клон-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048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В корне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-гар-(-гор-)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под ударением пишется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, без ударения –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В корне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-зор-(-зар-)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под ударением пишется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, без ударения –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В корне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-клон-(-клан-)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под ударением пишется 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, 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, а без ударения – только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6"/>
          <p:cNvSpPr txBox="1"/>
          <p:nvPr/>
        </p:nvSpPr>
        <p:spPr>
          <a:xfrm>
            <a:off x="914400" y="914400"/>
            <a:ext cx="7362720" cy="49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омни!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этих корнях написания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исят от места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дарения,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 не проверяются им!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7" descr="аним"/>
          <p:cNvPicPr/>
          <p:nvPr/>
        </p:nvPicPr>
        <p:blipFill>
          <a:blip r:embed="rId1"/>
          <a:stretch/>
        </p:blipFill>
        <p:spPr>
          <a:xfrm>
            <a:off x="1600200" y="609480"/>
            <a:ext cx="148608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c600"/>
                </a:solidFill>
                <a:latin typeface="Tahoma"/>
              </a:rPr>
              <a:t>Тренажё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Летний заг…р, заг…реть</a:t>
            </a: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а пляже, утренняя з…ря, вечерняя з…рька, полыхает з…рницами, низкий покл…н, первое скл…нение, уг…рный газ, накл…н влево, прикл…нить голову, разг…рается в печи, з…ревой закат, кл…няться при встрече, накл…нение глагола, наг…р на свеч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6" descr="аним"/>
          <p:cNvPicPr/>
          <p:nvPr/>
        </p:nvPicPr>
        <p:blipFill>
          <a:blip r:embed="rId1"/>
          <a:stretch/>
        </p:blipFill>
        <p:spPr>
          <a:xfrm>
            <a:off x="7658280" y="0"/>
            <a:ext cx="14857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95" name="Управляющая кнопка: далее 4"/>
          <p:cNvGrpSpPr/>
          <p:nvPr/>
        </p:nvGrpSpPr>
        <p:grpSpPr>
          <a:xfrm>
            <a:off x="7199280" y="6072120"/>
            <a:ext cx="2133720" cy="998640"/>
            <a:chOff x="7199280" y="6072120"/>
            <a:chExt cx="2133720" cy="998640"/>
          </a:xfrm>
        </p:grpSpPr>
        <p:pic>
          <p:nvPicPr>
            <p:cNvPr id="96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199280" y="6072120"/>
              <a:ext cx="21337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391520" y="624852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b2bfe"/>
                  </a:solidFill>
                  <a:latin typeface="Tahoma"/>
                </a:rPr>
                <a:t>Провери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1295280"/>
            <a:ext cx="807732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Летний заг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, заг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еть</a:t>
            </a: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а пляже, утренняя з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я, вечерняя з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ька, полыхает з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ницами, низкий по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, первое с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ение, уг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ный газ, на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 влево, при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ить голову, разг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ается в печи, з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евой закат, 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яться при встрече, на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ение глагола, наг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 на свеч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аним"/>
          <p:cNvPicPr/>
          <p:nvPr/>
        </p:nvPicPr>
        <p:blipFill>
          <a:blip r:embed="rId1"/>
          <a:stretch/>
        </p:blipFill>
        <p:spPr>
          <a:xfrm>
            <a:off x="7315200" y="228600"/>
            <a:ext cx="148608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190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От звука, следующего за корнем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,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зависит правописание корней </a:t>
            </a:r>
            <a:br>
              <a:rPr sz="4000"/>
            </a:b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-лаг-(-лож-), -кас-(-кос-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3123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 корнях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-лаг-(-лож-), -кас-(-кос-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пишется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, если за корнем следует суффикс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. Если этого суффикса нет, то в корне пишется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7"/>
          <p:cNvSpPr txBox="1"/>
          <p:nvPr/>
        </p:nvSpPr>
        <p:spPr>
          <a:xfrm>
            <a:off x="1200240" y="944640"/>
            <a:ext cx="6743520" cy="49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омни!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 глаголов  с корнем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лаг-(-лож-)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 приставок.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правильно: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жу книгу на стол!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8" descr="аним"/>
          <p:cNvPicPr/>
          <p:nvPr/>
        </p:nvPicPr>
        <p:blipFill>
          <a:blip r:embed="rId1"/>
          <a:stretch/>
        </p:blipFill>
        <p:spPr>
          <a:xfrm>
            <a:off x="1828800" y="609480"/>
            <a:ext cx="148608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96216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c600"/>
                </a:solidFill>
                <a:latin typeface="Tahoma"/>
              </a:rPr>
              <a:t>Тренажё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аписать изл…жение, прил…жение к учебнику, предл…гать помощь, к…снуться новой темы, прик…саться к стене, разобрать предл…жение, пол…жить на стол, пол…гаться на удачу, легкое прик…сновение, к…сание мяча рукой, имя прил…гательное, высказать предпол…ж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" name="Управляющая кнопка: далее 3"/>
          <p:cNvGrpSpPr/>
          <p:nvPr/>
        </p:nvGrpSpPr>
        <p:grpSpPr>
          <a:xfrm>
            <a:off x="7047000" y="6072120"/>
            <a:ext cx="2286000" cy="998640"/>
            <a:chOff x="7047000" y="6072120"/>
            <a:chExt cx="2286000" cy="998640"/>
          </a:xfrm>
        </p:grpSpPr>
        <p:pic>
          <p:nvPicPr>
            <p:cNvPr id="107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047000" y="6072120"/>
              <a:ext cx="22860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238880" y="6248520"/>
              <a:ext cx="1905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b2bfe"/>
                  </a:solidFill>
                  <a:latin typeface="Tahoma"/>
                </a:rPr>
                <a:t>Провери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2T12:42:3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