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1E22-3D5A-4C77-8DD0-0E8A87F7C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BFC1-4DBD-49D8-821F-FB05AB11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D2A8-B154-4259-90CD-717470F60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AEC6-AD86-484D-B371-0ED49BF87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D8C61-089D-4909-B978-3790490F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F78D9-B729-4F40-B21B-A7347CF2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31322-523F-4D4B-977F-D76DAEA0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CDAE0-71F8-4087-B152-3FF1DE22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8EA4C-AD71-4DBC-9C21-C0E03FC3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061F5-35E0-4F5A-8AAC-7F4AC117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01636-4ECF-4A56-90CB-D9C373B2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22ED-2A06-4236-A5B4-4F2A1092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E3FE5-7985-42CA-8A74-0AF5B71B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1E2AC3-7C80-4462-8D3D-4CC99BD5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F11B0-8975-41D8-94CB-A2324E36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E5214-4A1C-4FEA-9E22-923C2CBC6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B81D2-45DD-475E-B76C-EFFB84B8A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2457-E8B6-4C4B-8ECF-57089B02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E36A-E516-48F6-B6B7-6BA6690A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82B3-0393-49BF-B4D8-33E1C2CD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8867-5FB3-4E4A-B3CD-D9CEF195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200E-8FE7-4B10-A50B-1A7232B1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5EDB-B3D7-44E8-96A8-E08485AC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EAEE-25E8-4794-ACF8-D15E78DD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B702-0E0F-48CA-96EB-7825F7ABEA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8286-60F9-4941-9B40-4FE8F5E36AC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5"/>
          <p:cNvSpPr txBox="1"/>
          <p:nvPr/>
        </p:nvSpPr>
        <p:spPr>
          <a:xfrm>
            <a:off x="609480" y="2514600"/>
            <a:ext cx="79153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рни  с  чередованием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Picture 6" descr="аним"/>
          <p:cNvPicPr/>
          <p:nvPr/>
        </p:nvPicPr>
        <p:blipFill>
          <a:blip r:embed="rId1"/>
          <a:stretch/>
        </p:blipFill>
        <p:spPr>
          <a:xfrm>
            <a:off x="6705720" y="4800600"/>
            <a:ext cx="1485720" cy="1219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аним"/>
          <p:cNvPicPr/>
          <p:nvPr/>
        </p:nvPicPr>
        <p:blipFill>
          <a:blip r:embed="rId2"/>
          <a:stretch/>
        </p:blipFill>
        <p:spPr>
          <a:xfrm>
            <a:off x="1219320" y="380880"/>
            <a:ext cx="148572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391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Написать изл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о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жение, прил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о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жение к учебнику, предл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гать помощь, к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о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снуться новой темы, прик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саться к стене, разобрать предл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о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жение, пол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о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жить на стол, пол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гаться на удачу, легкое прик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о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сновение, к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сание мяча рукой, имя прил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гательное, высказать предпол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о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жен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В корне </a:t>
            </a:r>
            <a:r>
              <a:rPr b="0" lang="ru-RU" sz="4000" spc="-1" strike="noStrike">
                <a:solidFill>
                  <a:srgbClr val="00c600"/>
                </a:solidFill>
                <a:latin typeface="Tahoma"/>
              </a:rPr>
              <a:t>-раст-(-ращ-,-рос-)</a:t>
            </a:r>
            <a:br>
              <a:rPr sz="4000"/>
            </a:b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пишется </a:t>
            </a:r>
            <a:r>
              <a:rPr b="0" lang="ru-RU" sz="4000" spc="-1" strike="noStrike">
                <a:solidFill>
                  <a:srgbClr val="00c600"/>
                </a:solidFill>
                <a:latin typeface="Tahoma"/>
              </a:rPr>
              <a:t>А</a:t>
            </a: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 перед </a:t>
            </a:r>
            <a:r>
              <a:rPr b="0" i="1" lang="ru-RU" sz="4000" spc="-1" strike="noStrike">
                <a:solidFill>
                  <a:srgbClr val="00c600"/>
                </a:solidFill>
                <a:latin typeface="Tahoma"/>
              </a:rPr>
              <a:t>ст</a:t>
            </a: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 и </a:t>
            </a:r>
            <a:r>
              <a:rPr b="0" i="1" lang="ru-RU" sz="4000" spc="-1" strike="noStrike">
                <a:solidFill>
                  <a:srgbClr val="00c600"/>
                </a:solidFill>
                <a:latin typeface="Tahoma"/>
              </a:rPr>
              <a:t>щ</a:t>
            </a: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, а в остальных случаях пишется </a:t>
            </a:r>
            <a:r>
              <a:rPr b="0" lang="ru-RU" sz="4000" spc="-1" strike="noStrike">
                <a:solidFill>
                  <a:srgbClr val="00c600"/>
                </a:solidFill>
                <a:latin typeface="Tahoma"/>
              </a:rPr>
              <a:t>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066320" y="3352320"/>
            <a:ext cx="7086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Исключения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росток, отрасль, ростовщик, Ростов, Ростисла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6" descr="аним"/>
          <p:cNvPicPr/>
          <p:nvPr/>
        </p:nvPicPr>
        <p:blipFill>
          <a:blip r:embed="rId1"/>
          <a:stretch/>
        </p:blipFill>
        <p:spPr>
          <a:xfrm>
            <a:off x="304920" y="2895480"/>
            <a:ext cx="148572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350496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c600"/>
                </a:solidFill>
                <a:latin typeface="Tahoma"/>
              </a:rPr>
              <a:t>Тренажё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990360" y="1218960"/>
            <a:ext cx="70102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Выр…щенный в теплице, маленькое р…стение, юный возр…ст, зелёная пор…сль, Р…стов, ср…щение корней, зар…сли малины, Р…стислав, отр…сль промышленности, р…стёт в лесу, старый р…стовщик, мелкий р…сток, выр…щу летом, выр…сшие на гряд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5" name="Управляющая кнопка: далее 3"/>
          <p:cNvGrpSpPr/>
          <p:nvPr/>
        </p:nvGrpSpPr>
        <p:grpSpPr>
          <a:xfrm>
            <a:off x="7120080" y="6072120"/>
            <a:ext cx="2212920" cy="998640"/>
            <a:chOff x="7120080" y="6072120"/>
            <a:chExt cx="2212920" cy="998640"/>
          </a:xfrm>
        </p:grpSpPr>
        <p:pic>
          <p:nvPicPr>
            <p:cNvPr id="116" name="Управляющая кнопка: далее 3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120080" y="6072120"/>
              <a:ext cx="221292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7315200" y="6248520"/>
              <a:ext cx="18288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b2bfe"/>
                  </a:solidFill>
                  <a:latin typeface="Tahoma"/>
                </a:rPr>
                <a:t>Проверить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slow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761760" y="609480"/>
            <a:ext cx="7543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Выр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щенный в теплице, маленькое р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стение, юный возр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ст, зелёная пор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сль, Ростов, ср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щение корней, зар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сли малины, Р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стислав, отр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сль промышленности, р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стёт в лесу, старый р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стовщик, мелкий р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сток, выр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щу летом, выр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сшие на гряд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6" descr="аним"/>
          <p:cNvPicPr/>
          <p:nvPr/>
        </p:nvPicPr>
        <p:blipFill>
          <a:blip r:embed="rId1"/>
          <a:stretch/>
        </p:blipFill>
        <p:spPr>
          <a:xfrm>
            <a:off x="533520" y="4952880"/>
            <a:ext cx="148572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Правописание корней  с чередованием гласных </a:t>
            </a:r>
            <a:r>
              <a:rPr b="1" lang="ru-RU" sz="4000" spc="-1" strike="noStrike">
                <a:solidFill>
                  <a:srgbClr val="00c600"/>
                </a:solidFill>
                <a:latin typeface="Tahoma"/>
              </a:rPr>
              <a:t>Е - 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14040" y="251424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В корнях с чередованием 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Е – И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 пишется 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И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, если после корня идет суффикс 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-А-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. В остальных случаях пишется 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-тер-(-тир-),-бер-(-бир-),-дер-(-дир-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-стел-(-стил-),-мер-(-мир-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-блест-(-блист-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10" descr="аним"/>
          <p:cNvPicPr/>
          <p:nvPr/>
        </p:nvPicPr>
        <p:blipFill>
          <a:blip r:embed="rId1"/>
          <a:stretch/>
        </p:blipFill>
        <p:spPr>
          <a:xfrm>
            <a:off x="152280" y="5562720"/>
            <a:ext cx="121932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4"/>
          <p:cNvSpPr txBox="1"/>
          <p:nvPr/>
        </p:nvSpPr>
        <p:spPr>
          <a:xfrm>
            <a:off x="1185840" y="1144440"/>
            <a:ext cx="677232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помни!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корнях с чередованием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а-(-я-) - -им-(-ин-)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ишутся -им-, -ин-,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сли после них есть 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уффикс А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" name="Picture 5" descr="аним"/>
          <p:cNvPicPr/>
          <p:nvPr/>
        </p:nvPicPr>
        <p:blipFill>
          <a:blip r:embed="rId1"/>
          <a:stretch/>
        </p:blipFill>
        <p:spPr>
          <a:xfrm>
            <a:off x="1828800" y="609480"/>
            <a:ext cx="1219320" cy="1295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c600"/>
                </a:solidFill>
                <a:latin typeface="Tahoma"/>
              </a:rPr>
              <a:t>Тренажё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61760" y="1066680"/>
            <a:ext cx="7543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Соб…ру урожай, уб…ри в комнате, зап..рай двери, прот…рай пыль, соб…рать грибы, зат…реть пятно, ум…рающий лебедь,  бл…стать на балу, заст…лить постель, изб…рать командира, нач…нать работу, пож…мать плечами, б…ру в руки, наб…раю в корзину, бл…стеть на солнц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7" name="Управляющая кнопка: далее 3"/>
          <p:cNvGrpSpPr/>
          <p:nvPr/>
        </p:nvGrpSpPr>
        <p:grpSpPr>
          <a:xfrm>
            <a:off x="6967440" y="6151680"/>
            <a:ext cx="2365560" cy="919080"/>
            <a:chOff x="6967440" y="6151680"/>
            <a:chExt cx="2365560" cy="919080"/>
          </a:xfrm>
        </p:grpSpPr>
        <p:pic>
          <p:nvPicPr>
            <p:cNvPr id="128" name="Управляющая кнопка: далее 3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6967440" y="6151680"/>
              <a:ext cx="236556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7162920" y="632448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b2bfe"/>
                  </a:solidFill>
                  <a:latin typeface="Tahoma"/>
                </a:rPr>
                <a:t>Проверить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slow"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761760"/>
            <a:ext cx="76964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Соб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е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ру урожай, уб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е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ри в комнате, зап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и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рай двери, прот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и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рай пыль, соб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и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рать грибы, зат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е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реть пятно, ум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и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рающий лебедь, бл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и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стать на балу, заст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е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лить постель, изб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и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рать командира, нач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и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нать работу, пож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и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мать плечами, б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е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ру в руки, наб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и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раю в корзину, бл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е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стеть на солнце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648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ru-RU" sz="5400" spc="-1" strike="noStrike">
                <a:solidFill>
                  <a:srgbClr val="ffcc00"/>
                </a:solidFill>
                <a:latin typeface="Tahoma"/>
              </a:rPr>
              <a:t>ЗА  РАБОТУ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291960"/>
            <a:ext cx="76960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Правописание корней с    чередованием гласных </a:t>
            </a:r>
            <a:r>
              <a:rPr b="1" lang="ru-RU" sz="4000" spc="-1" strike="noStrike">
                <a:solidFill>
                  <a:srgbClr val="00c600"/>
                </a:solidFill>
                <a:latin typeface="Tahoma"/>
              </a:rPr>
              <a:t>А - 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Запомни!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Правила правописания корней с чередованием </a:t>
            </a:r>
            <a:r>
              <a:rPr b="1" lang="ru-RU" sz="3200" spc="-1" strike="noStrike">
                <a:solidFill>
                  <a:srgbClr val="00c600"/>
                </a:solidFill>
                <a:latin typeface="Tahoma"/>
              </a:rPr>
              <a:t>А – О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 можно  объединить в две групп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- правописание корней зависит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c600"/>
                </a:solidFill>
                <a:latin typeface="Tahoma"/>
              </a:rPr>
              <a:t>от удар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- правописание корней зависит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c600"/>
                </a:solidFill>
                <a:latin typeface="Tahoma"/>
              </a:rPr>
              <a:t>от звука, следующего за корн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8288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4000" spc="-1" strike="noStrike">
                <a:solidFill>
                  <a:srgbClr val="00c600"/>
                </a:solidFill>
                <a:latin typeface="Tahoma"/>
              </a:rPr>
              <a:t>От места ударения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зависит правописание корней -гар-(-гор-),</a:t>
            </a:r>
            <a:br>
              <a:rPr sz="4000"/>
            </a:b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 -зар-(-зор-), -клан-(-клон-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30481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В корне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-гар-(-гор-)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 под ударением пишется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А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, без ударения –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О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В корне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-зор-(-зар-)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 под ударением пишется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О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, без ударения –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А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В корне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-клон-(-клан-)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 под ударением пишется и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А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, и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О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, а без ударения – только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6"/>
          <p:cNvSpPr txBox="1"/>
          <p:nvPr/>
        </p:nvSpPr>
        <p:spPr>
          <a:xfrm>
            <a:off x="914400" y="914400"/>
            <a:ext cx="7362720" cy="49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</a:t>
            </a: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помни!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этих корнях написания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висят от места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дарения,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 не проверяются им!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Picture 7" descr="аним"/>
          <p:cNvPicPr/>
          <p:nvPr/>
        </p:nvPicPr>
        <p:blipFill>
          <a:blip r:embed="rId1"/>
          <a:stretch/>
        </p:blipFill>
        <p:spPr>
          <a:xfrm>
            <a:off x="1600200" y="609480"/>
            <a:ext cx="148608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c600"/>
                </a:solidFill>
                <a:latin typeface="Tahoma"/>
              </a:rPr>
              <a:t>Тренажё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Летний заг…р, заг…реть</a:t>
            </a:r>
            <a:r>
              <a:rPr b="0" lang="en-US" sz="36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на пляже, утренняя з…ря, вечерняя з…рька, полыхает з…рницами, низкий покл…н, первое скл…нение, уг…рный газ, накл…н влево, прикл…нить голову, разг…рается в печи, з…ревой закат, кл…няться при встрече, накл…нение глагола, наг…р на свеч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6" descr="аним"/>
          <p:cNvPicPr/>
          <p:nvPr/>
        </p:nvPicPr>
        <p:blipFill>
          <a:blip r:embed="rId1"/>
          <a:stretch/>
        </p:blipFill>
        <p:spPr>
          <a:xfrm>
            <a:off x="7658280" y="0"/>
            <a:ext cx="14857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95" name="Управляющая кнопка: далее 4"/>
          <p:cNvGrpSpPr/>
          <p:nvPr/>
        </p:nvGrpSpPr>
        <p:grpSpPr>
          <a:xfrm>
            <a:off x="7199280" y="6072120"/>
            <a:ext cx="2133720" cy="998640"/>
            <a:chOff x="7199280" y="6072120"/>
            <a:chExt cx="2133720" cy="998640"/>
          </a:xfrm>
        </p:grpSpPr>
        <p:pic>
          <p:nvPicPr>
            <p:cNvPr id="96" name="Управляющая кнопка: далее 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7199280" y="6072120"/>
              <a:ext cx="213372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7391520" y="624852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b2bfe"/>
                  </a:solidFill>
                  <a:latin typeface="Tahoma"/>
                </a:rPr>
                <a:t>Проверить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slow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457200" y="1295280"/>
            <a:ext cx="807732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Летний заг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р, заг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о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реть</a:t>
            </a:r>
            <a:r>
              <a:rPr b="0" lang="en-US" sz="36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на пляже, утренняя з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ря, вечерняя з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о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рька, полыхает з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рницами, низкий покл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о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н, первое скл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о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нение, уг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рный газ, накл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о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н влево, прикл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о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нить голову, разг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о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рается в печи, з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ревой закат, кл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няться при встрече, накл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о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нение глагола, наг</a:t>
            </a: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р на свеч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5" descr="аним"/>
          <p:cNvPicPr/>
          <p:nvPr/>
        </p:nvPicPr>
        <p:blipFill>
          <a:blip r:embed="rId1"/>
          <a:stretch/>
        </p:blipFill>
        <p:spPr>
          <a:xfrm>
            <a:off x="7315200" y="228600"/>
            <a:ext cx="148608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19047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c600"/>
                </a:solidFill>
                <a:latin typeface="Tahoma"/>
              </a:rPr>
              <a:t>От звука, следующего за корнем</a:t>
            </a: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,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зависит правописание корней </a:t>
            </a:r>
            <a:br>
              <a:rPr sz="4000"/>
            </a:b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-лаг-(-лож-), -кас-(-кос-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31237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В корнях 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-лаг-(-лож-), -кас-(-кос-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пишется 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, если за корнем следует суффикс 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. Если этого суффикса нет, то в корне пишется 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7"/>
          <p:cNvSpPr txBox="1"/>
          <p:nvPr/>
        </p:nvSpPr>
        <p:spPr>
          <a:xfrm>
            <a:off x="1200240" y="944640"/>
            <a:ext cx="6743520" cy="49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</a:t>
            </a: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помни!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 глаголов  с корнем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лаг-(-лож-)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з приставок.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правильно: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ожу книгу на стол!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3" name="Picture 8" descr="аним"/>
          <p:cNvPicPr/>
          <p:nvPr/>
        </p:nvPicPr>
        <p:blipFill>
          <a:blip r:embed="rId1"/>
          <a:stretch/>
        </p:blipFill>
        <p:spPr>
          <a:xfrm>
            <a:off x="1828800" y="609480"/>
            <a:ext cx="148608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3962160" cy="762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c600"/>
                </a:solidFill>
                <a:latin typeface="Tahoma"/>
              </a:rPr>
              <a:t>Тренажё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3808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Написать изл…жение, прил…жение к учебнику, предл…гать помощь, к…снуться новой темы, прик…саться к стене, разобрать предл…жение, пол…жить на стол, пол…гаться на удачу, легкое прик…сновение, к…сание мяча рукой, имя прил…гательное, высказать предпол…жен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6" name="Управляющая кнопка: далее 3"/>
          <p:cNvGrpSpPr/>
          <p:nvPr/>
        </p:nvGrpSpPr>
        <p:grpSpPr>
          <a:xfrm>
            <a:off x="7047000" y="6072120"/>
            <a:ext cx="2286000" cy="998640"/>
            <a:chOff x="7047000" y="6072120"/>
            <a:chExt cx="2286000" cy="998640"/>
          </a:xfrm>
        </p:grpSpPr>
        <p:pic>
          <p:nvPicPr>
            <p:cNvPr id="107" name="Управляющая кнопка: далее 3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047000" y="6072120"/>
              <a:ext cx="228600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7238880" y="6248520"/>
              <a:ext cx="1905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b2bfe"/>
                  </a:solidFill>
                  <a:latin typeface="Tahoma"/>
                </a:rPr>
                <a:t>Проверить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slow">
    <p:pull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2-12T12:42:31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