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09AF-F21E-4918-A7DE-796AAD03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7048-26B6-4D66-A07C-BD7A826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9338-A42C-4E2A-9A31-7F563ADD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BF30-320D-447B-94B2-08A197B5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7B0F-DA4B-4E55-A878-E5E81528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486D-4C84-485F-9857-44B37A93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629B-C2D2-4574-A921-AE973A7A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E255-42E9-4CB3-ACC3-020D5FC5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DAFB-6422-4DB5-B4AA-BAD65E7D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42D5-DAFE-43D8-94CC-A6AFE10E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16DF-0D10-4E4E-87CA-6353F1E7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5331-C07D-4479-91EA-D2F19743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0D75-6DE1-4629-A18A-0311E95D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F57E-0963-4ACC-A11E-4A3813B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AAFF-F2FA-49D6-95F9-35C95FD3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679D-095C-45F9-9F58-3B594D47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FE9F-C3DD-4183-B0ED-3FD894AC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9914-1758-486F-8674-DC39F25A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B1A0-A8F4-42A3-8A39-6D7DA7C5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A2F6-9903-4511-8188-3DB458DB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26F7-2F6F-4069-81DC-146403E6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F371-49D2-4E0B-8DEA-9E1AE8F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4935-D47B-4C07-AB72-52049524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03CD-F3CA-4D33-A948-C837D724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6EF2-958B-41C7-9566-B4CD1FDAC34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FEDE-88A2-464E-BFCF-835C6C63653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original"/>
          <p:cNvPicPr/>
          <p:nvPr/>
        </p:nvPicPr>
        <p:blipFill>
          <a:blip r:embed="rId1"/>
          <a:stretch/>
        </p:blipFill>
        <p:spPr>
          <a:xfrm>
            <a:off x="2050920" y="0"/>
            <a:ext cx="5329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ccff"/>
                </a:solidFill>
                <a:latin typeface="Goudy Stout"/>
              </a:rPr>
              <a:t>Милые красавицы Ро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то время я гостила на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не дали имя при крещенье -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ладчайшее для губ людских и сл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ак дивно знала я земную рад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праздников считала не двенадц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 столько, сколько было дней в 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это за 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ладчайше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 им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автор этих сл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ЧТО В ИМЕНИ ТЕБЕ МОЁМ…?»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Анна Андреевна Ахматова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altman"/>
          <p:cNvPicPr/>
          <p:nvPr/>
        </p:nvPicPr>
        <p:blipFill>
          <a:blip r:embed="rId1"/>
          <a:stretch/>
        </p:blipFill>
        <p:spPr>
          <a:xfrm rot="423000">
            <a:off x="4853160" y="1688760"/>
            <a:ext cx="3241440" cy="4475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091643f7-b"/>
          <p:cNvPicPr/>
          <p:nvPr/>
        </p:nvPicPr>
        <p:blipFill>
          <a:blip r:embed="rId2"/>
          <a:stretch/>
        </p:blipFill>
        <p:spPr>
          <a:xfrm rot="21075000">
            <a:off x="1031400" y="1762200"/>
            <a:ext cx="3457800" cy="44751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точка Незванова, героиня одноимённого произведения Ф.М. Достоевского, и Ася, героиня одноименной повести И.С. Тургенева, - это интерпретация одного и того же им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г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57"/>
          <p:cNvPicPr/>
          <p:nvPr/>
        </p:nvPicPr>
        <p:blipFill>
          <a:blip r:embed="rId1"/>
          <a:stretch/>
        </p:blipFill>
        <p:spPr>
          <a:xfrm rot="996600">
            <a:off x="6588000" y="2060640"/>
            <a:ext cx="1882800" cy="3162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59873-410710-19-obl-l"/>
          <p:cNvPicPr/>
          <p:nvPr/>
        </p:nvPicPr>
        <p:blipFill>
          <a:blip r:embed="rId2"/>
          <a:stretch/>
        </p:blipFill>
        <p:spPr>
          <a:xfrm rot="20847600">
            <a:off x="4284720" y="1844280"/>
            <a:ext cx="2552760" cy="3816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о, адресованное этой героине рассказа А.И. Куприна, заканчивалось такими словами: «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а святится имя твоё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имя геро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называется произвед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есть А.И. Куприна 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ранатовый брасле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ера Николаевна Ше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22" descr="46479987"/>
          <p:cNvPicPr/>
          <p:nvPr/>
        </p:nvPicPr>
        <p:blipFill>
          <a:blip r:embed="rId1"/>
          <a:stretch/>
        </p:blipFill>
        <p:spPr>
          <a:xfrm rot="21113400">
            <a:off x="395280" y="1341360"/>
            <a:ext cx="2952720" cy="36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1001291349"/>
          <p:cNvPicPr/>
          <p:nvPr/>
        </p:nvPicPr>
        <p:blipFill>
          <a:blip r:embed="rId2"/>
          <a:stretch/>
        </p:blipFill>
        <p:spPr>
          <a:xfrm>
            <a:off x="2771640" y="2421000"/>
            <a:ext cx="2305080" cy="3600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.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Конкурс «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ти строки принадлежат перу русского поэта 18 века Богданович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из знаменитых писателей первой половины 19 века взял эту цитату в качестве эпиграфа к одной из своих повестей? Как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10" descr="R_805"/>
          <p:cNvPicPr/>
          <p:nvPr/>
        </p:nvPicPr>
        <p:blipFill>
          <a:blip r:embed="rId1"/>
          <a:stretch/>
        </p:blipFill>
        <p:spPr>
          <a:xfrm>
            <a:off x="4859280" y="1844640"/>
            <a:ext cx="3241800" cy="3960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03185"/>
          <p:cNvPicPr/>
          <p:nvPr/>
        </p:nvPicPr>
        <p:blipFill>
          <a:blip r:embed="rId1"/>
          <a:stretch/>
        </p:blipFill>
        <p:spPr>
          <a:xfrm rot="21046800">
            <a:off x="539640" y="1916280"/>
            <a:ext cx="2806920" cy="4176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579255"/>
          <p:cNvPicPr/>
          <p:nvPr/>
        </p:nvPicPr>
        <p:blipFill>
          <a:blip r:embed="rId2"/>
          <a:stretch/>
        </p:blipFill>
        <p:spPr>
          <a:xfrm rot="583200">
            <a:off x="5940000" y="1915920"/>
            <a:ext cx="2592360" cy="4168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pushkin"/>
          <p:cNvPicPr/>
          <p:nvPr/>
        </p:nvPicPr>
        <p:blipFill>
          <a:blip r:embed="rId3"/>
          <a:stretch/>
        </p:blipFill>
        <p:spPr>
          <a:xfrm>
            <a:off x="3132000" y="1557360"/>
            <a:ext cx="3044880" cy="3384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«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очь воеводы подошла к нему, надела ему на голову свою блистательную диадему, повесила на губы ему серьги и накинула на него кисейную прозрачную шизметку с фестонами, вышитыми золотом. Она убирала его и делала с ним тысячу разных глупостей с развязностию дитяти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ком художественном произведении описывается это переодевание? Назовите участников иг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gogol_002"/>
          <p:cNvPicPr/>
          <p:nvPr/>
        </p:nvPicPr>
        <p:blipFill>
          <a:blip r:embed="rId1"/>
          <a:stretch/>
        </p:blipFill>
        <p:spPr>
          <a:xfrm rot="20838600">
            <a:off x="900000" y="1557360"/>
            <a:ext cx="3095640" cy="4465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653064"/>
          <p:cNvPicPr/>
          <p:nvPr/>
        </p:nvPicPr>
        <p:blipFill>
          <a:blip r:embed="rId2"/>
          <a:stretch/>
        </p:blipFill>
        <p:spPr>
          <a:xfrm rot="691800">
            <a:off x="5060880" y="1555560"/>
            <a:ext cx="2982960" cy="4392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рафиня стала раздеваться пред зеркалом. Откололи с неё чепец, украшенный розами, сняли напудренный парик с её седой и плотно остриженной головы. Булавки дождем сыпались около неё. Желтое платье, расшитое серебром, упало к её опухлым ногам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эта героиня? Кто стал невольным свидетелем этой сцен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kramskoy_work_200712100925340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76ea5"/>
                </a:solidFill>
                <a:latin typeface="Tahoma"/>
              </a:rPr>
              <a:t>Литературная игра</a:t>
            </a: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dpk0"/>
          <p:cNvPicPr/>
          <p:nvPr/>
        </p:nvPicPr>
        <p:blipFill>
          <a:blip r:embed="rId1"/>
          <a:stretch/>
        </p:blipFill>
        <p:spPr>
          <a:xfrm rot="20446200">
            <a:off x="1187280" y="2133360"/>
            <a:ext cx="3705480" cy="33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queen_of_spades_05"/>
          <p:cNvPicPr/>
          <p:nvPr/>
        </p:nvPicPr>
        <p:blipFill>
          <a:blip r:embed="rId2"/>
          <a:stretch/>
        </p:blipFill>
        <p:spPr>
          <a:xfrm>
            <a:off x="5580000" y="1628640"/>
            <a:ext cx="2737080" cy="4176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 двор его домика, запряженная четвернёй, въезжала двуместная карета… Ливрейный лакей отворял дверцы кареты; дама под черным вуалем, в черной мантилье, выходила из неё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Я…,- промолвила она. - Евгений Васильевич жив? Вы его отец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эта дама? С какой целью она приехал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1000182358"/>
          <p:cNvPicPr/>
          <p:nvPr/>
        </p:nvPicPr>
        <p:blipFill>
          <a:blip r:embed="rId1"/>
          <a:stretch/>
        </p:blipFill>
        <p:spPr>
          <a:xfrm rot="1070400">
            <a:off x="4858920" y="1844640"/>
            <a:ext cx="2708280" cy="394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5"/>
          <p:cNvPicPr/>
          <p:nvPr/>
        </p:nvPicPr>
        <p:blipFill>
          <a:blip r:embed="rId2"/>
          <a:stretch/>
        </p:blipFill>
        <p:spPr>
          <a:xfrm>
            <a:off x="755640" y="1844640"/>
            <a:ext cx="3460680" cy="40989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а, парубки, вам ли я чета? Вы поглядите на меня, - продолжала хорошенькая кокетка, - как я плавно выступаю; у меня сорочка шита красным шелком. А какие у меня ленты на голове! Век вам не видать богаче галуна! Все это накупил мне отец мой для того, чтобы на мне женился самый лучший молодец на свете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эта красавиц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305168"/>
          <p:cNvPicPr/>
          <p:nvPr/>
        </p:nvPicPr>
        <p:blipFill>
          <a:blip r:embed="rId1"/>
          <a:stretch/>
        </p:blipFill>
        <p:spPr>
          <a:xfrm rot="20555400">
            <a:off x="1263240" y="1947600"/>
            <a:ext cx="3301920" cy="3975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index_pic"/>
          <p:cNvPicPr/>
          <p:nvPr/>
        </p:nvPicPr>
        <p:blipFill>
          <a:blip r:embed="rId2"/>
          <a:stretch/>
        </p:blipFill>
        <p:spPr>
          <a:xfrm>
            <a:off x="4643280" y="1484280"/>
            <a:ext cx="3673800" cy="4535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Женщина, любовь и цвет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омашнее задание коман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-е классы - инсценировка отрывка из романа И.А.Гончаров «Обломов» -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бъяснение Ольги Ильинской и Ильи Облом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11" descr="p_f"/>
          <p:cNvPicPr/>
          <p:nvPr/>
        </p:nvPicPr>
        <p:blipFill>
          <a:blip r:embed="rId1"/>
          <a:stretch/>
        </p:blipFill>
        <p:spPr>
          <a:xfrm>
            <a:off x="4356000" y="1700280"/>
            <a:ext cx="4788000" cy="5157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Женщина, любовь и цвет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1 клас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сценировка отрывка из романа М.А. Булгакова «Мастер и Маргарита» -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треча Мастера и Маргар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10" descr="25243"/>
          <p:cNvPicPr/>
          <p:nvPr/>
        </p:nvPicPr>
        <p:blipFill>
          <a:blip r:embed="rId1"/>
          <a:stretch/>
        </p:blipFill>
        <p:spPr>
          <a:xfrm>
            <a:off x="0" y="1557360"/>
            <a:ext cx="4716360" cy="5300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.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елодии любви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ая литературная героиня  или просто знаменитая  женщина могла слушать или исполнять это произведе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4" descr="133409552"/>
          <p:cNvPicPr/>
          <p:nvPr/>
        </p:nvPicPr>
        <p:blipFill>
          <a:blip r:embed="rId1"/>
          <a:stretch/>
        </p:blipFill>
        <p:spPr>
          <a:xfrm>
            <a:off x="4572000" y="1557360"/>
            <a:ext cx="4392720" cy="5111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Мелодии любв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1096865"/>
          <p:cNvPicPr/>
          <p:nvPr/>
        </p:nvPicPr>
        <p:blipFill>
          <a:blip r:embed="rId1"/>
          <a:stretch/>
        </p:blipFill>
        <p:spPr>
          <a:xfrm rot="688200">
            <a:off x="3851280" y="2997360"/>
            <a:ext cx="3078000" cy="3241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fmt_53_granatovy"/>
          <p:cNvPicPr/>
          <p:nvPr/>
        </p:nvPicPr>
        <p:blipFill>
          <a:blip r:embed="rId2"/>
          <a:stretch/>
        </p:blipFill>
        <p:spPr>
          <a:xfrm>
            <a:off x="5796000" y="1628640"/>
            <a:ext cx="3095640" cy="3240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515786"/>
          <p:cNvPicPr/>
          <p:nvPr/>
        </p:nvPicPr>
        <p:blipFill>
          <a:blip r:embed="rId3"/>
          <a:stretch/>
        </p:blipFill>
        <p:spPr>
          <a:xfrm>
            <a:off x="324000" y="1628640"/>
            <a:ext cx="3484440" cy="4319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«Слова любви Вы говорили мне…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анды представляют по одному чтецу, в исполнении которых звучат стихотворения русских поэтов о любви к женщине, о ее красоте и очаров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2" descr="43288195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5445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– женщина, ты – книга между кни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– свёрнутый, запечатленный свито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его строках и дум, и слов избыто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его листах безумен каждый ми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– женщина, и этим ты пра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т века убрана короной звезд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– в наших безднах образ божеств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ы для тебя влечем ярем желез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ебе мы служим, тверди горб долб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 молимся – от века! – за тебя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Я. Брю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ачарована, заколдова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ся ты словно в оковы закова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 ветром в поле когда-то повенча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рагоценная моя женщ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е веселая, не печальна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ловно с темного неба сошедша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и песнь моя обручальна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 звезда моя сумасшедш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Я склонюсь над твоими коленям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ниму их с неистовой силою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 слезами и стихотворень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ожгу тебя горькую, милую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МИЛЫЕ  КРАСАВИЦЫ  РОССИ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СПАСИБО  ЗА  УЧАСТ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5" descr="99676953"/>
          <p:cNvPicPr/>
          <p:nvPr/>
        </p:nvPicPr>
        <p:blipFill>
          <a:blip r:embed="rId1"/>
          <a:stretch/>
        </p:blipFill>
        <p:spPr>
          <a:xfrm>
            <a:off x="1908000" y="2565360"/>
            <a:ext cx="4969080" cy="3527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Разминка команд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 Ты - книга между книг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игрок команды называет произведение русской литературы, в названии  которого есть женское имя или указание на роль женщины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0" descr="20081006202612"/>
          <p:cNvPicPr/>
          <p:nvPr/>
        </p:nvPicPr>
        <p:blipFill>
          <a:blip r:embed="rId1"/>
          <a:stretch/>
        </p:blipFill>
        <p:spPr>
          <a:xfrm>
            <a:off x="1042920" y="1916280"/>
            <a:ext cx="2914560" cy="4176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.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Конкурс «Что в имени тебе моем…»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ки каждой команды угадывают имя героини произведения и его а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6" descr="b2e3b905-2e73-4d46-a106-870385a0efb1"/>
          <p:cNvPicPr/>
          <p:nvPr/>
        </p:nvPicPr>
        <p:blipFill>
          <a:blip r:embed="rId1"/>
          <a:stretch/>
        </p:blipFill>
        <p:spPr>
          <a:xfrm>
            <a:off x="971640" y="1628640"/>
            <a:ext cx="3168720" cy="4176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первые именем таки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траницы нежные ром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ы своевольно освят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что ж? Оно приятно, звуч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о с ним, я знаю, неразлуч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оспоминанье стар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ль девичь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е имя имел ввиду автор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833468607"/>
          <p:cNvPicPr/>
          <p:nvPr/>
        </p:nvPicPr>
        <p:blipFill>
          <a:blip r:embed="rId1"/>
          <a:stretch/>
        </p:blipFill>
        <p:spPr>
          <a:xfrm rot="21057000">
            <a:off x="892080" y="1512720"/>
            <a:ext cx="3167280" cy="4508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253421817"/>
          <p:cNvPicPr/>
          <p:nvPr/>
        </p:nvPicPr>
        <p:blipFill>
          <a:blip r:embed="rId2"/>
          <a:stretch/>
        </p:blipFill>
        <p:spPr>
          <a:xfrm rot="597000">
            <a:off x="4995360" y="1482480"/>
            <a:ext cx="3157560" cy="45068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то создан из камня, кто создан из глины,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 я серебрюсь и сверкаю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не дело – измена, мне имя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Я – бренная пена морск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имя автора этих ст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Марина Ивановна Цветаева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6fe028cffbcd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608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3:05:53Z</dcterms:created>
  <dc:creator>Zver</dc:creator>
  <dc:description/>
  <dc:language>en-US</dc:language>
  <cp:lastModifiedBy>Admin</cp:lastModifiedBy>
  <dcterms:modified xsi:type="dcterms:W3CDTF">2010-10-08T06:57:04Z</dcterms:modified>
  <cp:revision>27</cp:revision>
  <dc:subject/>
  <dc:title>Милые красавицы России.</dc:title>
</cp:coreProperties>
</file>