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A84E-BD8A-4904-ABA4-E382971A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9CB8-701E-427A-9FF2-B9F94795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426A-F1DA-4F5E-8AFA-4DAAFA9A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5BA3-5F13-4EBA-9C98-3FE492D8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74A1-426B-495D-8CEE-2BC34C25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BD3-1C53-439A-8EE9-120610C2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BB6C-B6DE-4E71-B1CC-BE62FEB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95D-71E8-4423-8FC1-92487436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958-459E-4ACB-A05D-0A49CAA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396-72DE-4B54-8776-C373BFF9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E42-051F-482D-853B-A8973CB7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CA57-60A3-471B-907B-C9DA5F1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F28D-90E6-4D68-A423-CD6492D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C020-3756-4A07-AC00-72A18DFC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2E1-6E1A-463B-80E3-BC454948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B78-77E3-4174-B649-2F416A0C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984-DD09-4DC4-9AB1-899B0874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A534-E149-43FA-8137-5E11B86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99BD-200B-4CDA-84A8-C9F01FB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677B-8BF1-4A7A-88F6-8DB1B01F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5E10-BCCD-4652-8A6A-35C3D731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5931-C540-4DC5-874E-2CC804B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D8E2-0C58-47E8-9BDE-7DBD8A9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09DF-DF44-49DA-86BE-096B804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B22-CE74-4F4A-A8DE-CE51E23E17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20F-DB33-48EF-8835-E123FC03D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ccff"/>
                </a:solidFill>
                <a:latin typeface="Arial"/>
              </a:rPr>
              <a:t>Правописание суффиксов в разных частях реч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14400" y="184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Прилагательные с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ом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ий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 им.и вин. п. имеют только краткую форму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медвеж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й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медвеж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медвеж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медвеж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лис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й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лис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лис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лис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Два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 (нн)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пишетс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В прилагательных, образованных с помощью </a:t>
            </a: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а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-н-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от существительных с основой на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: сон – со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ый, весна – весе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В прилагательных, образованных с помощью суффиксов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-енн, -о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: солома – солом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е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ый, экскурсия – экскурси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о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ый.                          </a:t>
            </a: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Исключения: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ветре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В кратких прилагательных, образованных от полных, имеющих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два н: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дли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ая дорога – дорога дли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нн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дно н пишетс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 прилагательных, образованных с помощью суффикс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ин-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: гусь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гус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ебедь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ебед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 прилагательных, образованных с помощью суффикса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-ан- (-ян-)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кожа – кож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, серебро – серебр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Исключения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стекл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н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, олов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н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, дерев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н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 прилагательных, не имеющих суффикса: ю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ый садовод, рум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ое ли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Суффикс -к- пишетс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В качественных прилагательных, которые имеют краткую форму: низ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низок, вяз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вязок, дерз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дер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В некоторых относительных прилагательных, образованных от существительных с основой на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, ч, ц: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грец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грек, ткац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ткач, немец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немец.                                                                 В относительных прилагательных </a:t>
            </a: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пишется суффикс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-ск-: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 матрос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с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матрос, кавказ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ск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ий – Кав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Гласная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о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после шипящих в   суффикса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Под ударением в суффиксах существительных, прилагательных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наречий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медвеж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онок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камыш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ов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ый, свеж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о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Исключение: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 ещ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Гласная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е </a:t>
            </a: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после шипящих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суффиксах.                                                         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В безударных суффиксах существительных, прилагательных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наречий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горош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ек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груш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ев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ый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пугаю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щ</a:t>
            </a:r>
            <a:r>
              <a:rPr b="0" i="1" lang="en-US" sz="2800" spc="-1" strike="noStrike">
                <a:solidFill>
                  <a:srgbClr val="ccccff"/>
                </a:solidFill>
                <a:latin typeface="Arial"/>
              </a:rPr>
              <a:t>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Гласная </a:t>
            </a:r>
            <a:r>
              <a:rPr b="0" i="1" lang="en-US" sz="3200" spc="-1" strike="noStrike">
                <a:solidFill>
                  <a:srgbClr val="800080"/>
                </a:solidFill>
                <a:latin typeface="Arial"/>
              </a:rPr>
              <a:t>ё</a:t>
            </a: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 после шипящих </a:t>
            </a:r>
            <a:br>
              <a:rPr sz="3200"/>
            </a:b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в суффикса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 суффиксах глаголов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раскорч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ёвы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Гласная 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е (ё)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 после шипящих в суффикс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 суффиксах отглагольных существительных, прилагательных, страдат. причастий прош. вр.: сгущ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ёнк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а, туш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ён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ое, реш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ённ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Гласная</a:t>
            </a:r>
            <a:r>
              <a:rPr b="0" i="1" lang="en-US" sz="3200" spc="-1" strike="noStrike">
                <a:solidFill>
                  <a:srgbClr val="800080"/>
                </a:solidFill>
                <a:latin typeface="Arial"/>
              </a:rPr>
              <a:t> ё </a:t>
            </a: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после шипящих </a:t>
            </a:r>
            <a:br>
              <a:rPr sz="3200"/>
            </a:b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в суффикса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В суффиксе -ёр существительных: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ухаж</a:t>
            </a:r>
            <a:r>
              <a:rPr b="0" i="1" lang="en-US" sz="3200" spc="-1" strike="noStrike">
                <a:solidFill>
                  <a:srgbClr val="800080"/>
                </a:solidFill>
                <a:latin typeface="Arial"/>
              </a:rPr>
              <a:t>ёр</a:t>
            </a:r>
            <a:r>
              <a:rPr b="0" i="1" lang="en-US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1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бразуйте имена существительные с помощью данных суффиксов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ик, -ек, -чик; -щ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т приведённых ниже слов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апельсин, барабан, диван, ёж, карандаш, кирпич, ножик, пряник, помидор, палец, рукав, стакан, стул, сто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9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2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бразуйте имена существительные с помощью одного из суффиксов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ишк, -ышк, -юшк.                                          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ор, горло, зверь, перо, ребро, сарай, соловей, доля, хле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0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3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бразуйте имена прилагательные с суффиксами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-ив, -лив, -чив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т приведённых ниже с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любиться, биржа, доверять, ворчать, терпеть, уступ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7c80"/>
                </a:solidFill>
                <a:uFillTx/>
                <a:latin typeface="Arial"/>
              </a:rPr>
              <a:t>Суффикс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ccccff"/>
                </a:solidFill>
                <a:latin typeface="Arial"/>
              </a:rPr>
              <a:t>значимая часть слова, которая стоит после корня и обычно служит для образования новых слов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4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Вставьте пропущенные буквы.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Бо_вой, беж_вый, дел_вой, заботл_вый, луг_вой, рыж_ватый, свинц_вый, кош_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5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Вставьте, где необходимо, пропущенные буквы.             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Безымян_ый, ветрен_ый, глинян_ый, деревян_ый, длин_ый, жжён_ый, искрен_ий, кожан_ый, камен_ый, карман_ый, оловян_ый, осен_ий, цен_ый, серебрян_ый, сон_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2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Упражнение 6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Вставьте  пропущенные буквы. </a:t>
            </a:r>
            <a:r>
              <a:rPr b="0" i="1" lang="ru-RU" sz="3200" spc="-1" strike="noStrike">
                <a:solidFill>
                  <a:srgbClr val="ccccff"/>
                </a:solidFill>
                <a:latin typeface="Arial"/>
              </a:rPr>
              <a:t>Волч_нок, крюч_к, долж_к, горяч_, камыш_вый, сраж_нный, ещ_, книж_нка, жж_ный, копч_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3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ученицы 9 класса Жуковой  Евг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уществуют основные группы суффиксов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ы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, образующие существительные со значением лица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-ист, -тель, -чик, -щик, -ник, -к-</a:t>
            </a: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: футбол – футбол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ст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учить - учи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ль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грузить – груз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камень – камен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щ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двор – двор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; незнакомый – незнаком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ы,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бразующие имена существительные с отвлечённым значением</a:t>
            </a:r>
            <a:r>
              <a:rPr b="0" i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ость, -от(а), -ени(е)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смелый – смелость; чист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– чист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т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усвоить – усво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ни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ы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, образующие существительные со значением конкретных предметов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ник, -лк(а), -к(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чай – чай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печь – печ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зажигать – зажига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л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ы,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образующие имена существительные со значением уменьшительным, ласкательным, увеличительным, пренебрежительным: 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-, оньк-, еньк-, ик-, ек-, ышк-, ушк-, юшк-, иц-, ищ-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есня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– песенка, река – ре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реч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нь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берёза – берёз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нь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ключ – ключ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звонок – звоноч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, гнездо – гнёзд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ыш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о, корова – коров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уш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, дом – дом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ш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о, платье – плать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ц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е, дом – дом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щ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е, дядя – дяд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юшк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ccff"/>
                </a:solidFill>
                <a:uFillTx/>
                <a:latin typeface="Arial"/>
              </a:rPr>
              <a:t>Правил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Буква ь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 пишется перед </a:t>
            </a: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ами: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ик, -щ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только пос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Пал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чик, стул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чик, пил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щик, стекол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щик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но одува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ч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, балко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ч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, ба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щ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, каме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щ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Суффикс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-е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пишется в тех словах, в которых при склонении гласный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ыпадает.                          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плато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- плато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ч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а, сыно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– сыно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ч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91296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пишется в тех словах, которые при склонении сохраняют и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клю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– клю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ка, шалаш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к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– шалаш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Перед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ом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-л-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пишется та же гласная, что и перед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т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в инфинитиве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вид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ь – вид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, слыш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ь – слыш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, кл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ь – кл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, над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ься – над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чик-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пишется у существительных основа которых оканчивается на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д, т, с, ж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буфетчик, возчик, подпис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Суффикс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щик-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пишется у существительных основа которых оканчивается на другие согласные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(кроме д, т, з, с, ж):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дрессировщик, гардеробщ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ccccff"/>
                </a:solidFill>
                <a:uFillTx/>
                <a:latin typeface="Arial"/>
              </a:rPr>
              <a:t>Суффиксы </a:t>
            </a: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–ова-, -ева-, -ыва-, -ива-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в глаголах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Если глагол в 1-м лице оканчивается н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ую(-юю),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то в инфинитиве (и в формах прош. вр.) нужно писать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ова(-ева)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но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ую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– но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в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ь – ноч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ев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Если глагол в 1-м лице оканчивается на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–ываю(-иваю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), </a:t>
            </a:r>
            <a:r>
              <a:rPr b="0" i="1" lang="ru-RU" sz="2800" spc="-1" strike="noStrike">
                <a:solidFill>
                  <a:srgbClr val="ccccff"/>
                </a:solidFill>
                <a:latin typeface="Arial"/>
              </a:rPr>
              <a:t>то в инфинитиве (и в форме прош.вр.) нужно писать </a:t>
            </a:r>
            <a:r>
              <a:rPr b="0" i="1" lang="ru-RU" sz="2800" spc="-1" strike="noStrike" u="sng">
                <a:solidFill>
                  <a:srgbClr val="ccccff"/>
                </a:solidFill>
                <a:uFillTx/>
                <a:latin typeface="Arial"/>
              </a:rPr>
              <a:t>суффикс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-ыва(-ива):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приказываю – приказывать – приказыв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2:28:02Z</dcterms:created>
  <dc:creator> IVAN</dc:creator>
  <dc:description/>
  <dc:language>en-US</dc:language>
  <cp:lastModifiedBy>1111</cp:lastModifiedBy>
  <dcterms:modified xsi:type="dcterms:W3CDTF">2010-12-17T01:49:50Z</dcterms:modified>
  <cp:revision>21</cp:revision>
  <dc:subject/>
  <dc:title>Правописание суффиксов в разных частях речи</dc:title>
</cp:coreProperties>
</file>