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D8C-5DE7-4793-A6D8-E94A0268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81F-7981-4539-8BC8-AA99FC3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819-3F8D-4B64-B1FC-EF124EAE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29B-F304-4B6D-AEE3-E670F55A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50CC-3419-4B3E-B75B-E1EBD729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D3D0-479F-4712-8EE2-B5DE1558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0730-DFAF-4A3A-932C-47A56D03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7B9C-DE09-4046-BA72-70D57D0A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CAE0-8A78-4FE3-89C6-39F703B3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94A4-726B-4B97-AC1D-542DE70A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F63E-B77D-4EF2-9369-056C2EDC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614-B897-421D-AD43-6349008B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D68C-B601-416E-AF4C-93652E7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D94A-6B51-44F8-9052-BD1607D1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8161-EFAD-4FD2-BFC6-1F40D609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7C21-1DE0-4854-8163-236EB559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03CF-83B0-4FA3-83AF-C892F2D2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85A-A717-46FC-B36E-9D78F7E1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0C1-2215-434A-BDCE-4BE89CB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77C-5B3B-406B-B0ED-E428CCE8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23D-4581-48AF-B3FC-B49C92E2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7A5-CFDF-447F-84A1-63A3D4B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306-E182-4CF0-AA91-C657461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EC2-D9C4-4F70-AA3E-8B42367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FF31-FA91-40EC-8CF0-491522701E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F13-7BFE-4B52-BC29-B3D0263F7E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Особенности образного строя народной лирической песни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(материалы к урокам)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vasneztov2"/>
          <p:cNvPicPr/>
          <p:nvPr/>
        </p:nvPicPr>
        <p:blipFill>
          <a:blip r:embed="rId1"/>
          <a:stretch/>
        </p:blipFill>
        <p:spPr>
          <a:xfrm>
            <a:off x="142920" y="1047600"/>
            <a:ext cx="8858160" cy="47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трастное соотношение символов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523880"/>
          <a:ext cx="7772400" cy="4876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имволы радости, счастья, доб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имволы горя, несчастья, тоски, з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Солнце, звезды, месяц, ясное неб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Тьма,тучи, дождь, снег, сильный ветер, закат солнца, падение звезды, угасание све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Цветущий сад, зеленеющие деревья, распускающиеся  цве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Сохнущий сад, шумящие деревья, клонящиеся к земле, теряющие лист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Чистая прозрачная в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Мутная, бушующая вода, роса, разлив реки, зыбучие бол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трастное соотношение символов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523880"/>
          <a:ext cx="7772400" cy="4341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волы радости, счастья, доб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волы горя, несчастья, тоски, з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Белый, яркий цвет (голубой, золото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Черный, блёклый 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Весна, лето, утро, д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Осень, зима, вечер, ноч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Чистое поле, берег реки, мор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Крутые горы, темный ле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лучше пойду я с великой кручинуш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в темны лесушки, горюша, и дремучи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хоть в этих темных лесах дремучи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там от ветрышка деревца шатаю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до сырой земли деревца да приклоняю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хоть шумят эти листочики зелёны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поют да там ведь птички жалобнёшеньк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уж тут моя кручина не уходится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стать на горушки мне да на высок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ыше лесушка глядеть да по поднебесью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дут облачка они да потихошеньк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 тумане печёт красно солнышк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о печали я, горюша, во досадуш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уж тут моя кручина не уходится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мне пойти с горя к синему морюшк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на синем море вода да сколыбае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со жёлтым песком вода да помутила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круто бьёт волна да непомерна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она бьёт круто во крутой этот береж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по камешкам волна да рассыпаетс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уж тут моя кручина не уходи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Виктор Васнецов Аленушка"/>
          <p:cNvPicPr/>
          <p:nvPr/>
        </p:nvPicPr>
        <p:blipFill>
          <a:blip r:embed="rId1"/>
          <a:stretch/>
        </p:blipFill>
        <p:spPr>
          <a:xfrm>
            <a:off x="1981080" y="914400"/>
            <a:ext cx="5562720" cy="516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fantasy214"/>
          <p:cNvPicPr/>
          <p:nvPr/>
        </p:nvPicPr>
        <p:blipFill>
          <a:blip r:embed="rId1"/>
          <a:stretch/>
        </p:blipFill>
        <p:spPr>
          <a:xfrm>
            <a:off x="0" y="0"/>
            <a:ext cx="9448920" cy="708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fantasy210"/>
          <p:cNvPicPr/>
          <p:nvPr/>
        </p:nvPicPr>
        <p:blipFill>
          <a:blip r:embed="rId1"/>
          <a:stretch/>
        </p:blipFill>
        <p:spPr>
          <a:xfrm>
            <a:off x="-304920" y="-142920"/>
            <a:ext cx="9753840" cy="714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B</cp:lastModifiedBy>
  <dcterms:modified xsi:type="dcterms:W3CDTF">2011-03-11T00:42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