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5AF-F258-4DAC-9D7A-22515736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EE6-C2CF-4A45-9D52-20DDAA5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853-DDB1-4B94-B910-B278DAFE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E0D-8B43-45B2-A743-BF02F191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C97-28EC-4F26-8A78-A56C198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380E-F1A0-4212-A77E-79F907D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039B-FD2E-454A-AA21-FF2D7DA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BDC4-BFBF-48DC-B3F6-ED73798C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2205-A2BD-4C1F-AF3E-26D85740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AA0-0CCC-4385-8E3B-1DEB0F9A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14E-1910-4CEE-ADCF-90A4410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EC1-58E3-4B67-92F4-C3AD76D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8412-3B23-4FB7-855E-95C8086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D073-B9B0-4083-967D-3CA24AE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19E-3519-46D2-A509-2642034A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AB26-7671-4C70-B981-7605567B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478-B250-418A-BDE1-D39AC8AC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77E-BFB4-4BC4-8D36-F2D1005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81E-3E80-4D49-9AF7-B6ED1EA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C78-81AC-4159-8EA9-166A6BD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65E-E563-4154-AD0E-D002167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8DB-F9F1-4878-9C1B-C7B4C44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C1A-493B-46CA-9C06-6CC1694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AF3-184F-4C22-8B90-7DB94DC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0C2-6C8F-4F1A-89FF-ACAE5D73F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DF6-25CC-4740-B447-3270B0D52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егко ли быть журналист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ловая игра для будущих финансовых обозревателе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венство, равноправие стор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аритет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нежная стоимость, обозначенная на товаре, на ценных бумаг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оминал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рговая сделка на основе натурального об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артер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умент, удостоверяющий подлинность това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ртификат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3 номинация «Интервью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оловок (броский, яркий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ркое нача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ументальная осно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кси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моционально – оценочные сло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ства языковой вырази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)    Синтакси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яды однородных член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ительные, восклицательные, 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ращ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) Концов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важаемые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друзь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курс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зелёных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следующий день составляет 31 рубль 20 копеек. Нам удалось заключить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сделку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взаимовыгодную для нас и наших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товарищей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Результатом совместной работы станет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нава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благодаря которому мы сможем вернуть долг нашим кредиторам. Одну третью часть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навар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пустим на покупки для проведения успешного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обме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оставшуюся сумму используем для проведения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праздничной вечеринк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Адрес и счёт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шего банка изменились, о чём мы сообщим в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газетах, журналах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4 номинация «Редактор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важаемые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коллеги, сотрудники, работники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курс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доллар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следующий день составляет 31 рубль 20 копеек. Нам удалось заключить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контракт, дого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взаимовыгодную для нас и наших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партнёров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Результатом совместной работы станет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прибыль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благодаря которой мы сможем вернуть долг нашим кредиторам. Одну третью часть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прибыл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пустим на покупки для проведения успешного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бартер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оставшуюся сумму используем для проведения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банкета, корпоративного вечер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Реквизит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нашего банка изменились, о чём мы сообщим в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прессе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мените синоним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дприниматель –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изнесмен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ейтинг –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казатель популярност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эр-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радоначальник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мпорт  –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воз товаров из – за границ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ебаты-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мените антоним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озвышаться –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нижатьс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ействительный –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имы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стественный –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скусственны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ключать (договор) –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сторгат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кономерность – случайность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Блиц - турни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ша школа в 2050 год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буд"/>
          <p:cNvPicPr/>
          <p:nvPr/>
        </p:nvPicPr>
        <p:blipFill>
          <a:blip r:embed="rId1"/>
          <a:stretch/>
        </p:blipFill>
        <p:spPr>
          <a:xfrm>
            <a:off x="1371600" y="1905120"/>
            <a:ext cx="680868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ша школа в 2100 год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оч"/>
          <p:cNvPicPr/>
          <p:nvPr/>
        </p:nvPicPr>
        <p:blipFill>
          <a:blip r:embed="rId1"/>
          <a:stretch/>
        </p:blipFill>
        <p:spPr>
          <a:xfrm>
            <a:off x="1181160" y="182880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Язык – это история народа. Язык – это путь цивилизации и культуры. Поэтому – то изучение и сбережение русского языка является не праздным занятием от нечего делать, но насущной необходимостью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.И.Купр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еюсь, кто-то из вас решил стать журналис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1 номинация «Корректор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Вставьте пропущенные буквы, расставьте удар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м_рени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_кши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с_мест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_мпенсация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г_ворные це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мЕрени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тЁкш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семЕстны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енсАци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говорнЫе це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2 номинация «Переводчи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Замените исконно русские слова  иноязычным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2174400"/>
            <a:ext cx="404028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ъян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иски о прошлых событиях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овод, служащий основанием доказательст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оодушевлени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Человек, политик,  слепо действующий по чужой вол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твет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фек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муа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ргумен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нтузиаз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ионет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ладелец или совладелец договора с государством на эксплуатацию промышленных предприятий, природных богатст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нцессионе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цо, обладающее местом на бирже и осуществляющее сделки от своего имени и за свой счё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аклер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цо или организация, выступающая в качестве поручителя, устроителя финансирующей сторо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понсор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0-10-14T06:36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