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B21B-9493-471F-91E2-A3F8C43A9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6203-9E44-42FE-B936-B603DE67E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CE05-B3DE-411D-A558-B557CC3A6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71BE-16C8-4E3C-93DB-CEB99D46F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C082-FC61-4D29-920B-3295FC703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8D62-B13E-4A75-8520-7F99EF620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051E-81F8-4139-A439-D21D7DAA7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43C9-749E-41AA-A2FC-14C573D4F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984E-1FDD-4153-BDDB-FA7B9D7FE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F951-002F-4409-A18F-07B9D578F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3E09-7B9F-47B9-A85E-818082CA3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95CA-994E-4566-BECE-C6FD88CCF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33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Богаченко Александра Ивановна, учитель русского языка и литературы МОУ Улётовская со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E32E2-AF84-49DE-B65D-52ECA0FD79B8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3300"/>
                </a:solidFill>
                <a:latin typeface="Century Gothic"/>
              </a:rPr>
              <a:t>Праздник непослушания.</a:t>
            </a: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Причины детской неуправляемости.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Нижний колонтитул 3"/>
          <p:cNvSpPr/>
          <p:nvPr/>
        </p:nvSpPr>
        <p:spPr>
          <a:xfrm>
            <a:off x="838080" y="6245280"/>
            <a:ext cx="777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Богаченко Александра Ивановна, учитель русского языка и литературы МОУ Улётовская со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457200" y="533160"/>
            <a:ext cx="8229600" cy="559260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1" lang="ru-RU" sz="2500" spc="-1" strike="noStrike">
                <a:solidFill>
                  <a:srgbClr val="000000"/>
                </a:solidFill>
                <a:latin typeface="Century Gothic"/>
              </a:rPr>
              <a:t>Всякий знает – дети любят сласти,</a:t>
            </a:r>
            <a:br>
              <a:rPr sz="2500"/>
            </a:br>
            <a:r>
              <a:rPr b="1" lang="ru-RU" sz="2500" spc="-1" strike="noStrike">
                <a:solidFill>
                  <a:srgbClr val="000000"/>
                </a:solidFill>
                <a:latin typeface="Century Gothic"/>
              </a:rPr>
              <a:t>Поэтому для каждого так просто</a:t>
            </a:r>
            <a:br>
              <a:rPr sz="2500"/>
            </a:br>
            <a:r>
              <a:rPr b="1" lang="ru-RU" sz="2500" spc="-1" strike="noStrike">
                <a:solidFill>
                  <a:srgbClr val="000000"/>
                </a:solidFill>
                <a:latin typeface="Century Gothic"/>
              </a:rPr>
              <a:t>Взять и подарить кусочек счастья</a:t>
            </a:r>
            <a:br>
              <a:rPr sz="2500"/>
            </a:br>
            <a:r>
              <a:rPr b="1" lang="ru-RU" sz="2500" spc="-1" strike="noStrike">
                <a:solidFill>
                  <a:srgbClr val="000000"/>
                </a:solidFill>
                <a:latin typeface="Century Gothic"/>
              </a:rPr>
              <a:t>Человеку маленького роста.</a:t>
            </a:r>
            <a:br>
              <a:rPr sz="2500"/>
            </a:br>
            <a:r>
              <a:rPr b="1" lang="ru-RU" sz="2500" spc="-1" strike="noStrike">
                <a:solidFill>
                  <a:srgbClr val="000000"/>
                </a:solidFill>
                <a:latin typeface="Century Gothic"/>
              </a:rPr>
              <a:t>Ну, а взрослым? Им ведь тоже надо,</a:t>
            </a:r>
            <a:br>
              <a:rPr sz="2500"/>
            </a:br>
            <a:r>
              <a:rPr b="1" lang="ru-RU" sz="2500" spc="-1" strike="noStrike">
                <a:solidFill>
                  <a:srgbClr val="000000"/>
                </a:solidFill>
                <a:latin typeface="Century Gothic"/>
              </a:rPr>
              <a:t>Чтобы кто-то, раз уж боли много,</a:t>
            </a:r>
            <a:br>
              <a:rPr sz="2500"/>
            </a:br>
            <a:r>
              <a:rPr b="1" lang="ru-RU" sz="2500" spc="-1" strike="noStrike">
                <a:solidFill>
                  <a:srgbClr val="000000"/>
                </a:solidFill>
                <a:latin typeface="Century Gothic"/>
              </a:rPr>
              <a:t>В жизни иногда дарил бы радость, </a:t>
            </a:r>
            <a:br>
              <a:rPr sz="2500"/>
            </a:br>
            <a:r>
              <a:rPr b="1" lang="ru-RU" sz="2500" spc="-1" strike="noStrike">
                <a:solidFill>
                  <a:srgbClr val="000000"/>
                </a:solidFill>
                <a:latin typeface="Century Gothic"/>
              </a:rPr>
              <a:t>Пусть не часто, пусть не очень много!</a:t>
            </a:r>
            <a:br>
              <a:rPr sz="2500"/>
            </a:br>
            <a:r>
              <a:rPr b="1" lang="ru-RU" sz="2500" spc="-1" strike="noStrike">
                <a:solidFill>
                  <a:srgbClr val="000000"/>
                </a:solidFill>
                <a:latin typeface="Century Gothic"/>
              </a:rPr>
              <a:t>Люди страдают от боли и страсти, </a:t>
            </a:r>
            <a:br>
              <a:rPr sz="2500"/>
            </a:br>
            <a:r>
              <a:rPr b="1" lang="ru-RU" sz="2500" spc="-1" strike="noStrike">
                <a:solidFill>
                  <a:srgbClr val="000000"/>
                </a:solidFill>
                <a:latin typeface="Century Gothic"/>
              </a:rPr>
              <a:t>Так нужны им ласка и участье!</a:t>
            </a:r>
            <a:br>
              <a:rPr sz="2500"/>
            </a:br>
            <a:r>
              <a:rPr b="1" lang="ru-RU" sz="2500" spc="-1" strike="noStrike">
                <a:solidFill>
                  <a:srgbClr val="000000"/>
                </a:solidFill>
                <a:latin typeface="Century Gothic"/>
              </a:rPr>
              <a:t>Человек не может жить без счастья,</a:t>
            </a:r>
            <a:br>
              <a:rPr sz="2500"/>
            </a:br>
            <a:r>
              <a:rPr b="1" lang="ru-RU" sz="2500" spc="-1" strike="noStrike">
                <a:solidFill>
                  <a:srgbClr val="000000"/>
                </a:solidFill>
                <a:latin typeface="Century Gothic"/>
              </a:rPr>
              <a:t>Человек не должен жить без счастья!</a:t>
            </a:r>
            <a:br>
              <a:rPr sz="2500"/>
            </a:br>
            <a:r>
              <a:rPr b="1" lang="ru-RU" sz="2500" spc="-1" strike="noStrike">
                <a:solidFill>
                  <a:srgbClr val="000000"/>
                </a:solidFill>
                <a:latin typeface="Century Gothic"/>
              </a:rPr>
              <a:t>Если ты сегодня не умножил</a:t>
            </a:r>
            <a:br>
              <a:rPr sz="2500"/>
            </a:br>
            <a:r>
              <a:rPr b="1" lang="ru-RU" sz="2500" spc="-1" strike="noStrike">
                <a:solidFill>
                  <a:srgbClr val="000000"/>
                </a:solidFill>
                <a:latin typeface="Century Gothic"/>
              </a:rPr>
              <a:t>Хоть на каплю чью-то радость в мире</a:t>
            </a:r>
            <a:br>
              <a:rPr sz="2500"/>
            </a:br>
            <a:r>
              <a:rPr b="1" lang="ru-RU" sz="2500" spc="-1" strike="noStrike">
                <a:solidFill>
                  <a:srgbClr val="000000"/>
                </a:solidFill>
                <a:latin typeface="Century Gothic"/>
              </a:rPr>
              <a:t>То считай, что день напрасно прожил,</a:t>
            </a:r>
            <a:br>
              <a:rPr sz="2500"/>
            </a:br>
            <a:r>
              <a:rPr b="1" lang="ru-RU" sz="2500" spc="-1" strike="noStrike">
                <a:solidFill>
                  <a:srgbClr val="000000"/>
                </a:solidFill>
                <a:latin typeface="Century Gothic"/>
              </a:rPr>
              <a:t>Как ленивый гость в чужой квартире. </a:t>
            </a:r>
            <a:br>
              <a:rPr sz="2500"/>
            </a:br>
            <a:endParaRPr b="1" lang="en-US" sz="25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" name="Нижний колонтитул 2"/>
          <p:cNvSpPr/>
          <p:nvPr/>
        </p:nvSpPr>
        <p:spPr>
          <a:xfrm>
            <a:off x="762120" y="6245280"/>
            <a:ext cx="838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Богаченко Александра Ивановна, учитель русского языка и литературы МОУ Улётовская со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3300"/>
                </a:solidFill>
                <a:latin typeface="Century Gothic"/>
              </a:rPr>
              <a:t>Причина первая – борьба за внимание родителей.</a:t>
            </a:r>
            <a:br>
              <a:rPr sz="4400"/>
            </a:b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2133720"/>
            <a:ext cx="8229600" cy="399240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txBody>
          <a:bodyPr anchor="t">
            <a:normAutofit fontScale="61000"/>
          </a:bodyPr>
          <a:p>
            <a:pPr marL="209160" indent="-209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Непослушание – это тоже возможность привлечь к себе внимание, заявить о себе, если о тебе забыли взрослые. Внимание необходимо любому человеку для эмоционального благополучия, а тем более – ребёнку.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Нижний колонтитул 3"/>
          <p:cNvSpPr/>
          <p:nvPr/>
        </p:nvSpPr>
        <p:spPr>
          <a:xfrm>
            <a:off x="1371600" y="6245280"/>
            <a:ext cx="7391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Богаченко Александра Ивановна, учитель русского языка и литературы МОУ Улётовская со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3300"/>
                </a:solidFill>
                <a:latin typeface="Century Gothic"/>
              </a:rPr>
              <a:t>Причина вторая – борьба за самоутверждение.</a:t>
            </a: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Ребёнок объявляет войну бесконечным указаниям, замечаниям и опасениям взрослых. Он ждет доверия к себе. Он хочет решать сам. Это заложено в его природе – нельзя прожить жизнь на опыте старших.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" name="Нижний колонтитул 3"/>
          <p:cNvSpPr/>
          <p:nvPr/>
        </p:nvSpPr>
        <p:spPr>
          <a:xfrm>
            <a:off x="1143000" y="6245280"/>
            <a:ext cx="6934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Богаченко Александра Ивановна, учитель русского языка и литературы МОУ Улётовская со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3300"/>
                </a:solidFill>
                <a:latin typeface="Century Gothic"/>
              </a:rPr>
              <a:t>Причина третья – жажда мщения окружающему миру, взрослым.</a:t>
            </a: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Century Gothic"/>
              </a:rPr>
              <a:t>Ребёнок мстит за: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- неверие в его способности и возможности. </a:t>
            </a: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Это относится и к педагогом, в том числе: «Ты не мог решить эту задачу! Ты списал!»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- сравнение не в его пользу со старшими или младшими братьями и сестрами;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- за унижение друг друга в кругу семьи;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- за потерю одного из родителей в результате развода;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- за появление в доме нового члена семьи, который становится более значимым, чем сам ребёнок;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- за несправедливость по отношению к себе и невыполненные взрослыми обещания;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- за родительскую ложь и хамелеонство;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- за чрезмерное проявления взрослыми любви друг к другу.</a:t>
            </a:r>
            <a:br>
              <a:rPr sz="2000"/>
            </a:br>
            <a:br>
              <a:rPr sz="2000"/>
            </a:b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Нижний колонтитул 3"/>
          <p:cNvSpPr/>
          <p:nvPr/>
        </p:nvSpPr>
        <p:spPr>
          <a:xfrm>
            <a:off x="1143000" y="6245280"/>
            <a:ext cx="76201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Богаченко Александра Ивановна, учитель русского языка и литературы МОУ Улётовская со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3300"/>
                </a:solidFill>
                <a:latin typeface="Century Gothic"/>
              </a:rPr>
              <a:t>Причина четвёртая – неверие в свой успех.</a:t>
            </a: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510552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Century Gothic"/>
              </a:rPr>
              <a:t>Причинами неверия в собственный успех могут стать: низкие школьные результаты вне зависимости от приложенных ребёнком усилий, низкая самооценка, поощряемая педагогами и семьёй, плохие взаимоотношения в классе со сверстниками, откровенная изоляция ребёнка, отсутствие возможности проявить себя, свои способности и умения.</a:t>
            </a:r>
            <a:br>
              <a:rPr sz="3000"/>
            </a:b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" name="Нижний колонтитул 3"/>
          <p:cNvSpPr/>
          <p:nvPr/>
        </p:nvSpPr>
        <p:spPr>
          <a:xfrm>
            <a:off x="914400" y="6245280"/>
            <a:ext cx="8077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Богаченко Александра Ивановна, учитель русского языка и литературы МОУ Улётовская со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Нижний колонтитул 4"/>
          <p:cNvSpPr/>
          <p:nvPr/>
        </p:nvSpPr>
        <p:spPr>
          <a:xfrm>
            <a:off x="1066680" y="6245280"/>
            <a:ext cx="76201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Богаченко Александра Ивановна, учитель русского языка и литературы МОУ Улётовская со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3300"/>
                </a:solidFill>
                <a:latin typeface="Century Gothic"/>
              </a:rPr>
              <a:t>Экспресс – опрос.</a:t>
            </a: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- Ваши дети учатся в 5-м классе. Всегда ли Вы находите время поговорить с ними о школьных делах? </a:t>
            </a: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Сколько минут в день вы уделяете своему ребенку?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Никогда не спрашивайте: «Как ты себя вел? Двойку получил?», а лучше спросите: «Что было сегодня интересного в классе?»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- Когда ребенок совершит дурной поступок, как вы его наказываете? Его мучает совесть, но вы наказываете его, и совесть замолкает. Великий педагог Корчак - виноватого или оправдывал, или прощал.</a:t>
            </a: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А как в Вашей семье?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- Бить или не бить? - вот в чем вопрос. Парламент в Англии решил - бить. Для этого даже специальные ремни выпускают. В Европе не модно даже ставить в угол.</a:t>
            </a: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А как у Вас в семье?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- Если Ваши дети сильно увлечены телевизором, компьютером, потеряли друзей, то телевизор должен сломаться хотя бы на один месяц. Вы спросите: «А как же взрослые?» Отвечу. Воспитание требует жертв. </a:t>
            </a: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Как Вы решаете эту проблему? 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Нижний колонтитул 3"/>
          <p:cNvSpPr/>
          <p:nvPr/>
        </p:nvSpPr>
        <p:spPr>
          <a:xfrm>
            <a:off x="762120" y="6245280"/>
            <a:ext cx="800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Богаченко Александра Ивановна, учитель русского языка и литературы МОУ Улётовская со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3300"/>
                </a:solidFill>
                <a:latin typeface="Century Gothic"/>
              </a:rPr>
              <a:t>Знаете ли вы друг друга?</a:t>
            </a: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entury Gothic"/>
              </a:rPr>
              <a:t>1.Какой подарок ко дню рождения оказался бы самым лучшим для вашего ребенка? </a:t>
            </a:r>
            <a:endParaRPr b="1" lang="en-US" sz="2500" spc="-1" strike="noStrike">
              <a:solidFill>
                <a:srgbClr val="000000"/>
              </a:solidFill>
              <a:latin typeface="Century Gothic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entury Gothic"/>
              </a:rPr>
              <a:t>2. Ваш ребенок не убрал постель свою. Как Вы поступите: уберете сами, заставите его убрать или поступите как-то иначе.(Дети говорят вслух, родители пишут.)</a:t>
            </a:r>
            <a:endParaRPr b="1" lang="en-US" sz="2500" spc="-1" strike="noStrike">
              <a:solidFill>
                <a:srgbClr val="000000"/>
              </a:solidFill>
              <a:latin typeface="Century Gothic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entury Gothic"/>
              </a:rPr>
              <a:t>3. Ласковое обращение мамы к ребенку или как обычно называете ребенка дома.(Мамы пишут, дети говорят вслух.) </a:t>
            </a:r>
            <a:endParaRPr b="1" lang="en-US" sz="2500" spc="-1" strike="noStrike">
              <a:solidFill>
                <a:srgbClr val="000000"/>
              </a:solidFill>
              <a:latin typeface="Century Gothic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entury Gothic"/>
              </a:rPr>
              <a:t>4.У ребенка появились карманные деньги, которые вы ему не давали. Как вы поступите?</a:t>
            </a:r>
            <a:endParaRPr b="1" lang="en-US" sz="2500" spc="-1" strike="noStrike">
              <a:solidFill>
                <a:srgbClr val="000000"/>
              </a:solidFill>
              <a:latin typeface="Century Gothic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entury Gothic"/>
              </a:rPr>
              <a:t>5.Вас постоянно избивают ваши одноклассники. Что вы станете делать?</a:t>
            </a:r>
            <a:endParaRPr b="1" lang="en-US" sz="25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" name="Нижний колонтитул 3"/>
          <p:cNvSpPr/>
          <p:nvPr/>
        </p:nvSpPr>
        <p:spPr>
          <a:xfrm>
            <a:off x="228600" y="6245280"/>
            <a:ext cx="8077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Богаченко Александра Ивановна, учитель русского языка и литературы МОУ Улётовская со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3300"/>
                </a:solidFill>
                <a:latin typeface="Century Gothic"/>
              </a:rPr>
              <a:t>Есть одно правило жизни: чтобы поняли тебя, должен и ты понять другого. </a:t>
            </a: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65" name="Нижний колонтитул 2"/>
          <p:cNvSpPr/>
          <p:nvPr/>
        </p:nvSpPr>
        <p:spPr>
          <a:xfrm>
            <a:off x="457200" y="6245280"/>
            <a:ext cx="8839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Богаченко Александра Ивановна, учитель русского языка и литературы МОУ Улётовская со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1-03-25T08:14:48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