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A79-6C96-432B-9AFC-026BE58E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B1C-7A79-433A-8610-5AE70D6D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CD1-1BED-4D38-BB67-DDE90EB2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DE6-3D1C-42F3-9CF1-303E5D9E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9B7-9844-403C-8D7B-AFC896F3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76A3-0EAB-4B8A-A585-550FC37C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47FF-8301-43CF-AA37-58A4D5A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704B-FDEE-4357-BC37-BC4285EA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4614-0103-4962-B02C-17865D5E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F61-127D-42F0-BE60-A85EE577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D77D-AB46-48E0-9180-B0679971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7CB-A03F-42A2-B5D7-0AFB90A6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D49-FDF0-4FA7-ABF3-39CAADC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C46B-8BB2-490A-BD6A-DFD6C0F6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F5FC-9450-41DE-B6C3-D794C9B1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D824-42B8-4A38-A519-216FE6AC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3222-81DC-4463-A535-8ADA21DF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6A5-1FCE-45D1-9BE7-9E0FE316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7F2-9ABA-44F9-B843-F9D9426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D58-D0DC-4766-AAF2-2F0BA44E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DD9-3B02-4673-8D29-8C74A5AA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20B-3F48-4FAA-B460-E920783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064-387E-49C4-B725-FF0C2D34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26B-7890-4A3F-A5DF-B0B0C258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F658-FEC8-4B23-BFBB-66E5FE3D443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2e3f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135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3d32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83930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8E2-C6FD-4FDE-981E-2AF1309FAFE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21977"/>
          <p:cNvPicPr/>
          <p:nvPr/>
        </p:nvPicPr>
        <p:blipFill>
          <a:blip r:embed="rId1"/>
          <a:stretch/>
        </p:blipFill>
        <p:spPr>
          <a:xfrm>
            <a:off x="755640" y="115920"/>
            <a:ext cx="7777080" cy="65530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Arial"/>
              </a:rPr>
              <a:t>Николай Васильевич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_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0b100"/>
                </a:solidFill>
                <a:latin typeface="Tahoma"/>
              </a:rPr>
              <a:t>ТУР ПЕРВЫЙ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6d84"/>
                </a:solidFill>
                <a:latin typeface="Tahoma"/>
              </a:rPr>
              <a:t>СЛОВА, СЛОВА, СЛОВ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б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бар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ле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нтр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коп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ап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ртикуля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ве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стратиш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когни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у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жесоленая тре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дно-жел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те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тель (презри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инный к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тат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урной тон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стратор (искаж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й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d3f1db"/>
                </a:solidFill>
                <a:latin typeface="Tahoma"/>
              </a:rPr>
              <a:t>Слова, слова, слова…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как мухи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меня лёгкост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с Пушкины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му смеёте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одничий глуп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у взятк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и две недел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 коротеньких человек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доравлив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ыкновенная в мысл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дружеской н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собой смеёте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сивый ме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зыми щен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екли унтер-офицерскую вдо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ли сёмгу и еще много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9"/>
          <p:cNvPicPr/>
          <p:nvPr/>
        </p:nvPicPr>
        <p:blipFill>
          <a:blip r:embed="rId1"/>
          <a:stretch/>
        </p:blipFill>
        <p:spPr>
          <a:xfrm>
            <a:off x="1116000" y="189000"/>
            <a:ext cx="7201080" cy="6352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3f1db"/>
                </a:solidFill>
                <a:latin typeface="Tahoma"/>
              </a:rPr>
              <a:t>Тур второ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Узнай героя комедии по его опис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Уже постаревший на службе и очень неглупый, по-своему, человек. Хотя и взяточник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39" name="Picture 4" descr="29"/>
          <p:cNvPicPr/>
          <p:nvPr/>
        </p:nvPicPr>
        <p:blipFill>
          <a:blip r:embed="rId1"/>
          <a:stretch/>
        </p:blipFill>
        <p:spPr>
          <a:xfrm>
            <a:off x="468360" y="2060640"/>
            <a:ext cx="4038480" cy="434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родни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нтон Антонович Сквозник-Дмухан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… </a:t>
            </a:r>
            <a:r>
              <a:rPr b="0" i="1" lang="ru-RU" sz="2000" spc="-1" strike="noStrike">
                <a:solidFill>
                  <a:srgbClr val="d3f1db"/>
                </a:solidFill>
                <a:latin typeface="Tahoma"/>
              </a:rPr>
              <a:t>О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чень толстый, неповоротливый и неуклюжий человек, но при всем том проныра и плут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печитель богоугодных за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емляника Артемий Филипп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lit08-06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человек, прочитавший пять или шесть книг и потому несколько вольнодумен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япкин –Тяп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lit08-05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Tahoma"/>
              </a:rPr>
              <a:t>Не приведи господь служить по ученой части! Всего боишься</a:t>
            </a:r>
            <a:r>
              <a:rPr b="0" lang="ru-RU" sz="3200" spc="-1" strike="noStrike">
                <a:solidFill>
                  <a:srgbClr val="d3f1db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мотритель учили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Лука Лукич Хлоп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liСмотритель  училищ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…</a:t>
            </a:r>
            <a:r>
              <a:rPr b="0" i="1" lang="ru-RU" sz="2800" spc="-1" strike="noStrike">
                <a:solidFill>
                  <a:srgbClr val="d3f1db"/>
                </a:solidFill>
                <a:latin typeface="Tahoma"/>
              </a:rPr>
              <a:t>оба низенькие, коротенькие, очень любопытные; чрезвычайно похожи друг на друга…</a:t>
            </a:r>
            <a:endParaRPr b="0" lang="en-US" sz="2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Б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тр Иванович Добч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 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f1db"/>
                </a:solidFill>
                <a:latin typeface="Tahoma"/>
              </a:rPr>
              <a:t>Молодой человек лет двадцати трех, тоненький, худенький; несколько приглуповат …</a:t>
            </a:r>
            <a:endParaRPr b="0" lang="en-US" sz="24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ван Александрович Хлест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29"/>
          <p:cNvPicPr/>
          <p:nvPr/>
        </p:nvPicPr>
        <p:blipFill>
          <a:blip r:embed="rId1"/>
          <a:stretch/>
        </p:blipFill>
        <p:spPr>
          <a:xfrm>
            <a:off x="395280" y="1628640"/>
            <a:ext cx="374508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637000"/>
            <a:ext cx="64008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d3f1db"/>
              </a:solidFill>
              <a:latin typeface="Arial"/>
            </a:endParaRPr>
          </a:p>
        </p:txBody>
      </p:sp>
      <p:pic>
        <p:nvPicPr>
          <p:cNvPr id="107" name="Picture 9" descr="1252833109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29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24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Тур третий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знай сцену из коме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lit08-03"/>
          <p:cNvPicPr/>
          <p:nvPr/>
        </p:nvPicPr>
        <p:blipFill>
          <a:blip r:embed="rId1"/>
          <a:stretch/>
        </p:blipFill>
        <p:spPr>
          <a:xfrm>
            <a:off x="1835280" y="189000"/>
            <a:ext cx="5599080" cy="6470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3f1db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716360" y="260280"/>
            <a:ext cx="3456000" cy="1297080"/>
          </a:xfrm>
          <a:prstGeom prst="wedgeRoundRectCallout">
            <a:avLst>
              <a:gd name="adj1" fmla="val -29055"/>
              <a:gd name="adj2" fmla="val 69949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Я пригласил вас, господа, с тем, чтобы сообщить пренеприятное извести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сцена  вранья"/>
          <p:cNvPicPr/>
          <p:nvPr/>
        </p:nvPicPr>
        <p:blipFill>
          <a:blip r:embed="rId1"/>
          <a:stretch/>
        </p:blipFill>
        <p:spPr>
          <a:xfrm>
            <a:off x="1476360" y="189000"/>
            <a:ext cx="5832360" cy="6335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/>
          <p:cNvSpPr/>
          <p:nvPr/>
        </p:nvSpPr>
        <p:spPr>
          <a:xfrm>
            <a:off x="3924360" y="765000"/>
            <a:ext cx="3095640" cy="863640"/>
          </a:xfrm>
          <a:prstGeom prst="wedgeRoundRectCallout">
            <a:avLst>
              <a:gd name="adj1" fmla="val -22564"/>
              <a:gd name="adj2" fmla="val 118013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, признаться, только литературой существ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ml_objects456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5530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>
            <a:off x="2627280" y="620640"/>
            <a:ext cx="2016000" cy="1008000"/>
          </a:xfrm>
          <a:prstGeom prst="wedgeRoundRectCallout">
            <a:avLst>
              <a:gd name="adj1" fmla="val -28347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нна Андреевна, благословите постоянную любовь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9"/>
          <p:cNvPicPr/>
          <p:nvPr/>
        </p:nvPicPr>
        <p:blipFill>
          <a:blip r:embed="rId1"/>
          <a:stretch/>
        </p:blipFill>
        <p:spPr>
          <a:xfrm>
            <a:off x="1908000" y="260280"/>
            <a:ext cx="5183280" cy="6048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3419640" y="260280"/>
            <a:ext cx="1873080" cy="1152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a6d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т, я влюблен в вас. Жизнь моя на волос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 "/>
          <p:cNvPicPr/>
          <p:nvPr/>
        </p:nvPicPr>
        <p:blipFill>
          <a:blip r:embed="rId1"/>
          <a:stretch/>
        </p:blipFill>
        <p:spPr>
          <a:xfrm>
            <a:off x="233280" y="333360"/>
            <a:ext cx="8910720" cy="6323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i="1" lang="ru-RU" sz="3800" spc="-1" strike="noStrike">
                <a:solidFill>
                  <a:srgbClr val="f0b100"/>
                </a:solidFill>
                <a:latin typeface="Arial"/>
              </a:rPr>
              <a:t>Итоговое задание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b1"/>
          <p:cNvPicPr/>
          <p:nvPr/>
        </p:nvPicPr>
        <p:blipFill>
          <a:blip r:embed="rId1"/>
          <a:stretch/>
        </p:blipFill>
        <p:spPr>
          <a:xfrm>
            <a:off x="971640" y="0"/>
            <a:ext cx="73832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589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ушкин и Гоголь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_big"/>
          <p:cNvPicPr/>
          <p:nvPr/>
        </p:nvPicPr>
        <p:blipFill>
          <a:blip r:embed="rId1"/>
          <a:stretch/>
        </p:blipFill>
        <p:spPr>
          <a:xfrm>
            <a:off x="542880" y="0"/>
            <a:ext cx="8058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775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Arial"/>
              </a:rPr>
              <a:t>КОМЕДИЯ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ml_objects448"/>
          <p:cNvPicPr/>
          <p:nvPr/>
        </p:nvPicPr>
        <p:blipFill>
          <a:blip r:embed="rId1"/>
          <a:stretch/>
        </p:blipFill>
        <p:spPr>
          <a:xfrm>
            <a:off x="4284720" y="549360"/>
            <a:ext cx="465768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24000" y="1484280"/>
            <a:ext cx="38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37103"/>
                </a:solidFill>
                <a:latin typeface="Arial"/>
              </a:rPr>
              <a:t>« …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Я  решил  собрать  все  дурное, какое  я  только  знал,  и  за  одним  разом  над  всем  посмеяться»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c37103"/>
                </a:solidFill>
                <a:latin typeface="Arial"/>
              </a:rPr>
              <a:t>Н. Гог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04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397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0b100"/>
                </a:solidFill>
                <a:latin typeface="Tahoma"/>
              </a:rPr>
              <a:t>Разминка</a:t>
            </a:r>
            <a:endParaRPr b="0" lang="en-US" sz="4200" spc="-1" strike="noStrike">
              <a:solidFill>
                <a:srgbClr val="d3f1db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то подарил Н.В. Гоголю сюжет комедии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.С. Пушкин рассказал Гоголю о случае, бывшем в городе Устюжине Новгородской губернии, и о каком-то проезжем господине, выдававшем себя за чиновника министерства и обокравшем городских 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0" descr="2fc0401db8f1"/>
          <p:cNvPicPr/>
          <p:nvPr/>
        </p:nvPicPr>
        <p:blipFill>
          <a:blip r:embed="rId1"/>
          <a:stretch/>
        </p:blipFill>
        <p:spPr>
          <a:xfrm>
            <a:off x="590400" y="1600200"/>
            <a:ext cx="377064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3f1db"/>
                </a:solidFill>
                <a:latin typeface="Tahoma"/>
              </a:rPr>
              <a:t>Где и когда увидела свет комедия «Ревизор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9 апреля 1836 года на сцене Александрийского театра состоялось первое представление комедии Н.В. Гоголя «Ревизо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095-1"/>
          <p:cNvPicPr/>
          <p:nvPr/>
        </p:nvPicPr>
        <p:blipFill>
          <a:blip r:embed="rId1"/>
          <a:stretch/>
        </p:blipFill>
        <p:spPr>
          <a:xfrm>
            <a:off x="4500720" y="1628640"/>
            <a:ext cx="4174920" cy="5013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Какой эпиграф взял Гоголь для своей комедии? В чем его смысл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зеркало неча пенять, коли рожа кр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1463574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d3f1db"/>
                </a:solidFill>
                <a:latin typeface="Tahoma"/>
              </a:rPr>
              <a:t>«Ну и пьеска! А мне досталось боле всех!» Чьи это слова?</a:t>
            </a:r>
            <a:endParaRPr b="0" lang="en-US" sz="3800" spc="-1" strike="noStrike">
              <a:solidFill>
                <a:srgbClr val="d3f1d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мператор Николай Первый, присутствующий на премьере спектак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2424"/>
          <p:cNvPicPr/>
          <p:nvPr/>
        </p:nvPicPr>
        <p:blipFill>
          <a:blip r:embed="rId1"/>
          <a:stretch/>
        </p:blipFill>
        <p:spPr>
          <a:xfrm>
            <a:off x="4932360" y="1557360"/>
            <a:ext cx="381636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8:37:30Z</dcterms:created>
  <dc:creator>.</dc:creator>
  <dc:description/>
  <dc:language>en-US</dc:language>
  <cp:lastModifiedBy>Admin</cp:lastModifiedBy>
  <dcterms:modified xsi:type="dcterms:W3CDTF">2010-10-30T04:31:34Z</dcterms:modified>
  <cp:revision>57</cp:revision>
  <dc:subject/>
  <dc:title>Комедия  Николая  Васильевича  Гоголя  «Ревизор»</dc:title>
</cp:coreProperties>
</file>